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E3A-8DEC-4694-A863-EBA578FB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1EC-3D07-4B44-A5E3-986539BF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B6F-2D82-4113-8B39-79C3FFBA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FF2-6BAA-427E-ADDC-24D04DB6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C65-E394-4C22-B461-6ED76724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826-E90A-488F-A270-B3C5E0AF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994-972B-4E27-A8CE-4A36B3EB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7E0-D651-4AF9-B460-EA5BC5D9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326-6E68-45E8-A58D-58124F80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FC9-ED2E-4447-8F08-BBFF9FDE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33F-C9A1-44E7-9C60-808CEC36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4CDC-3819-4999-A1CF-67314547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3F90-DB3F-4CC4-9C41-17D72E9B89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1447920"/>
            <a:ext cx="6019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hec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Questions from last night’s hw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pg 434 #15-19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55800" y="1170000"/>
            <a:ext cx="187200" cy="312840"/>
          </a:xfrm>
          <a:custGeom>
            <a:avLst/>
            <a:gdLst/>
            <a:ahLst/>
            <a:rect l="l" t="t" r="r" b="b"/>
            <a:pathLst>
              <a:path w="522" h="870">
                <a:moveTo>
                  <a:pt x="2679" y="3448"/>
                </a:moveTo>
                <a:cubicBezTo>
                  <a:pt x="2679" y="3385"/>
                  <a:pt x="2655" y="3525"/>
                  <a:pt x="2654" y="3547"/>
                </a:cubicBezTo>
                <a:cubicBezTo>
                  <a:pt x="2647" y="3700"/>
                  <a:pt x="2659" y="3846"/>
                  <a:pt x="2679" y="3994"/>
                </a:cubicBezTo>
                <a:cubicBezTo>
                  <a:pt x="2686" y="4048"/>
                  <a:pt x="2654" y="4064"/>
                  <a:pt x="2654" y="4118"/>
                </a:cubicBezTo>
              </a:path>
              <a:path w="522" h="870">
                <a:moveTo>
                  <a:pt x="2853" y="3249"/>
                </a:moveTo>
                <a:cubicBezTo>
                  <a:pt x="2880" y="3342"/>
                  <a:pt x="2891" y="3466"/>
                  <a:pt x="2927" y="3547"/>
                </a:cubicBezTo>
                <a:cubicBezTo>
                  <a:pt x="2964" y="3629"/>
                  <a:pt x="3010" y="3713"/>
                  <a:pt x="3051" y="3795"/>
                </a:cubicBezTo>
                <a:cubicBezTo>
                  <a:pt x="3069" y="3831"/>
                  <a:pt x="3108" y="3901"/>
                  <a:pt x="3150" y="3919"/>
                </a:cubicBezTo>
                <a:cubicBezTo>
                  <a:pt x="3158" y="3919"/>
                  <a:pt x="3167" y="3919"/>
                  <a:pt x="3175" y="3919"/>
                </a:cubicBezTo>
              </a:path>
              <a:path w="522" h="870">
                <a:moveTo>
                  <a:pt x="3001" y="3646"/>
                </a:moveTo>
                <a:cubicBezTo>
                  <a:pt x="2943" y="3678"/>
                  <a:pt x="2889" y="3714"/>
                  <a:pt x="2828" y="3721"/>
                </a:cubicBezTo>
                <a:cubicBezTo>
                  <a:pt x="2800" y="3721"/>
                  <a:pt x="2789" y="3723"/>
                  <a:pt x="2778" y="37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16120" y="1527120"/>
            <a:ext cx="179640" cy="250920"/>
          </a:xfrm>
          <a:custGeom>
            <a:avLst/>
            <a:gdLst/>
            <a:ahLst/>
            <a:rect l="l" t="t" r="r" b="b"/>
            <a:pathLst>
              <a:path w="497" h="695">
                <a:moveTo>
                  <a:pt x="7293" y="4440"/>
                </a:moveTo>
                <a:cubicBezTo>
                  <a:pt x="7293" y="4478"/>
                  <a:pt x="7293" y="4829"/>
                  <a:pt x="7293" y="4812"/>
                </a:cubicBezTo>
              </a:path>
              <a:path w="497" h="695">
                <a:moveTo>
                  <a:pt x="7268" y="4316"/>
                </a:moveTo>
                <a:cubicBezTo>
                  <a:pt x="7310" y="4291"/>
                  <a:pt x="7388" y="4254"/>
                  <a:pt x="7441" y="4242"/>
                </a:cubicBezTo>
                <a:cubicBezTo>
                  <a:pt x="7499" y="4229"/>
                  <a:pt x="7589" y="4235"/>
                  <a:pt x="7640" y="4266"/>
                </a:cubicBezTo>
                <a:cubicBezTo>
                  <a:pt x="7667" y="4283"/>
                  <a:pt x="7709" y="4330"/>
                  <a:pt x="7689" y="4366"/>
                </a:cubicBezTo>
                <a:cubicBezTo>
                  <a:pt x="7655" y="4429"/>
                  <a:pt x="7595" y="4422"/>
                  <a:pt x="7541" y="4440"/>
                </a:cubicBezTo>
                <a:cubicBezTo>
                  <a:pt x="7493" y="4456"/>
                  <a:pt x="7456" y="4466"/>
                  <a:pt x="7417" y="4490"/>
                </a:cubicBezTo>
                <a:cubicBezTo>
                  <a:pt x="7463" y="4454"/>
                  <a:pt x="7504" y="4465"/>
                  <a:pt x="7565" y="4465"/>
                </a:cubicBezTo>
                <a:cubicBezTo>
                  <a:pt x="7700" y="4465"/>
                  <a:pt x="7696" y="4552"/>
                  <a:pt x="7739" y="4663"/>
                </a:cubicBezTo>
                <a:cubicBezTo>
                  <a:pt x="7764" y="4728"/>
                  <a:pt x="7769" y="4796"/>
                  <a:pt x="7739" y="4862"/>
                </a:cubicBezTo>
                <a:cubicBezTo>
                  <a:pt x="7705" y="4935"/>
                  <a:pt x="7620" y="4896"/>
                  <a:pt x="7565" y="4911"/>
                </a:cubicBezTo>
                <a:cubicBezTo>
                  <a:pt x="7527" y="4922"/>
                  <a:pt x="7482" y="4934"/>
                  <a:pt x="7441" y="4911"/>
                </a:cubicBezTo>
                <a:cubicBezTo>
                  <a:pt x="7419" y="4889"/>
                  <a:pt x="7411" y="4884"/>
                  <a:pt x="7417" y="48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040" y="1581120"/>
            <a:ext cx="874800" cy="1411200"/>
          </a:xfrm>
          <a:custGeom>
            <a:avLst/>
            <a:gdLst/>
            <a:ahLst/>
            <a:rect l="l" t="t" r="r" b="b"/>
            <a:pathLst>
              <a:path w="2432" h="3921">
                <a:moveTo>
                  <a:pt x="2927" y="4390"/>
                </a:moveTo>
                <a:cubicBezTo>
                  <a:pt x="2882" y="4471"/>
                  <a:pt x="2848" y="4555"/>
                  <a:pt x="2803" y="4638"/>
                </a:cubicBezTo>
                <a:cubicBezTo>
                  <a:pt x="2736" y="4761"/>
                  <a:pt x="2678" y="4878"/>
                  <a:pt x="2629" y="5011"/>
                </a:cubicBezTo>
                <a:cubicBezTo>
                  <a:pt x="2567" y="5182"/>
                  <a:pt x="2519" y="5360"/>
                  <a:pt x="2456" y="5531"/>
                </a:cubicBezTo>
                <a:cubicBezTo>
                  <a:pt x="2390" y="5710"/>
                  <a:pt x="2365" y="5903"/>
                  <a:pt x="2282" y="6077"/>
                </a:cubicBezTo>
                <a:cubicBezTo>
                  <a:pt x="2131" y="6393"/>
                  <a:pt x="2025" y="6723"/>
                  <a:pt x="1885" y="7045"/>
                </a:cubicBezTo>
                <a:cubicBezTo>
                  <a:pt x="1800" y="7240"/>
                  <a:pt x="1726" y="7449"/>
                  <a:pt x="1637" y="7640"/>
                </a:cubicBezTo>
                <a:cubicBezTo>
                  <a:pt x="1563" y="7798"/>
                  <a:pt x="1519" y="7946"/>
                  <a:pt x="1463" y="8111"/>
                </a:cubicBezTo>
                <a:cubicBezTo>
                  <a:pt x="1441" y="8175"/>
                  <a:pt x="1415" y="8251"/>
                  <a:pt x="1389" y="8310"/>
                </a:cubicBezTo>
                <a:cubicBezTo>
                  <a:pt x="1389" y="8302"/>
                  <a:pt x="1389" y="8293"/>
                  <a:pt x="1389" y="8285"/>
                </a:cubicBezTo>
              </a:path>
              <a:path w="2432" h="3921">
                <a:moveTo>
                  <a:pt x="3299" y="4539"/>
                </a:moveTo>
                <a:cubicBezTo>
                  <a:pt x="3280" y="4481"/>
                  <a:pt x="3264" y="4531"/>
                  <a:pt x="3225" y="4539"/>
                </a:cubicBezTo>
                <a:cubicBezTo>
                  <a:pt x="3169" y="4551"/>
                  <a:pt x="3149" y="4573"/>
                  <a:pt x="3101" y="4589"/>
                </a:cubicBezTo>
                <a:cubicBezTo>
                  <a:pt x="3076" y="4589"/>
                  <a:pt x="3068" y="4589"/>
                  <a:pt x="3076" y="4614"/>
                </a:cubicBezTo>
                <a:cubicBezTo>
                  <a:pt x="3121" y="4647"/>
                  <a:pt x="3144" y="4629"/>
                  <a:pt x="3200" y="4638"/>
                </a:cubicBezTo>
                <a:cubicBezTo>
                  <a:pt x="3240" y="4644"/>
                  <a:pt x="3290" y="4643"/>
                  <a:pt x="3324" y="4663"/>
                </a:cubicBezTo>
                <a:cubicBezTo>
                  <a:pt x="3357" y="4683"/>
                  <a:pt x="3394" y="4727"/>
                  <a:pt x="3398" y="4762"/>
                </a:cubicBezTo>
                <a:cubicBezTo>
                  <a:pt x="3403" y="4806"/>
                  <a:pt x="3388" y="4837"/>
                  <a:pt x="3349" y="4862"/>
                </a:cubicBezTo>
                <a:cubicBezTo>
                  <a:pt x="3325" y="4877"/>
                  <a:pt x="3227" y="4921"/>
                  <a:pt x="3200" y="4911"/>
                </a:cubicBezTo>
                <a:cubicBezTo>
                  <a:pt x="3175" y="4901"/>
                  <a:pt x="3088" y="4834"/>
                  <a:pt x="3076" y="4812"/>
                </a:cubicBezTo>
                <a:cubicBezTo>
                  <a:pt x="3076" y="4787"/>
                  <a:pt x="3076" y="4779"/>
                  <a:pt x="3076" y="4762"/>
                </a:cubicBezTo>
              </a:path>
              <a:path w="2432" h="3921">
                <a:moveTo>
                  <a:pt x="3671" y="4539"/>
                </a:moveTo>
                <a:cubicBezTo>
                  <a:pt x="3622" y="4539"/>
                  <a:pt x="3572" y="4534"/>
                  <a:pt x="3547" y="4589"/>
                </a:cubicBezTo>
                <a:cubicBezTo>
                  <a:pt x="3547" y="4614"/>
                  <a:pt x="3547" y="4622"/>
                  <a:pt x="3547" y="4638"/>
                </a:cubicBezTo>
                <a:cubicBezTo>
                  <a:pt x="3629" y="4666"/>
                  <a:pt x="3643" y="4697"/>
                  <a:pt x="3696" y="4738"/>
                </a:cubicBezTo>
                <a:cubicBezTo>
                  <a:pt x="3745" y="4776"/>
                  <a:pt x="3795" y="4799"/>
                  <a:pt x="3820" y="4862"/>
                </a:cubicBezTo>
                <a:cubicBezTo>
                  <a:pt x="3831" y="4888"/>
                  <a:pt x="3768" y="4951"/>
                  <a:pt x="3746" y="4961"/>
                </a:cubicBezTo>
                <a:cubicBezTo>
                  <a:pt x="3703" y="4981"/>
                  <a:pt x="3652" y="4959"/>
                  <a:pt x="3621" y="4936"/>
                </a:cubicBezTo>
                <a:cubicBezTo>
                  <a:pt x="3634" y="4872"/>
                  <a:pt x="3647" y="4801"/>
                  <a:pt x="3671" y="4738"/>
                </a:cubicBezTo>
                <a:cubicBezTo>
                  <a:pt x="3694" y="4678"/>
                  <a:pt x="3726" y="4634"/>
                  <a:pt x="3770" y="4589"/>
                </a:cubicBezTo>
                <a:cubicBezTo>
                  <a:pt x="3773" y="4586"/>
                  <a:pt x="3862" y="4531"/>
                  <a:pt x="3820" y="4514"/>
                </a:cubicBezTo>
                <a:cubicBezTo>
                  <a:pt x="3803" y="4514"/>
                  <a:pt x="3787" y="4514"/>
                  <a:pt x="3770" y="45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5120" y="3062160"/>
            <a:ext cx="689040" cy="322560"/>
          </a:xfrm>
          <a:custGeom>
            <a:avLst/>
            <a:gdLst/>
            <a:ahLst/>
            <a:rect l="l" t="t" r="r" b="b"/>
            <a:pathLst>
              <a:path w="1911" h="894">
                <a:moveTo>
                  <a:pt x="12030" y="8632"/>
                </a:moveTo>
                <a:cubicBezTo>
                  <a:pt x="11973" y="8593"/>
                  <a:pt x="11977" y="8603"/>
                  <a:pt x="11906" y="8582"/>
                </a:cubicBezTo>
                <a:cubicBezTo>
                  <a:pt x="11819" y="8556"/>
                  <a:pt x="11544" y="8499"/>
                  <a:pt x="11460" y="8508"/>
                </a:cubicBezTo>
                <a:cubicBezTo>
                  <a:pt x="11312" y="8525"/>
                  <a:pt x="11176" y="8558"/>
                  <a:pt x="11013" y="8558"/>
                </a:cubicBezTo>
                <a:cubicBezTo>
                  <a:pt x="10912" y="8558"/>
                  <a:pt x="10759" y="8545"/>
                  <a:pt x="10666" y="8582"/>
                </a:cubicBezTo>
                <a:cubicBezTo>
                  <a:pt x="10569" y="8621"/>
                  <a:pt x="10526" y="8632"/>
                  <a:pt x="10418" y="8632"/>
                </a:cubicBezTo>
                <a:cubicBezTo>
                  <a:pt x="10408" y="8632"/>
                  <a:pt x="10252" y="8632"/>
                  <a:pt x="10319" y="8632"/>
                </a:cubicBezTo>
                <a:cubicBezTo>
                  <a:pt x="10352" y="8632"/>
                  <a:pt x="10368" y="8632"/>
                  <a:pt x="10393" y="8632"/>
                </a:cubicBezTo>
              </a:path>
              <a:path w="1911" h="894">
                <a:moveTo>
                  <a:pt x="10914" y="8781"/>
                </a:moveTo>
                <a:cubicBezTo>
                  <a:pt x="10867" y="8827"/>
                  <a:pt x="10904" y="8923"/>
                  <a:pt x="10889" y="9004"/>
                </a:cubicBezTo>
                <a:cubicBezTo>
                  <a:pt x="10872" y="9095"/>
                  <a:pt x="10840" y="9157"/>
                  <a:pt x="10840" y="9252"/>
                </a:cubicBezTo>
                <a:cubicBezTo>
                  <a:pt x="10840" y="9350"/>
                  <a:pt x="10847" y="9326"/>
                  <a:pt x="10889" y="9252"/>
                </a:cubicBezTo>
              </a:path>
              <a:path w="1911" h="894">
                <a:moveTo>
                  <a:pt x="11137" y="8855"/>
                </a:moveTo>
                <a:cubicBezTo>
                  <a:pt x="11179" y="8783"/>
                  <a:pt x="11179" y="8781"/>
                  <a:pt x="11261" y="8781"/>
                </a:cubicBezTo>
                <a:cubicBezTo>
                  <a:pt x="11293" y="8781"/>
                  <a:pt x="11372" y="8764"/>
                  <a:pt x="11385" y="8806"/>
                </a:cubicBezTo>
                <a:cubicBezTo>
                  <a:pt x="11398" y="8850"/>
                  <a:pt x="11423" y="8871"/>
                  <a:pt x="11410" y="8930"/>
                </a:cubicBezTo>
                <a:cubicBezTo>
                  <a:pt x="11392" y="9009"/>
                  <a:pt x="11359" y="9089"/>
                  <a:pt x="11311" y="9153"/>
                </a:cubicBezTo>
                <a:cubicBezTo>
                  <a:pt x="11278" y="9197"/>
                  <a:pt x="11236" y="9278"/>
                  <a:pt x="11212" y="9302"/>
                </a:cubicBezTo>
                <a:cubicBezTo>
                  <a:pt x="11203" y="9311"/>
                  <a:pt x="11204" y="9321"/>
                  <a:pt x="11261" y="9327"/>
                </a:cubicBezTo>
                <a:cubicBezTo>
                  <a:pt x="11320" y="9334"/>
                  <a:pt x="11311" y="9365"/>
                  <a:pt x="11361" y="9376"/>
                </a:cubicBezTo>
                <a:cubicBezTo>
                  <a:pt x="11369" y="9376"/>
                  <a:pt x="11377" y="9376"/>
                  <a:pt x="11385" y="9376"/>
                </a:cubicBezTo>
              </a:path>
              <a:path w="1911" h="894">
                <a:moveTo>
                  <a:pt x="11633" y="9302"/>
                </a:moveTo>
                <a:lnTo>
                  <a:pt x="11633" y="9302"/>
                </a:lnTo>
              </a:path>
              <a:path w="1911" h="894">
                <a:moveTo>
                  <a:pt x="12105" y="8930"/>
                </a:moveTo>
                <a:cubicBezTo>
                  <a:pt x="12098" y="8863"/>
                  <a:pt x="12088" y="8844"/>
                  <a:pt x="12030" y="8806"/>
                </a:cubicBezTo>
                <a:cubicBezTo>
                  <a:pt x="12022" y="8806"/>
                  <a:pt x="12013" y="8806"/>
                  <a:pt x="12005" y="8806"/>
                </a:cubicBezTo>
                <a:cubicBezTo>
                  <a:pt x="11973" y="8883"/>
                  <a:pt x="11995" y="8887"/>
                  <a:pt x="12005" y="8954"/>
                </a:cubicBezTo>
                <a:cubicBezTo>
                  <a:pt x="12018" y="9044"/>
                  <a:pt x="12035" y="9137"/>
                  <a:pt x="12055" y="9227"/>
                </a:cubicBezTo>
                <a:cubicBezTo>
                  <a:pt x="12073" y="9309"/>
                  <a:pt x="12098" y="9331"/>
                  <a:pt x="12055" y="9401"/>
                </a:cubicBezTo>
                <a:cubicBezTo>
                  <a:pt x="12033" y="9401"/>
                  <a:pt x="11961" y="9391"/>
                  <a:pt x="11956" y="9376"/>
                </a:cubicBezTo>
                <a:cubicBezTo>
                  <a:pt x="11937" y="9325"/>
                  <a:pt x="11966" y="9266"/>
                  <a:pt x="11981" y="9227"/>
                </a:cubicBezTo>
                <a:cubicBezTo>
                  <a:pt x="12019" y="9130"/>
                  <a:pt x="12044" y="9085"/>
                  <a:pt x="12105" y="9004"/>
                </a:cubicBezTo>
                <a:cubicBezTo>
                  <a:pt x="12138" y="8960"/>
                  <a:pt x="12194" y="8904"/>
                  <a:pt x="12204" y="8880"/>
                </a:cubicBezTo>
                <a:cubicBezTo>
                  <a:pt x="12234" y="8809"/>
                  <a:pt x="12144" y="8787"/>
                  <a:pt x="12105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18080" y="3875040"/>
            <a:ext cx="1046160" cy="777960"/>
          </a:xfrm>
          <a:custGeom>
            <a:avLst/>
            <a:gdLst/>
            <a:ahLst/>
            <a:rect l="l" t="t" r="r" b="b"/>
            <a:pathLst>
              <a:path w="2903" h="2159">
                <a:moveTo>
                  <a:pt x="15404" y="11112"/>
                </a:moveTo>
                <a:cubicBezTo>
                  <a:pt x="15378" y="11180"/>
                  <a:pt x="15363" y="11261"/>
                  <a:pt x="15379" y="11336"/>
                </a:cubicBezTo>
                <a:cubicBezTo>
                  <a:pt x="15395" y="11413"/>
                  <a:pt x="15410" y="11483"/>
                  <a:pt x="15429" y="11559"/>
                </a:cubicBezTo>
              </a:path>
              <a:path w="2903" h="2159">
                <a:moveTo>
                  <a:pt x="15453" y="11782"/>
                </a:moveTo>
                <a:cubicBezTo>
                  <a:pt x="15396" y="11710"/>
                  <a:pt x="15399" y="11669"/>
                  <a:pt x="15379" y="11584"/>
                </a:cubicBezTo>
                <a:cubicBezTo>
                  <a:pt x="15355" y="11481"/>
                  <a:pt x="15308" y="11397"/>
                  <a:pt x="15329" y="11286"/>
                </a:cubicBezTo>
                <a:cubicBezTo>
                  <a:pt x="15347" y="11189"/>
                  <a:pt x="15394" y="11019"/>
                  <a:pt x="15453" y="10939"/>
                </a:cubicBezTo>
                <a:cubicBezTo>
                  <a:pt x="15487" y="10892"/>
                  <a:pt x="15566" y="10804"/>
                  <a:pt x="15627" y="10790"/>
                </a:cubicBezTo>
                <a:cubicBezTo>
                  <a:pt x="15691" y="10775"/>
                  <a:pt x="15725" y="10757"/>
                  <a:pt x="15776" y="10790"/>
                </a:cubicBezTo>
                <a:cubicBezTo>
                  <a:pt x="15802" y="10807"/>
                  <a:pt x="15816" y="10836"/>
                  <a:pt x="15801" y="10889"/>
                </a:cubicBezTo>
                <a:cubicBezTo>
                  <a:pt x="15774" y="10987"/>
                  <a:pt x="15679" y="11079"/>
                  <a:pt x="15627" y="11162"/>
                </a:cubicBezTo>
                <a:cubicBezTo>
                  <a:pt x="15600" y="11204"/>
                  <a:pt x="15567" y="11243"/>
                  <a:pt x="15553" y="11286"/>
                </a:cubicBezTo>
                <a:cubicBezTo>
                  <a:pt x="15553" y="11294"/>
                  <a:pt x="15553" y="11303"/>
                  <a:pt x="15553" y="11311"/>
                </a:cubicBezTo>
                <a:cubicBezTo>
                  <a:pt x="15589" y="11333"/>
                  <a:pt x="15612" y="11336"/>
                  <a:pt x="15677" y="11336"/>
                </a:cubicBezTo>
                <a:cubicBezTo>
                  <a:pt x="15780" y="11336"/>
                  <a:pt x="15933" y="11306"/>
                  <a:pt x="16024" y="11361"/>
                </a:cubicBezTo>
                <a:cubicBezTo>
                  <a:pt x="16069" y="11388"/>
                  <a:pt x="16070" y="11415"/>
                  <a:pt x="16073" y="11460"/>
                </a:cubicBezTo>
                <a:cubicBezTo>
                  <a:pt x="16077" y="11534"/>
                  <a:pt x="16024" y="11590"/>
                  <a:pt x="15974" y="11633"/>
                </a:cubicBezTo>
                <a:cubicBezTo>
                  <a:pt x="15906" y="11691"/>
                  <a:pt x="15826" y="11784"/>
                  <a:pt x="15751" y="11832"/>
                </a:cubicBezTo>
                <a:cubicBezTo>
                  <a:pt x="15746" y="11835"/>
                  <a:pt x="15601" y="11934"/>
                  <a:pt x="15577" y="11931"/>
                </a:cubicBezTo>
                <a:cubicBezTo>
                  <a:pt x="15577" y="11923"/>
                  <a:pt x="15577" y="11914"/>
                  <a:pt x="15577" y="11906"/>
                </a:cubicBezTo>
              </a:path>
              <a:path w="2903" h="2159">
                <a:moveTo>
                  <a:pt x="15627" y="12477"/>
                </a:moveTo>
                <a:cubicBezTo>
                  <a:pt x="15619" y="12477"/>
                  <a:pt x="15610" y="12477"/>
                  <a:pt x="15602" y="12477"/>
                </a:cubicBezTo>
                <a:cubicBezTo>
                  <a:pt x="15612" y="12516"/>
                  <a:pt x="15627" y="12531"/>
                  <a:pt x="15627" y="12576"/>
                </a:cubicBezTo>
                <a:cubicBezTo>
                  <a:pt x="15627" y="12621"/>
                  <a:pt x="15642" y="12636"/>
                  <a:pt x="15652" y="12675"/>
                </a:cubicBezTo>
              </a:path>
              <a:path w="2903" h="2159">
                <a:moveTo>
                  <a:pt x="15825" y="12328"/>
                </a:moveTo>
                <a:cubicBezTo>
                  <a:pt x="15789" y="12341"/>
                  <a:pt x="15801" y="12358"/>
                  <a:pt x="15801" y="12402"/>
                </a:cubicBezTo>
                <a:cubicBezTo>
                  <a:pt x="15801" y="12426"/>
                  <a:pt x="15826" y="12490"/>
                  <a:pt x="15850" y="12502"/>
                </a:cubicBezTo>
                <a:cubicBezTo>
                  <a:pt x="15879" y="12516"/>
                  <a:pt x="15880" y="12546"/>
                  <a:pt x="15925" y="12551"/>
                </a:cubicBezTo>
                <a:cubicBezTo>
                  <a:pt x="15976" y="12557"/>
                  <a:pt x="15980" y="12536"/>
                  <a:pt x="15999" y="12526"/>
                </a:cubicBezTo>
                <a:cubicBezTo>
                  <a:pt x="16017" y="12517"/>
                  <a:pt x="16045" y="12490"/>
                  <a:pt x="16024" y="12452"/>
                </a:cubicBezTo>
                <a:cubicBezTo>
                  <a:pt x="16008" y="12423"/>
                  <a:pt x="15953" y="12387"/>
                  <a:pt x="15925" y="12378"/>
                </a:cubicBezTo>
                <a:cubicBezTo>
                  <a:pt x="15900" y="12378"/>
                  <a:pt x="15892" y="12378"/>
                  <a:pt x="15875" y="12378"/>
                </a:cubicBezTo>
              </a:path>
              <a:path w="2903" h="2159">
                <a:moveTo>
                  <a:pt x="16049" y="12229"/>
                </a:moveTo>
                <a:cubicBezTo>
                  <a:pt x="16041" y="12245"/>
                  <a:pt x="16032" y="12262"/>
                  <a:pt x="16024" y="12278"/>
                </a:cubicBezTo>
                <a:cubicBezTo>
                  <a:pt x="16062" y="12287"/>
                  <a:pt x="16093" y="12301"/>
                  <a:pt x="16123" y="12328"/>
                </a:cubicBezTo>
                <a:cubicBezTo>
                  <a:pt x="16155" y="12356"/>
                  <a:pt x="16191" y="12358"/>
                  <a:pt x="16222" y="12378"/>
                </a:cubicBezTo>
                <a:cubicBezTo>
                  <a:pt x="16247" y="12402"/>
                  <a:pt x="16256" y="12410"/>
                  <a:pt x="16272" y="12427"/>
                </a:cubicBezTo>
                <a:cubicBezTo>
                  <a:pt x="16263" y="12454"/>
                  <a:pt x="16254" y="12473"/>
                  <a:pt x="16222" y="12477"/>
                </a:cubicBezTo>
                <a:cubicBezTo>
                  <a:pt x="16155" y="12485"/>
                  <a:pt x="16190" y="12432"/>
                  <a:pt x="16173" y="12402"/>
                </a:cubicBezTo>
                <a:cubicBezTo>
                  <a:pt x="16138" y="12341"/>
                  <a:pt x="16155" y="12364"/>
                  <a:pt x="16173" y="12328"/>
                </a:cubicBezTo>
                <a:cubicBezTo>
                  <a:pt x="16194" y="12285"/>
                  <a:pt x="16179" y="12272"/>
                  <a:pt x="16222" y="12229"/>
                </a:cubicBezTo>
              </a:path>
              <a:path w="2903" h="2159">
                <a:moveTo>
                  <a:pt x="16470" y="12328"/>
                </a:moveTo>
                <a:cubicBezTo>
                  <a:pt x="16446" y="12328"/>
                  <a:pt x="16438" y="12328"/>
                  <a:pt x="16470" y="12328"/>
                </a:cubicBezTo>
              </a:path>
              <a:path w="2903" h="2159">
                <a:moveTo>
                  <a:pt x="16520" y="12080"/>
                </a:moveTo>
                <a:cubicBezTo>
                  <a:pt x="16588" y="12021"/>
                  <a:pt x="16562" y="12030"/>
                  <a:pt x="16644" y="12030"/>
                </a:cubicBezTo>
              </a:path>
              <a:path w="2903" h="2159">
                <a:moveTo>
                  <a:pt x="16694" y="12229"/>
                </a:moveTo>
                <a:cubicBezTo>
                  <a:pt x="16669" y="12309"/>
                  <a:pt x="16673" y="12358"/>
                  <a:pt x="16594" y="12378"/>
                </a:cubicBezTo>
                <a:cubicBezTo>
                  <a:pt x="16607" y="12327"/>
                  <a:pt x="16652" y="12329"/>
                  <a:pt x="16669" y="12303"/>
                </a:cubicBezTo>
                <a:cubicBezTo>
                  <a:pt x="16699" y="12257"/>
                  <a:pt x="16692" y="12286"/>
                  <a:pt x="16743" y="12303"/>
                </a:cubicBezTo>
                <a:cubicBezTo>
                  <a:pt x="16788" y="12318"/>
                  <a:pt x="16827" y="12345"/>
                  <a:pt x="16867" y="12378"/>
                </a:cubicBezTo>
              </a:path>
              <a:path w="2903" h="2159">
                <a:moveTo>
                  <a:pt x="17264" y="12601"/>
                </a:moveTo>
                <a:cubicBezTo>
                  <a:pt x="17243" y="12657"/>
                  <a:pt x="17229" y="12716"/>
                  <a:pt x="17214" y="12774"/>
                </a:cubicBezTo>
                <a:cubicBezTo>
                  <a:pt x="17204" y="12812"/>
                  <a:pt x="17239" y="12855"/>
                  <a:pt x="17239" y="12898"/>
                </a:cubicBezTo>
                <a:cubicBezTo>
                  <a:pt x="17239" y="12906"/>
                  <a:pt x="17239" y="12915"/>
                  <a:pt x="17239" y="12923"/>
                </a:cubicBezTo>
              </a:path>
              <a:path w="2903" h="2159">
                <a:moveTo>
                  <a:pt x="17363" y="12601"/>
                </a:moveTo>
                <a:cubicBezTo>
                  <a:pt x="17373" y="12563"/>
                  <a:pt x="17386" y="12532"/>
                  <a:pt x="17413" y="12502"/>
                </a:cubicBezTo>
                <a:cubicBezTo>
                  <a:pt x="17450" y="12461"/>
                  <a:pt x="17478" y="12393"/>
                  <a:pt x="17537" y="12378"/>
                </a:cubicBezTo>
                <a:cubicBezTo>
                  <a:pt x="17590" y="12364"/>
                  <a:pt x="17628" y="12353"/>
                  <a:pt x="17686" y="12353"/>
                </a:cubicBezTo>
                <a:cubicBezTo>
                  <a:pt x="17694" y="12353"/>
                  <a:pt x="17703" y="12353"/>
                  <a:pt x="17711" y="12353"/>
                </a:cubicBezTo>
                <a:cubicBezTo>
                  <a:pt x="17711" y="12419"/>
                  <a:pt x="17707" y="12431"/>
                  <a:pt x="17661" y="12477"/>
                </a:cubicBezTo>
                <a:cubicBezTo>
                  <a:pt x="17633" y="12505"/>
                  <a:pt x="17614" y="12552"/>
                  <a:pt x="17611" y="12576"/>
                </a:cubicBezTo>
                <a:cubicBezTo>
                  <a:pt x="17603" y="12640"/>
                  <a:pt x="17665" y="12609"/>
                  <a:pt x="17686" y="12650"/>
                </a:cubicBezTo>
                <a:cubicBezTo>
                  <a:pt x="17706" y="12689"/>
                  <a:pt x="17656" y="12695"/>
                  <a:pt x="17636" y="12700"/>
                </a:cubicBezTo>
              </a:path>
              <a:path w="2903" h="2159">
                <a:moveTo>
                  <a:pt x="17884" y="12551"/>
                </a:moveTo>
                <a:cubicBezTo>
                  <a:pt x="17876" y="12568"/>
                  <a:pt x="17867" y="12584"/>
                  <a:pt x="17859" y="12601"/>
                </a:cubicBezTo>
              </a:path>
              <a:path w="2903" h="2159">
                <a:moveTo>
                  <a:pt x="17959" y="12278"/>
                </a:moveTo>
                <a:cubicBezTo>
                  <a:pt x="17918" y="12288"/>
                  <a:pt x="17919" y="12287"/>
                  <a:pt x="17909" y="12328"/>
                </a:cubicBezTo>
                <a:cubicBezTo>
                  <a:pt x="17947" y="12347"/>
                  <a:pt x="17967" y="12330"/>
                  <a:pt x="18008" y="12303"/>
                </a:cubicBezTo>
                <a:cubicBezTo>
                  <a:pt x="18047" y="12277"/>
                  <a:pt x="18083" y="12195"/>
                  <a:pt x="18107" y="12179"/>
                </a:cubicBezTo>
                <a:cubicBezTo>
                  <a:pt x="18136" y="12159"/>
                  <a:pt x="18132" y="12178"/>
                  <a:pt x="18132" y="12129"/>
                </a:cubicBezTo>
                <a:cubicBezTo>
                  <a:pt x="18096" y="12129"/>
                  <a:pt x="18060" y="12136"/>
                  <a:pt x="18033" y="12154"/>
                </a:cubicBezTo>
                <a:cubicBezTo>
                  <a:pt x="17989" y="12183"/>
                  <a:pt x="18005" y="12223"/>
                  <a:pt x="18033" y="12254"/>
                </a:cubicBezTo>
                <a:cubicBezTo>
                  <a:pt x="18076" y="12302"/>
                  <a:pt x="18111" y="12338"/>
                  <a:pt x="18157" y="12378"/>
                </a:cubicBezTo>
                <a:cubicBezTo>
                  <a:pt x="18229" y="12441"/>
                  <a:pt x="18225" y="12439"/>
                  <a:pt x="18207" y="12477"/>
                </a:cubicBezTo>
                <a:cubicBezTo>
                  <a:pt x="18186" y="12522"/>
                  <a:pt x="18188" y="12526"/>
                  <a:pt x="18132" y="12526"/>
                </a:cubicBezTo>
                <a:cubicBezTo>
                  <a:pt x="18132" y="12479"/>
                  <a:pt x="18154" y="12447"/>
                  <a:pt x="18157" y="12402"/>
                </a:cubicBezTo>
                <a:cubicBezTo>
                  <a:pt x="18163" y="12318"/>
                  <a:pt x="18145" y="12255"/>
                  <a:pt x="18132" y="12179"/>
                </a:cubicBezTo>
                <a:cubicBezTo>
                  <a:pt x="18118" y="12094"/>
                  <a:pt x="18096" y="12091"/>
                  <a:pt x="18008" y="120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5320" y="1554120"/>
            <a:ext cx="6697800" cy="5295960"/>
          </a:xfrm>
          <a:custGeom>
            <a:avLst/>
            <a:gdLst/>
            <a:ahLst/>
            <a:rect l="l" t="t" r="r" b="b"/>
            <a:pathLst>
              <a:path w="18605" h="14710">
                <a:moveTo>
                  <a:pt x="12179" y="5110"/>
                </a:moveTo>
                <a:cubicBezTo>
                  <a:pt x="12180" y="5149"/>
                  <a:pt x="12201" y="5131"/>
                  <a:pt x="12204" y="5184"/>
                </a:cubicBezTo>
                <a:cubicBezTo>
                  <a:pt x="12215" y="5374"/>
                  <a:pt x="12163" y="5542"/>
                  <a:pt x="12154" y="5730"/>
                </a:cubicBezTo>
                <a:cubicBezTo>
                  <a:pt x="12141" y="6014"/>
                  <a:pt x="12176" y="6290"/>
                  <a:pt x="12179" y="6573"/>
                </a:cubicBezTo>
                <a:cubicBezTo>
                  <a:pt x="12182" y="6832"/>
                  <a:pt x="12224" y="7061"/>
                  <a:pt x="12254" y="7317"/>
                </a:cubicBezTo>
                <a:cubicBezTo>
                  <a:pt x="12277" y="7515"/>
                  <a:pt x="12276" y="7717"/>
                  <a:pt x="12303" y="7913"/>
                </a:cubicBezTo>
                <a:cubicBezTo>
                  <a:pt x="12363" y="8350"/>
                  <a:pt x="12417" y="8789"/>
                  <a:pt x="12477" y="9227"/>
                </a:cubicBezTo>
                <a:cubicBezTo>
                  <a:pt x="12509" y="9459"/>
                  <a:pt x="12535" y="9689"/>
                  <a:pt x="12551" y="9922"/>
                </a:cubicBezTo>
                <a:cubicBezTo>
                  <a:pt x="12570" y="10196"/>
                  <a:pt x="12588" y="10466"/>
                  <a:pt x="12601" y="10740"/>
                </a:cubicBezTo>
                <a:cubicBezTo>
                  <a:pt x="12614" y="11013"/>
                  <a:pt x="12644" y="11285"/>
                  <a:pt x="12650" y="11559"/>
                </a:cubicBezTo>
                <a:cubicBezTo>
                  <a:pt x="12664" y="12236"/>
                  <a:pt x="12662" y="12919"/>
                  <a:pt x="12601" y="13593"/>
                </a:cubicBezTo>
                <a:cubicBezTo>
                  <a:pt x="12572" y="13913"/>
                  <a:pt x="12540" y="14240"/>
                  <a:pt x="12526" y="14560"/>
                </a:cubicBezTo>
                <a:cubicBezTo>
                  <a:pt x="12510" y="14916"/>
                  <a:pt x="12507" y="15271"/>
                  <a:pt x="12477" y="15627"/>
                </a:cubicBezTo>
                <a:cubicBezTo>
                  <a:pt x="12419" y="16318"/>
                  <a:pt x="12476" y="18889"/>
                  <a:pt x="11857" y="19025"/>
                </a:cubicBezTo>
                <a:cubicBezTo>
                  <a:pt x="11824" y="19025"/>
                  <a:pt x="11790" y="19025"/>
                  <a:pt x="11757" y="19025"/>
                </a:cubicBezTo>
              </a:path>
              <a:path w="18605" h="14710">
                <a:moveTo>
                  <a:pt x="3150" y="4316"/>
                </a:moveTo>
                <a:cubicBezTo>
                  <a:pt x="3261" y="4316"/>
                  <a:pt x="3369" y="4331"/>
                  <a:pt x="3473" y="4341"/>
                </a:cubicBezTo>
                <a:cubicBezTo>
                  <a:pt x="3640" y="4358"/>
                  <a:pt x="3798" y="4363"/>
                  <a:pt x="3969" y="4366"/>
                </a:cubicBezTo>
                <a:cubicBezTo>
                  <a:pt x="4359" y="4373"/>
                  <a:pt x="4748" y="4365"/>
                  <a:pt x="5135" y="4390"/>
                </a:cubicBezTo>
                <a:cubicBezTo>
                  <a:pt x="5310" y="4401"/>
                  <a:pt x="5483" y="4409"/>
                  <a:pt x="5655" y="4440"/>
                </a:cubicBezTo>
                <a:cubicBezTo>
                  <a:pt x="5806" y="4467"/>
                  <a:pt x="5952" y="4478"/>
                  <a:pt x="6102" y="4514"/>
                </a:cubicBezTo>
                <a:cubicBezTo>
                  <a:pt x="6220" y="4542"/>
                  <a:pt x="6335" y="4556"/>
                  <a:pt x="6449" y="4589"/>
                </a:cubicBezTo>
                <a:cubicBezTo>
                  <a:pt x="6527" y="4611"/>
                  <a:pt x="6597" y="4641"/>
                  <a:pt x="6672" y="4663"/>
                </a:cubicBezTo>
              </a:path>
              <a:path w="18605" h="14710">
                <a:moveTo>
                  <a:pt x="6945" y="4663"/>
                </a:moveTo>
                <a:cubicBezTo>
                  <a:pt x="6913" y="4706"/>
                  <a:pt x="6906" y="4751"/>
                  <a:pt x="6871" y="4787"/>
                </a:cubicBezTo>
                <a:cubicBezTo>
                  <a:pt x="6832" y="4827"/>
                  <a:pt x="6789" y="4851"/>
                  <a:pt x="6747" y="4887"/>
                </a:cubicBezTo>
                <a:cubicBezTo>
                  <a:pt x="6688" y="4938"/>
                  <a:pt x="6636" y="4990"/>
                  <a:pt x="6573" y="5035"/>
                </a:cubicBezTo>
                <a:cubicBezTo>
                  <a:pt x="6458" y="5118"/>
                  <a:pt x="6344" y="5204"/>
                  <a:pt x="6226" y="5283"/>
                </a:cubicBezTo>
                <a:cubicBezTo>
                  <a:pt x="6132" y="5346"/>
                  <a:pt x="6046" y="5409"/>
                  <a:pt x="5953" y="5482"/>
                </a:cubicBezTo>
                <a:cubicBezTo>
                  <a:pt x="5816" y="5590"/>
                  <a:pt x="5676" y="5708"/>
                  <a:pt x="5531" y="5804"/>
                </a:cubicBezTo>
                <a:cubicBezTo>
                  <a:pt x="5428" y="5873"/>
                  <a:pt x="5317" y="5943"/>
                  <a:pt x="5209" y="6003"/>
                </a:cubicBezTo>
                <a:cubicBezTo>
                  <a:pt x="5087" y="6071"/>
                  <a:pt x="4957" y="6124"/>
                  <a:pt x="4837" y="6201"/>
                </a:cubicBezTo>
                <a:cubicBezTo>
                  <a:pt x="4726" y="6272"/>
                  <a:pt x="4603" y="6349"/>
                  <a:pt x="4490" y="6424"/>
                </a:cubicBezTo>
                <a:cubicBezTo>
                  <a:pt x="4380" y="6497"/>
                  <a:pt x="4278" y="6598"/>
                  <a:pt x="4167" y="6672"/>
                </a:cubicBezTo>
                <a:cubicBezTo>
                  <a:pt x="4004" y="6781"/>
                  <a:pt x="3831" y="6886"/>
                  <a:pt x="3671" y="6995"/>
                </a:cubicBezTo>
                <a:cubicBezTo>
                  <a:pt x="3535" y="7088"/>
                  <a:pt x="3407" y="7174"/>
                  <a:pt x="3274" y="7268"/>
                </a:cubicBezTo>
                <a:cubicBezTo>
                  <a:pt x="3181" y="7334"/>
                  <a:pt x="3087" y="7433"/>
                  <a:pt x="3001" y="7491"/>
                </a:cubicBezTo>
                <a:cubicBezTo>
                  <a:pt x="2888" y="7566"/>
                  <a:pt x="2750" y="7645"/>
                  <a:pt x="2629" y="7714"/>
                </a:cubicBezTo>
                <a:cubicBezTo>
                  <a:pt x="2539" y="7766"/>
                  <a:pt x="2443" y="7812"/>
                  <a:pt x="2356" y="7863"/>
                </a:cubicBezTo>
                <a:cubicBezTo>
                  <a:pt x="2271" y="7913"/>
                  <a:pt x="2191" y="7959"/>
                  <a:pt x="2108" y="8012"/>
                </a:cubicBezTo>
                <a:cubicBezTo>
                  <a:pt x="2041" y="8055"/>
                  <a:pt x="1974" y="8090"/>
                  <a:pt x="1910" y="8136"/>
                </a:cubicBezTo>
                <a:cubicBezTo>
                  <a:pt x="1868" y="8166"/>
                  <a:pt x="1829" y="8206"/>
                  <a:pt x="1786" y="8235"/>
                </a:cubicBezTo>
                <a:cubicBezTo>
                  <a:pt x="1763" y="8258"/>
                  <a:pt x="1759" y="8266"/>
                  <a:pt x="1736" y="8260"/>
                </a:cubicBezTo>
              </a:path>
              <a:path w="18605" h="14710">
                <a:moveTo>
                  <a:pt x="12998" y="15329"/>
                </a:moveTo>
                <a:cubicBezTo>
                  <a:pt x="12742" y="15392"/>
                  <a:pt x="12488" y="15456"/>
                  <a:pt x="12229" y="15503"/>
                </a:cubicBezTo>
                <a:cubicBezTo>
                  <a:pt x="11833" y="15575"/>
                  <a:pt x="11432" y="15642"/>
                  <a:pt x="11038" y="15726"/>
                </a:cubicBezTo>
                <a:cubicBezTo>
                  <a:pt x="10585" y="15822"/>
                  <a:pt x="10135" y="15967"/>
                  <a:pt x="9699" y="16123"/>
                </a:cubicBezTo>
                <a:cubicBezTo>
                  <a:pt x="9054" y="16353"/>
                  <a:pt x="8403" y="16616"/>
                  <a:pt x="7813" y="16966"/>
                </a:cubicBezTo>
                <a:cubicBezTo>
                  <a:pt x="7211" y="17323"/>
                  <a:pt x="6687" y="17755"/>
                  <a:pt x="6176" y="18231"/>
                </a:cubicBezTo>
                <a:cubicBezTo>
                  <a:pt x="5965" y="18443"/>
                  <a:pt x="5903" y="18504"/>
                  <a:pt x="5779" y="18653"/>
                </a:cubicBezTo>
              </a:path>
              <a:path w="18605" h="14710">
                <a:moveTo>
                  <a:pt x="15503" y="10071"/>
                </a:moveTo>
                <a:cubicBezTo>
                  <a:pt x="15542" y="10062"/>
                  <a:pt x="15524" y="10052"/>
                  <a:pt x="15577" y="10046"/>
                </a:cubicBezTo>
                <a:cubicBezTo>
                  <a:pt x="15763" y="10027"/>
                  <a:pt x="15951" y="10023"/>
                  <a:pt x="16123" y="9996"/>
                </a:cubicBezTo>
                <a:cubicBezTo>
                  <a:pt x="16246" y="9977"/>
                  <a:pt x="16370" y="9973"/>
                  <a:pt x="16495" y="9971"/>
                </a:cubicBezTo>
                <a:cubicBezTo>
                  <a:pt x="16690" y="9967"/>
                  <a:pt x="16885" y="9934"/>
                  <a:pt x="17066" y="9922"/>
                </a:cubicBezTo>
                <a:cubicBezTo>
                  <a:pt x="17280" y="9907"/>
                  <a:pt x="17519" y="9902"/>
                  <a:pt x="17735" y="9897"/>
                </a:cubicBezTo>
                <a:cubicBezTo>
                  <a:pt x="18097" y="9888"/>
                  <a:pt x="18455" y="9892"/>
                  <a:pt x="18802" y="9847"/>
                </a:cubicBezTo>
                <a:cubicBezTo>
                  <a:pt x="19173" y="9799"/>
                  <a:pt x="20047" y="9735"/>
                  <a:pt x="20315" y="9897"/>
                </a:cubicBezTo>
                <a:cubicBezTo>
                  <a:pt x="20340" y="9897"/>
                  <a:pt x="20348" y="9897"/>
                  <a:pt x="20315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5840" y="1928880"/>
            <a:ext cx="536400" cy="277920"/>
          </a:xfrm>
          <a:custGeom>
            <a:avLst/>
            <a:gdLst/>
            <a:ahLst/>
            <a:rect l="l" t="t" r="r" b="b"/>
            <a:pathLst>
              <a:path w="1489" h="770">
                <a:moveTo>
                  <a:pt x="819" y="5581"/>
                </a:moveTo>
                <a:cubicBezTo>
                  <a:pt x="806" y="5634"/>
                  <a:pt x="794" y="5666"/>
                  <a:pt x="794" y="5730"/>
                </a:cubicBezTo>
                <a:cubicBezTo>
                  <a:pt x="794" y="5814"/>
                  <a:pt x="819" y="5891"/>
                  <a:pt x="819" y="5978"/>
                </a:cubicBezTo>
                <a:cubicBezTo>
                  <a:pt x="819" y="6034"/>
                  <a:pt x="843" y="6048"/>
                  <a:pt x="843" y="6102"/>
                </a:cubicBezTo>
                <a:cubicBezTo>
                  <a:pt x="843" y="6127"/>
                  <a:pt x="843" y="6135"/>
                  <a:pt x="868" y="6127"/>
                </a:cubicBezTo>
              </a:path>
              <a:path w="1489" h="770">
                <a:moveTo>
                  <a:pt x="1067" y="5556"/>
                </a:moveTo>
                <a:cubicBezTo>
                  <a:pt x="1099" y="5545"/>
                  <a:pt x="1097" y="5521"/>
                  <a:pt x="1141" y="5507"/>
                </a:cubicBezTo>
                <a:cubicBezTo>
                  <a:pt x="1203" y="5487"/>
                  <a:pt x="1194" y="5474"/>
                  <a:pt x="1265" y="5507"/>
                </a:cubicBezTo>
                <a:cubicBezTo>
                  <a:pt x="1324" y="5534"/>
                  <a:pt x="1355" y="5538"/>
                  <a:pt x="1389" y="5581"/>
                </a:cubicBezTo>
                <a:cubicBezTo>
                  <a:pt x="1432" y="5637"/>
                  <a:pt x="1402" y="5651"/>
                  <a:pt x="1364" y="5705"/>
                </a:cubicBezTo>
                <a:cubicBezTo>
                  <a:pt x="1318" y="5771"/>
                  <a:pt x="1271" y="5822"/>
                  <a:pt x="1215" y="5879"/>
                </a:cubicBezTo>
                <a:cubicBezTo>
                  <a:pt x="1178" y="5917"/>
                  <a:pt x="1166" y="5925"/>
                  <a:pt x="1166" y="5978"/>
                </a:cubicBezTo>
                <a:cubicBezTo>
                  <a:pt x="1166" y="6019"/>
                  <a:pt x="1211" y="6009"/>
                  <a:pt x="1240" y="6028"/>
                </a:cubicBezTo>
                <a:cubicBezTo>
                  <a:pt x="1278" y="6052"/>
                  <a:pt x="1315" y="6072"/>
                  <a:pt x="1364" y="6077"/>
                </a:cubicBezTo>
                <a:cubicBezTo>
                  <a:pt x="1372" y="6077"/>
                  <a:pt x="1381" y="6077"/>
                  <a:pt x="1389" y="6077"/>
                </a:cubicBezTo>
              </a:path>
              <a:path w="1489" h="770">
                <a:moveTo>
                  <a:pt x="1637" y="6052"/>
                </a:moveTo>
                <a:cubicBezTo>
                  <a:pt x="1645" y="6052"/>
                  <a:pt x="1654" y="6052"/>
                  <a:pt x="1662" y="6052"/>
                </a:cubicBezTo>
              </a:path>
              <a:path w="1489" h="770">
                <a:moveTo>
                  <a:pt x="2183" y="5581"/>
                </a:moveTo>
                <a:cubicBezTo>
                  <a:pt x="2130" y="5539"/>
                  <a:pt x="2102" y="5531"/>
                  <a:pt x="2034" y="5531"/>
                </a:cubicBezTo>
                <a:cubicBezTo>
                  <a:pt x="1976" y="5531"/>
                  <a:pt x="1918" y="5531"/>
                  <a:pt x="1860" y="5531"/>
                </a:cubicBezTo>
                <a:cubicBezTo>
                  <a:pt x="1867" y="5553"/>
                  <a:pt x="1910" y="5601"/>
                  <a:pt x="1935" y="5631"/>
                </a:cubicBezTo>
                <a:cubicBezTo>
                  <a:pt x="2000" y="5710"/>
                  <a:pt x="2074" y="5769"/>
                  <a:pt x="2133" y="5854"/>
                </a:cubicBezTo>
                <a:cubicBezTo>
                  <a:pt x="2181" y="5924"/>
                  <a:pt x="2241" y="6010"/>
                  <a:pt x="2208" y="6102"/>
                </a:cubicBezTo>
                <a:cubicBezTo>
                  <a:pt x="2200" y="6110"/>
                  <a:pt x="2191" y="6119"/>
                  <a:pt x="2183" y="6127"/>
                </a:cubicBezTo>
                <a:cubicBezTo>
                  <a:pt x="2144" y="6117"/>
                  <a:pt x="2086" y="6089"/>
                  <a:pt x="2059" y="6052"/>
                </a:cubicBezTo>
                <a:cubicBezTo>
                  <a:pt x="2022" y="6001"/>
                  <a:pt x="1991" y="5945"/>
                  <a:pt x="2009" y="5879"/>
                </a:cubicBezTo>
                <a:cubicBezTo>
                  <a:pt x="2034" y="5789"/>
                  <a:pt x="2084" y="5729"/>
                  <a:pt x="2133" y="5655"/>
                </a:cubicBezTo>
                <a:cubicBezTo>
                  <a:pt x="2177" y="5589"/>
                  <a:pt x="2219" y="5521"/>
                  <a:pt x="2257" y="5457"/>
                </a:cubicBezTo>
                <a:cubicBezTo>
                  <a:pt x="2283" y="5413"/>
                  <a:pt x="2267" y="5410"/>
                  <a:pt x="2257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9040" y="2401920"/>
            <a:ext cx="447840" cy="241200"/>
          </a:xfrm>
          <a:custGeom>
            <a:avLst/>
            <a:gdLst/>
            <a:ahLst/>
            <a:rect l="l" t="t" r="r" b="b"/>
            <a:pathLst>
              <a:path w="1241" h="671">
                <a:moveTo>
                  <a:pt x="4589" y="6672"/>
                </a:moveTo>
                <a:cubicBezTo>
                  <a:pt x="4589" y="6740"/>
                  <a:pt x="4591" y="6780"/>
                  <a:pt x="4564" y="6846"/>
                </a:cubicBezTo>
                <a:cubicBezTo>
                  <a:pt x="4535" y="6917"/>
                  <a:pt x="4467" y="6948"/>
                  <a:pt x="4440" y="7020"/>
                </a:cubicBezTo>
                <a:cubicBezTo>
                  <a:pt x="4440" y="7048"/>
                  <a:pt x="4438" y="7059"/>
                  <a:pt x="4415" y="7069"/>
                </a:cubicBezTo>
                <a:cubicBezTo>
                  <a:pt x="4465" y="7069"/>
                  <a:pt x="4474" y="7068"/>
                  <a:pt x="4514" y="7045"/>
                </a:cubicBezTo>
                <a:cubicBezTo>
                  <a:pt x="4550" y="7025"/>
                  <a:pt x="4639" y="7037"/>
                  <a:pt x="4663" y="7020"/>
                </a:cubicBezTo>
                <a:cubicBezTo>
                  <a:pt x="4673" y="7013"/>
                  <a:pt x="4689" y="6988"/>
                  <a:pt x="4713" y="6970"/>
                </a:cubicBezTo>
              </a:path>
              <a:path w="1241" h="671">
                <a:moveTo>
                  <a:pt x="4688" y="6697"/>
                </a:moveTo>
                <a:cubicBezTo>
                  <a:pt x="4688" y="6858"/>
                  <a:pt x="4683" y="7016"/>
                  <a:pt x="4663" y="7169"/>
                </a:cubicBezTo>
                <a:cubicBezTo>
                  <a:pt x="4656" y="7223"/>
                  <a:pt x="4663" y="7287"/>
                  <a:pt x="4663" y="7342"/>
                </a:cubicBezTo>
              </a:path>
              <a:path w="1241" h="671">
                <a:moveTo>
                  <a:pt x="5035" y="7268"/>
                </a:moveTo>
                <a:cubicBezTo>
                  <a:pt x="5060" y="7268"/>
                  <a:pt x="5068" y="7268"/>
                  <a:pt x="5060" y="7243"/>
                </a:cubicBezTo>
              </a:path>
              <a:path w="1241" h="671">
                <a:moveTo>
                  <a:pt x="5581" y="6772"/>
                </a:moveTo>
                <a:cubicBezTo>
                  <a:pt x="5589" y="6772"/>
                  <a:pt x="5598" y="6772"/>
                  <a:pt x="5606" y="6772"/>
                </a:cubicBezTo>
                <a:cubicBezTo>
                  <a:pt x="5597" y="6746"/>
                  <a:pt x="5587" y="6724"/>
                  <a:pt x="5556" y="6722"/>
                </a:cubicBezTo>
                <a:cubicBezTo>
                  <a:pt x="5478" y="6716"/>
                  <a:pt x="5497" y="6700"/>
                  <a:pt x="5432" y="6722"/>
                </a:cubicBezTo>
                <a:cubicBezTo>
                  <a:pt x="5382" y="6739"/>
                  <a:pt x="5384" y="6758"/>
                  <a:pt x="5358" y="6796"/>
                </a:cubicBezTo>
                <a:cubicBezTo>
                  <a:pt x="5328" y="6840"/>
                  <a:pt x="5333" y="6863"/>
                  <a:pt x="5333" y="6921"/>
                </a:cubicBezTo>
                <a:cubicBezTo>
                  <a:pt x="5333" y="6929"/>
                  <a:pt x="5333" y="6937"/>
                  <a:pt x="5333" y="6945"/>
                </a:cubicBezTo>
                <a:cubicBezTo>
                  <a:pt x="5404" y="6945"/>
                  <a:pt x="5449" y="6950"/>
                  <a:pt x="5507" y="6970"/>
                </a:cubicBezTo>
                <a:cubicBezTo>
                  <a:pt x="5549" y="6984"/>
                  <a:pt x="5571" y="7011"/>
                  <a:pt x="5606" y="7045"/>
                </a:cubicBezTo>
                <a:cubicBezTo>
                  <a:pt x="5659" y="7097"/>
                  <a:pt x="5655" y="7118"/>
                  <a:pt x="5655" y="7193"/>
                </a:cubicBezTo>
                <a:cubicBezTo>
                  <a:pt x="5655" y="7284"/>
                  <a:pt x="5651" y="7265"/>
                  <a:pt x="5581" y="7317"/>
                </a:cubicBezTo>
                <a:cubicBezTo>
                  <a:pt x="5529" y="7356"/>
                  <a:pt x="5466" y="7353"/>
                  <a:pt x="5407" y="7317"/>
                </a:cubicBezTo>
                <a:cubicBezTo>
                  <a:pt x="5368" y="7293"/>
                  <a:pt x="5322" y="7235"/>
                  <a:pt x="5308" y="7193"/>
                </a:cubicBezTo>
                <a:cubicBezTo>
                  <a:pt x="5295" y="7154"/>
                  <a:pt x="5308" y="7088"/>
                  <a:pt x="5308" y="70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1760" y="2251080"/>
            <a:ext cx="866520" cy="276120"/>
          </a:xfrm>
          <a:custGeom>
            <a:avLst/>
            <a:gdLst/>
            <a:ahLst/>
            <a:rect l="l" t="t" r="r" b="b"/>
            <a:pathLst>
              <a:path w="2407" h="770">
                <a:moveTo>
                  <a:pt x="7987" y="6598"/>
                </a:moveTo>
                <a:cubicBezTo>
                  <a:pt x="7947" y="6538"/>
                  <a:pt x="7956" y="6548"/>
                  <a:pt x="7888" y="6548"/>
                </a:cubicBezTo>
                <a:cubicBezTo>
                  <a:pt x="7825" y="6548"/>
                  <a:pt x="7770" y="6538"/>
                  <a:pt x="7714" y="6573"/>
                </a:cubicBezTo>
                <a:cubicBezTo>
                  <a:pt x="7694" y="6585"/>
                  <a:pt x="7624" y="6631"/>
                  <a:pt x="7615" y="6648"/>
                </a:cubicBezTo>
                <a:cubicBezTo>
                  <a:pt x="7615" y="6656"/>
                  <a:pt x="7615" y="6664"/>
                  <a:pt x="7615" y="6672"/>
                </a:cubicBezTo>
                <a:cubicBezTo>
                  <a:pt x="7685" y="6672"/>
                  <a:pt x="7747" y="6635"/>
                  <a:pt x="7813" y="6648"/>
                </a:cubicBezTo>
                <a:cubicBezTo>
                  <a:pt x="7861" y="6671"/>
                  <a:pt x="7876" y="6679"/>
                  <a:pt x="7913" y="6672"/>
                </a:cubicBezTo>
              </a:path>
              <a:path w="2407" h="770">
                <a:moveTo>
                  <a:pt x="8136" y="6772"/>
                </a:moveTo>
                <a:cubicBezTo>
                  <a:pt x="8185" y="6821"/>
                  <a:pt x="8281" y="6880"/>
                  <a:pt x="8235" y="6945"/>
                </a:cubicBezTo>
                <a:cubicBezTo>
                  <a:pt x="8202" y="6991"/>
                  <a:pt x="8139" y="7013"/>
                  <a:pt x="8086" y="7020"/>
                </a:cubicBezTo>
                <a:cubicBezTo>
                  <a:pt x="8031" y="7027"/>
                  <a:pt x="7874" y="7042"/>
                  <a:pt x="7838" y="6995"/>
                </a:cubicBezTo>
                <a:cubicBezTo>
                  <a:pt x="7782" y="6922"/>
                  <a:pt x="7803" y="6870"/>
                  <a:pt x="7813" y="6796"/>
                </a:cubicBezTo>
              </a:path>
              <a:path w="2407" h="770">
                <a:moveTo>
                  <a:pt x="8384" y="6672"/>
                </a:moveTo>
                <a:cubicBezTo>
                  <a:pt x="8384" y="6753"/>
                  <a:pt x="8363" y="6871"/>
                  <a:pt x="8409" y="6945"/>
                </a:cubicBezTo>
                <a:cubicBezTo>
                  <a:pt x="8437" y="6990"/>
                  <a:pt x="8449" y="6973"/>
                  <a:pt x="8458" y="6945"/>
                </a:cubicBezTo>
              </a:path>
              <a:path w="2407" h="770">
                <a:moveTo>
                  <a:pt x="8310" y="6375"/>
                </a:moveTo>
                <a:cubicBezTo>
                  <a:pt x="8318" y="6391"/>
                  <a:pt x="8326" y="6408"/>
                  <a:pt x="8334" y="6424"/>
                </a:cubicBezTo>
              </a:path>
              <a:path w="2407" h="770">
                <a:moveTo>
                  <a:pt x="8607" y="6598"/>
                </a:moveTo>
                <a:cubicBezTo>
                  <a:pt x="8656" y="6614"/>
                  <a:pt x="8616" y="6627"/>
                  <a:pt x="8632" y="6672"/>
                </a:cubicBezTo>
                <a:cubicBezTo>
                  <a:pt x="8657" y="6741"/>
                  <a:pt x="8655" y="6831"/>
                  <a:pt x="8682" y="6896"/>
                </a:cubicBezTo>
                <a:cubicBezTo>
                  <a:pt x="8716" y="6931"/>
                  <a:pt x="8729" y="6954"/>
                  <a:pt x="8731" y="6995"/>
                </a:cubicBezTo>
                <a:cubicBezTo>
                  <a:pt x="8731" y="6888"/>
                  <a:pt x="8690" y="6680"/>
                  <a:pt x="8756" y="6598"/>
                </a:cubicBezTo>
                <a:cubicBezTo>
                  <a:pt x="8782" y="6565"/>
                  <a:pt x="8815" y="6528"/>
                  <a:pt x="8855" y="6524"/>
                </a:cubicBezTo>
                <a:cubicBezTo>
                  <a:pt x="8907" y="6518"/>
                  <a:pt x="8919" y="6538"/>
                  <a:pt x="8954" y="6573"/>
                </a:cubicBezTo>
                <a:cubicBezTo>
                  <a:pt x="9004" y="6624"/>
                  <a:pt x="9009" y="6665"/>
                  <a:pt x="9029" y="6722"/>
                </a:cubicBezTo>
                <a:cubicBezTo>
                  <a:pt x="9057" y="6802"/>
                  <a:pt x="9035" y="6812"/>
                  <a:pt x="9029" y="6896"/>
                </a:cubicBezTo>
                <a:cubicBezTo>
                  <a:pt x="9027" y="6927"/>
                  <a:pt x="9039" y="6962"/>
                  <a:pt x="9054" y="6970"/>
                </a:cubicBezTo>
                <a:cubicBezTo>
                  <a:pt x="9062" y="6970"/>
                  <a:pt x="9071" y="6970"/>
                  <a:pt x="9079" y="6970"/>
                </a:cubicBezTo>
              </a:path>
              <a:path w="2407" h="770">
                <a:moveTo>
                  <a:pt x="9674" y="6276"/>
                </a:moveTo>
                <a:cubicBezTo>
                  <a:pt x="9654" y="6217"/>
                  <a:pt x="9579" y="6266"/>
                  <a:pt x="9525" y="6276"/>
                </a:cubicBezTo>
                <a:cubicBezTo>
                  <a:pt x="9480" y="6284"/>
                  <a:pt x="9459" y="6317"/>
                  <a:pt x="9426" y="6350"/>
                </a:cubicBezTo>
                <a:cubicBezTo>
                  <a:pt x="9389" y="6387"/>
                  <a:pt x="9393" y="6412"/>
                  <a:pt x="9426" y="6449"/>
                </a:cubicBezTo>
                <a:cubicBezTo>
                  <a:pt x="9456" y="6483"/>
                  <a:pt x="9482" y="6474"/>
                  <a:pt x="9525" y="6474"/>
                </a:cubicBezTo>
                <a:cubicBezTo>
                  <a:pt x="9599" y="6474"/>
                  <a:pt x="9613" y="6488"/>
                  <a:pt x="9674" y="6524"/>
                </a:cubicBezTo>
                <a:cubicBezTo>
                  <a:pt x="9744" y="6566"/>
                  <a:pt x="9767" y="6611"/>
                  <a:pt x="9823" y="6672"/>
                </a:cubicBezTo>
                <a:cubicBezTo>
                  <a:pt x="9866" y="6719"/>
                  <a:pt x="9892" y="6761"/>
                  <a:pt x="9897" y="6821"/>
                </a:cubicBezTo>
                <a:cubicBezTo>
                  <a:pt x="9901" y="6863"/>
                  <a:pt x="9859" y="6892"/>
                  <a:pt x="9823" y="6896"/>
                </a:cubicBezTo>
                <a:cubicBezTo>
                  <a:pt x="9751" y="6904"/>
                  <a:pt x="9681" y="6904"/>
                  <a:pt x="9624" y="6871"/>
                </a:cubicBezTo>
                <a:cubicBezTo>
                  <a:pt x="9567" y="6838"/>
                  <a:pt x="9537" y="6808"/>
                  <a:pt x="9525" y="6747"/>
                </a:cubicBezTo>
                <a:cubicBezTo>
                  <a:pt x="9525" y="6730"/>
                  <a:pt x="9525" y="6714"/>
                  <a:pt x="9525" y="6697"/>
                </a:cubicBezTo>
              </a:path>
              <a:path w="2407" h="770">
                <a:moveTo>
                  <a:pt x="9996" y="6325"/>
                </a:moveTo>
                <a:cubicBezTo>
                  <a:pt x="10005" y="6446"/>
                  <a:pt x="10049" y="6598"/>
                  <a:pt x="10021" y="6722"/>
                </a:cubicBezTo>
                <a:cubicBezTo>
                  <a:pt x="10006" y="6789"/>
                  <a:pt x="9986" y="6819"/>
                  <a:pt x="9947" y="6871"/>
                </a:cubicBezTo>
                <a:cubicBezTo>
                  <a:pt x="9898" y="6841"/>
                  <a:pt x="9816" y="6795"/>
                  <a:pt x="9773" y="6747"/>
                </a:cubicBezTo>
                <a:cubicBezTo>
                  <a:pt x="9671" y="6635"/>
                  <a:pt x="9633" y="6559"/>
                  <a:pt x="9500" y="6474"/>
                </a:cubicBezTo>
                <a:cubicBezTo>
                  <a:pt x="9407" y="6415"/>
                  <a:pt x="9263" y="6331"/>
                  <a:pt x="9153" y="6400"/>
                </a:cubicBezTo>
                <a:cubicBezTo>
                  <a:pt x="9109" y="6428"/>
                  <a:pt x="9048" y="6552"/>
                  <a:pt x="9029" y="6598"/>
                </a:cubicBezTo>
                <a:cubicBezTo>
                  <a:pt x="8997" y="6674"/>
                  <a:pt x="8991" y="6760"/>
                  <a:pt x="8930" y="6821"/>
                </a:cubicBezTo>
                <a:cubicBezTo>
                  <a:pt x="8897" y="6854"/>
                  <a:pt x="8828" y="6859"/>
                  <a:pt x="8781" y="6846"/>
                </a:cubicBezTo>
                <a:cubicBezTo>
                  <a:pt x="8708" y="6826"/>
                  <a:pt x="8614" y="6720"/>
                  <a:pt x="8558" y="6672"/>
                </a:cubicBezTo>
                <a:cubicBezTo>
                  <a:pt x="8480" y="6605"/>
                  <a:pt x="8465" y="6511"/>
                  <a:pt x="8359" y="6499"/>
                </a:cubicBezTo>
                <a:cubicBezTo>
                  <a:pt x="8270" y="6489"/>
                  <a:pt x="8308" y="6534"/>
                  <a:pt x="8285" y="6598"/>
                </a:cubicBezTo>
                <a:cubicBezTo>
                  <a:pt x="8269" y="6643"/>
                  <a:pt x="8256" y="6768"/>
                  <a:pt x="8210" y="6796"/>
                </a:cubicBezTo>
                <a:cubicBezTo>
                  <a:pt x="8136" y="6842"/>
                  <a:pt x="8073" y="6846"/>
                  <a:pt x="7987" y="6846"/>
                </a:cubicBezTo>
                <a:cubicBezTo>
                  <a:pt x="7911" y="6846"/>
                  <a:pt x="7895" y="6821"/>
                  <a:pt x="7838" y="67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32200" y="1990800"/>
            <a:ext cx="509760" cy="403200"/>
          </a:xfrm>
          <a:custGeom>
            <a:avLst/>
            <a:gdLst/>
            <a:ahLst/>
            <a:rect l="l" t="t" r="r" b="b"/>
            <a:pathLst>
              <a:path w="1415" h="1118">
                <a:moveTo>
                  <a:pt x="13146" y="6028"/>
                </a:moveTo>
                <a:cubicBezTo>
                  <a:pt x="13146" y="6076"/>
                  <a:pt x="13157" y="6133"/>
                  <a:pt x="13171" y="6176"/>
                </a:cubicBezTo>
                <a:cubicBezTo>
                  <a:pt x="13197" y="6254"/>
                  <a:pt x="13218" y="6316"/>
                  <a:pt x="13221" y="6400"/>
                </a:cubicBezTo>
                <a:cubicBezTo>
                  <a:pt x="13224" y="6481"/>
                  <a:pt x="13246" y="6541"/>
                  <a:pt x="13246" y="6623"/>
                </a:cubicBezTo>
                <a:cubicBezTo>
                  <a:pt x="13246" y="6678"/>
                  <a:pt x="13297" y="6641"/>
                  <a:pt x="13320" y="6623"/>
                </a:cubicBezTo>
              </a:path>
              <a:path w="1415" h="1118">
                <a:moveTo>
                  <a:pt x="13494" y="6052"/>
                </a:moveTo>
                <a:cubicBezTo>
                  <a:pt x="13433" y="6013"/>
                  <a:pt x="13469" y="6145"/>
                  <a:pt x="13469" y="6201"/>
                </a:cubicBezTo>
                <a:cubicBezTo>
                  <a:pt x="13469" y="6295"/>
                  <a:pt x="13455" y="6396"/>
                  <a:pt x="13494" y="6474"/>
                </a:cubicBezTo>
                <a:cubicBezTo>
                  <a:pt x="13538" y="6561"/>
                  <a:pt x="13543" y="6546"/>
                  <a:pt x="13618" y="6524"/>
                </a:cubicBezTo>
                <a:cubicBezTo>
                  <a:pt x="13660" y="6512"/>
                  <a:pt x="13665" y="6452"/>
                  <a:pt x="13667" y="6400"/>
                </a:cubicBezTo>
                <a:cubicBezTo>
                  <a:pt x="13671" y="6303"/>
                  <a:pt x="13631" y="6215"/>
                  <a:pt x="13593" y="6127"/>
                </a:cubicBezTo>
                <a:cubicBezTo>
                  <a:pt x="13571" y="6076"/>
                  <a:pt x="13542" y="6015"/>
                  <a:pt x="13494" y="6052"/>
                </a:cubicBezTo>
                <a:cubicBezTo>
                  <a:pt x="13486" y="6060"/>
                  <a:pt x="13477" y="6069"/>
                  <a:pt x="13469" y="6077"/>
                </a:cubicBezTo>
              </a:path>
              <a:path w="1415" h="1118">
                <a:moveTo>
                  <a:pt x="13891" y="6300"/>
                </a:moveTo>
                <a:cubicBezTo>
                  <a:pt x="13891" y="6276"/>
                  <a:pt x="13891" y="6267"/>
                  <a:pt x="13891" y="6251"/>
                </a:cubicBezTo>
              </a:path>
              <a:path w="1415" h="1118">
                <a:moveTo>
                  <a:pt x="14089" y="5879"/>
                </a:moveTo>
                <a:cubicBezTo>
                  <a:pt x="14057" y="5868"/>
                  <a:pt x="14064" y="5821"/>
                  <a:pt x="14064" y="5854"/>
                </a:cubicBezTo>
                <a:cubicBezTo>
                  <a:pt x="14064" y="5887"/>
                  <a:pt x="14064" y="5821"/>
                  <a:pt x="14064" y="5854"/>
                </a:cubicBezTo>
                <a:cubicBezTo>
                  <a:pt x="14064" y="5874"/>
                  <a:pt x="14088" y="5861"/>
                  <a:pt x="14064" y="5904"/>
                </a:cubicBezTo>
                <a:cubicBezTo>
                  <a:pt x="14050" y="5928"/>
                  <a:pt x="14019" y="5967"/>
                  <a:pt x="14039" y="6003"/>
                </a:cubicBezTo>
                <a:cubicBezTo>
                  <a:pt x="14056" y="6034"/>
                  <a:pt x="14108" y="6036"/>
                  <a:pt x="14139" y="6028"/>
                </a:cubicBezTo>
                <a:cubicBezTo>
                  <a:pt x="14204" y="6011"/>
                  <a:pt x="14235" y="5967"/>
                  <a:pt x="14263" y="5953"/>
                </a:cubicBezTo>
                <a:cubicBezTo>
                  <a:pt x="14285" y="5942"/>
                  <a:pt x="14301" y="5914"/>
                  <a:pt x="14312" y="5879"/>
                </a:cubicBezTo>
                <a:cubicBezTo>
                  <a:pt x="14312" y="5871"/>
                  <a:pt x="14312" y="5862"/>
                  <a:pt x="14312" y="5854"/>
                </a:cubicBezTo>
              </a:path>
              <a:path w="1415" h="1118">
                <a:moveTo>
                  <a:pt x="14337" y="5531"/>
                </a:moveTo>
                <a:cubicBezTo>
                  <a:pt x="14369" y="5585"/>
                  <a:pt x="14381" y="5688"/>
                  <a:pt x="14387" y="5755"/>
                </a:cubicBezTo>
                <a:cubicBezTo>
                  <a:pt x="14398" y="5877"/>
                  <a:pt x="14442" y="5986"/>
                  <a:pt x="14461" y="6102"/>
                </a:cubicBezTo>
                <a:cubicBezTo>
                  <a:pt x="14476" y="6193"/>
                  <a:pt x="14481" y="6270"/>
                  <a:pt x="14536" y="6350"/>
                </a:cubicBezTo>
                <a:cubicBezTo>
                  <a:pt x="14544" y="6358"/>
                  <a:pt x="14552" y="6367"/>
                  <a:pt x="14560" y="63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1760" y="2946240"/>
            <a:ext cx="206280" cy="189000"/>
          </a:xfrm>
          <a:custGeom>
            <a:avLst/>
            <a:gdLst/>
            <a:ahLst/>
            <a:rect l="l" t="t" r="r" b="b"/>
            <a:pathLst>
              <a:path w="572" h="521">
                <a:moveTo>
                  <a:pt x="1414" y="8210"/>
                </a:moveTo>
                <a:cubicBezTo>
                  <a:pt x="1366" y="8175"/>
                  <a:pt x="1322" y="8176"/>
                  <a:pt x="1265" y="8210"/>
                </a:cubicBezTo>
                <a:cubicBezTo>
                  <a:pt x="1215" y="8241"/>
                  <a:pt x="1131" y="8354"/>
                  <a:pt x="1116" y="8409"/>
                </a:cubicBezTo>
                <a:cubicBezTo>
                  <a:pt x="1100" y="8468"/>
                  <a:pt x="1117" y="8537"/>
                  <a:pt x="1141" y="8582"/>
                </a:cubicBezTo>
                <a:cubicBezTo>
                  <a:pt x="1184" y="8663"/>
                  <a:pt x="1300" y="8687"/>
                  <a:pt x="1389" y="8706"/>
                </a:cubicBezTo>
                <a:cubicBezTo>
                  <a:pt x="1485" y="8727"/>
                  <a:pt x="1593" y="8715"/>
                  <a:pt x="1662" y="8657"/>
                </a:cubicBezTo>
                <a:cubicBezTo>
                  <a:pt x="1685" y="8634"/>
                  <a:pt x="1696" y="8626"/>
                  <a:pt x="1662" y="86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08160" y="2687760"/>
            <a:ext cx="2286000" cy="608040"/>
          </a:xfrm>
          <a:custGeom>
            <a:avLst/>
            <a:gdLst/>
            <a:ahLst/>
            <a:rect l="l" t="t" r="r" b="b"/>
            <a:pathLst>
              <a:path w="6351" h="1688">
                <a:moveTo>
                  <a:pt x="6152" y="7714"/>
                </a:moveTo>
                <a:cubicBezTo>
                  <a:pt x="6130" y="7697"/>
                  <a:pt x="6085" y="7670"/>
                  <a:pt x="6052" y="7689"/>
                </a:cubicBezTo>
                <a:cubicBezTo>
                  <a:pt x="5998" y="7720"/>
                  <a:pt x="5956" y="7795"/>
                  <a:pt x="5928" y="7838"/>
                </a:cubicBezTo>
                <a:cubicBezTo>
                  <a:pt x="5904" y="7863"/>
                  <a:pt x="5896" y="7871"/>
                  <a:pt x="5928" y="7888"/>
                </a:cubicBezTo>
                <a:cubicBezTo>
                  <a:pt x="5980" y="7866"/>
                  <a:pt x="5998" y="7863"/>
                  <a:pt x="6052" y="7863"/>
                </a:cubicBezTo>
                <a:cubicBezTo>
                  <a:pt x="6116" y="7863"/>
                  <a:pt x="6152" y="7885"/>
                  <a:pt x="6201" y="7913"/>
                </a:cubicBezTo>
                <a:cubicBezTo>
                  <a:pt x="6263" y="7948"/>
                  <a:pt x="6283" y="7993"/>
                  <a:pt x="6300" y="8062"/>
                </a:cubicBezTo>
                <a:cubicBezTo>
                  <a:pt x="6307" y="8091"/>
                  <a:pt x="6269" y="8141"/>
                  <a:pt x="6251" y="8161"/>
                </a:cubicBezTo>
                <a:cubicBezTo>
                  <a:pt x="6208" y="8210"/>
                  <a:pt x="6140" y="8223"/>
                  <a:pt x="6077" y="8210"/>
                </a:cubicBezTo>
                <a:cubicBezTo>
                  <a:pt x="6026" y="8199"/>
                  <a:pt x="5936" y="8156"/>
                  <a:pt x="5904" y="8111"/>
                </a:cubicBezTo>
                <a:cubicBezTo>
                  <a:pt x="5867" y="8060"/>
                  <a:pt x="5835" y="8004"/>
                  <a:pt x="5854" y="7938"/>
                </a:cubicBezTo>
                <a:cubicBezTo>
                  <a:pt x="5876" y="7894"/>
                  <a:pt x="5879" y="7882"/>
                  <a:pt x="5904" y="7863"/>
                </a:cubicBezTo>
              </a:path>
              <a:path w="6351" h="1688">
                <a:moveTo>
                  <a:pt x="6598" y="7838"/>
                </a:moveTo>
                <a:cubicBezTo>
                  <a:pt x="6598" y="7958"/>
                  <a:pt x="6593" y="8060"/>
                  <a:pt x="6623" y="8161"/>
                </a:cubicBezTo>
                <a:cubicBezTo>
                  <a:pt x="6623" y="8169"/>
                  <a:pt x="6623" y="8178"/>
                  <a:pt x="6623" y="8186"/>
                </a:cubicBezTo>
              </a:path>
              <a:path w="6351" h="1688">
                <a:moveTo>
                  <a:pt x="6573" y="7590"/>
                </a:moveTo>
                <a:cubicBezTo>
                  <a:pt x="6581" y="7607"/>
                  <a:pt x="6590" y="7623"/>
                  <a:pt x="6598" y="7640"/>
                </a:cubicBezTo>
              </a:path>
              <a:path w="6351" h="1688">
                <a:moveTo>
                  <a:pt x="6921" y="7838"/>
                </a:moveTo>
                <a:cubicBezTo>
                  <a:pt x="6928" y="7874"/>
                  <a:pt x="6927" y="8027"/>
                  <a:pt x="6945" y="8062"/>
                </a:cubicBezTo>
                <a:cubicBezTo>
                  <a:pt x="6965" y="8101"/>
                  <a:pt x="6970" y="8089"/>
                  <a:pt x="6970" y="8136"/>
                </a:cubicBezTo>
                <a:cubicBezTo>
                  <a:pt x="7010" y="8123"/>
                  <a:pt x="6995" y="8088"/>
                  <a:pt x="6995" y="8037"/>
                </a:cubicBezTo>
                <a:cubicBezTo>
                  <a:pt x="6995" y="7969"/>
                  <a:pt x="6992" y="7874"/>
                  <a:pt x="7020" y="7813"/>
                </a:cubicBezTo>
                <a:cubicBezTo>
                  <a:pt x="7036" y="7778"/>
                  <a:pt x="7053" y="7744"/>
                  <a:pt x="7094" y="7739"/>
                </a:cubicBezTo>
                <a:cubicBezTo>
                  <a:pt x="7132" y="7735"/>
                  <a:pt x="7189" y="7747"/>
                  <a:pt x="7218" y="7764"/>
                </a:cubicBezTo>
                <a:cubicBezTo>
                  <a:pt x="7259" y="7789"/>
                  <a:pt x="7273" y="7832"/>
                  <a:pt x="7293" y="7863"/>
                </a:cubicBezTo>
                <a:cubicBezTo>
                  <a:pt x="7316" y="7899"/>
                  <a:pt x="7337" y="7946"/>
                  <a:pt x="7342" y="7987"/>
                </a:cubicBezTo>
                <a:cubicBezTo>
                  <a:pt x="7347" y="8032"/>
                  <a:pt x="7358" y="8015"/>
                  <a:pt x="7367" y="7987"/>
                </a:cubicBezTo>
              </a:path>
              <a:path w="6351" h="1688">
                <a:moveTo>
                  <a:pt x="7938" y="7640"/>
                </a:moveTo>
                <a:cubicBezTo>
                  <a:pt x="7930" y="7610"/>
                  <a:pt x="7907" y="7565"/>
                  <a:pt x="7863" y="7590"/>
                </a:cubicBezTo>
                <a:cubicBezTo>
                  <a:pt x="7830" y="7608"/>
                  <a:pt x="7787" y="7629"/>
                  <a:pt x="7764" y="7665"/>
                </a:cubicBezTo>
                <a:cubicBezTo>
                  <a:pt x="7737" y="7707"/>
                  <a:pt x="7739" y="7720"/>
                  <a:pt x="7739" y="7764"/>
                </a:cubicBezTo>
                <a:cubicBezTo>
                  <a:pt x="7790" y="7764"/>
                  <a:pt x="7797" y="7775"/>
                  <a:pt x="7838" y="7789"/>
                </a:cubicBezTo>
                <a:cubicBezTo>
                  <a:pt x="7886" y="7805"/>
                  <a:pt x="7939" y="7808"/>
                  <a:pt x="7987" y="7838"/>
                </a:cubicBezTo>
                <a:cubicBezTo>
                  <a:pt x="8030" y="7865"/>
                  <a:pt x="8106" y="7945"/>
                  <a:pt x="8136" y="7987"/>
                </a:cubicBezTo>
                <a:cubicBezTo>
                  <a:pt x="8159" y="8020"/>
                  <a:pt x="8235" y="8089"/>
                  <a:pt x="8210" y="8136"/>
                </a:cubicBezTo>
                <a:cubicBezTo>
                  <a:pt x="8196" y="8163"/>
                  <a:pt x="8114" y="8194"/>
                  <a:pt x="8086" y="8186"/>
                </a:cubicBezTo>
                <a:cubicBezTo>
                  <a:pt x="8000" y="8163"/>
                  <a:pt x="7911" y="8140"/>
                  <a:pt x="7838" y="8086"/>
                </a:cubicBezTo>
                <a:cubicBezTo>
                  <a:pt x="7796" y="8055"/>
                  <a:pt x="7813" y="7986"/>
                  <a:pt x="7813" y="7938"/>
                </a:cubicBezTo>
              </a:path>
              <a:path w="6351" h="1688">
                <a:moveTo>
                  <a:pt x="8533" y="7640"/>
                </a:moveTo>
                <a:cubicBezTo>
                  <a:pt x="8495" y="7602"/>
                  <a:pt x="8487" y="7590"/>
                  <a:pt x="8434" y="7590"/>
                </a:cubicBezTo>
                <a:cubicBezTo>
                  <a:pt x="8393" y="7590"/>
                  <a:pt x="8369" y="7624"/>
                  <a:pt x="8384" y="7665"/>
                </a:cubicBezTo>
                <a:cubicBezTo>
                  <a:pt x="8416" y="7753"/>
                  <a:pt x="8503" y="7816"/>
                  <a:pt x="8558" y="7888"/>
                </a:cubicBezTo>
                <a:cubicBezTo>
                  <a:pt x="8611" y="7958"/>
                  <a:pt x="8658" y="8052"/>
                  <a:pt x="8682" y="8136"/>
                </a:cubicBezTo>
                <a:cubicBezTo>
                  <a:pt x="8691" y="8167"/>
                  <a:pt x="8676" y="8245"/>
                  <a:pt x="8632" y="8235"/>
                </a:cubicBezTo>
                <a:cubicBezTo>
                  <a:pt x="8579" y="8223"/>
                  <a:pt x="8541" y="8176"/>
                  <a:pt x="8508" y="8136"/>
                </a:cubicBezTo>
                <a:cubicBezTo>
                  <a:pt x="8473" y="8094"/>
                  <a:pt x="8470" y="7994"/>
                  <a:pt x="8483" y="7938"/>
                </a:cubicBezTo>
                <a:cubicBezTo>
                  <a:pt x="8508" y="7833"/>
                  <a:pt x="8600" y="7743"/>
                  <a:pt x="8632" y="7640"/>
                </a:cubicBezTo>
                <a:cubicBezTo>
                  <a:pt x="8645" y="7599"/>
                  <a:pt x="8657" y="7561"/>
                  <a:pt x="8657" y="7516"/>
                </a:cubicBezTo>
              </a:path>
              <a:path w="6351" h="1688">
                <a:moveTo>
                  <a:pt x="9277" y="8558"/>
                </a:moveTo>
                <a:cubicBezTo>
                  <a:pt x="9166" y="8558"/>
                  <a:pt x="9103" y="8530"/>
                  <a:pt x="9004" y="8508"/>
                </a:cubicBezTo>
                <a:cubicBezTo>
                  <a:pt x="8869" y="8478"/>
                  <a:pt x="8721" y="8483"/>
                  <a:pt x="8582" y="8483"/>
                </a:cubicBezTo>
                <a:cubicBezTo>
                  <a:pt x="8390" y="8483"/>
                  <a:pt x="8207" y="8420"/>
                  <a:pt x="8012" y="8409"/>
                </a:cubicBezTo>
                <a:cubicBezTo>
                  <a:pt x="7743" y="8394"/>
                  <a:pt x="7487" y="8382"/>
                  <a:pt x="7218" y="8359"/>
                </a:cubicBezTo>
                <a:cubicBezTo>
                  <a:pt x="7023" y="8342"/>
                  <a:pt x="6820" y="8312"/>
                  <a:pt x="6623" y="8334"/>
                </a:cubicBezTo>
                <a:cubicBezTo>
                  <a:pt x="6466" y="8351"/>
                  <a:pt x="6323" y="8380"/>
                  <a:pt x="6176" y="8409"/>
                </a:cubicBezTo>
                <a:cubicBezTo>
                  <a:pt x="6101" y="8424"/>
                  <a:pt x="6005" y="8409"/>
                  <a:pt x="5928" y="8409"/>
                </a:cubicBezTo>
              </a:path>
              <a:path w="6351" h="1688">
                <a:moveTo>
                  <a:pt x="6995" y="8508"/>
                </a:moveTo>
                <a:cubicBezTo>
                  <a:pt x="6995" y="8562"/>
                  <a:pt x="6990" y="8608"/>
                  <a:pt x="6970" y="8657"/>
                </a:cubicBezTo>
                <a:cubicBezTo>
                  <a:pt x="6951" y="8704"/>
                  <a:pt x="6885" y="8756"/>
                  <a:pt x="6871" y="8781"/>
                </a:cubicBezTo>
                <a:cubicBezTo>
                  <a:pt x="6871" y="8789"/>
                  <a:pt x="6871" y="8798"/>
                  <a:pt x="6871" y="8806"/>
                </a:cubicBezTo>
                <a:cubicBezTo>
                  <a:pt x="6944" y="8806"/>
                  <a:pt x="7037" y="8824"/>
                  <a:pt x="7094" y="8781"/>
                </a:cubicBezTo>
              </a:path>
              <a:path w="6351" h="1688">
                <a:moveTo>
                  <a:pt x="7144" y="8483"/>
                </a:moveTo>
                <a:cubicBezTo>
                  <a:pt x="7144" y="8589"/>
                  <a:pt x="7137" y="8679"/>
                  <a:pt x="7119" y="8781"/>
                </a:cubicBezTo>
                <a:cubicBezTo>
                  <a:pt x="7109" y="8836"/>
                  <a:pt x="7097" y="8900"/>
                  <a:pt x="7094" y="8954"/>
                </a:cubicBezTo>
                <a:cubicBezTo>
                  <a:pt x="7091" y="8995"/>
                  <a:pt x="7094" y="9038"/>
                  <a:pt x="7094" y="9079"/>
                </a:cubicBezTo>
              </a:path>
              <a:path w="6351" h="1688">
                <a:moveTo>
                  <a:pt x="7466" y="9029"/>
                </a:moveTo>
                <a:lnTo>
                  <a:pt x="7466" y="9029"/>
                </a:lnTo>
              </a:path>
              <a:path w="6351" h="1688">
                <a:moveTo>
                  <a:pt x="8062" y="8632"/>
                </a:moveTo>
                <a:cubicBezTo>
                  <a:pt x="7949" y="8632"/>
                  <a:pt x="7990" y="8621"/>
                  <a:pt x="7913" y="8582"/>
                </a:cubicBezTo>
                <a:cubicBezTo>
                  <a:pt x="7903" y="8587"/>
                  <a:pt x="7818" y="8626"/>
                  <a:pt x="7813" y="8632"/>
                </a:cubicBezTo>
                <a:cubicBezTo>
                  <a:pt x="7781" y="8671"/>
                  <a:pt x="7789" y="8757"/>
                  <a:pt x="7789" y="8806"/>
                </a:cubicBezTo>
                <a:cubicBezTo>
                  <a:pt x="7789" y="8822"/>
                  <a:pt x="7789" y="8839"/>
                  <a:pt x="7789" y="8855"/>
                </a:cubicBezTo>
                <a:cubicBezTo>
                  <a:pt x="7868" y="8855"/>
                  <a:pt x="8055" y="8819"/>
                  <a:pt x="8111" y="8880"/>
                </a:cubicBezTo>
                <a:cubicBezTo>
                  <a:pt x="8153" y="8926"/>
                  <a:pt x="8202" y="8951"/>
                  <a:pt x="8186" y="9029"/>
                </a:cubicBezTo>
                <a:cubicBezTo>
                  <a:pt x="8178" y="9068"/>
                  <a:pt x="8071" y="9141"/>
                  <a:pt x="8037" y="9153"/>
                </a:cubicBezTo>
                <a:cubicBezTo>
                  <a:pt x="7978" y="9174"/>
                  <a:pt x="7923" y="9093"/>
                  <a:pt x="7863" y="9079"/>
                </a:cubicBezTo>
                <a:cubicBezTo>
                  <a:pt x="7830" y="9079"/>
                  <a:pt x="7821" y="9071"/>
                  <a:pt x="7838" y="9029"/>
                </a:cubicBezTo>
              </a:path>
              <a:path w="6351" h="1688">
                <a:moveTo>
                  <a:pt x="9798" y="8483"/>
                </a:moveTo>
                <a:cubicBezTo>
                  <a:pt x="9755" y="8462"/>
                  <a:pt x="9757" y="8434"/>
                  <a:pt x="9699" y="8434"/>
                </a:cubicBezTo>
                <a:cubicBezTo>
                  <a:pt x="9632" y="8434"/>
                  <a:pt x="9639" y="8424"/>
                  <a:pt x="9599" y="8483"/>
                </a:cubicBezTo>
              </a:path>
              <a:path w="6351" h="1688">
                <a:moveTo>
                  <a:pt x="9773" y="8582"/>
                </a:moveTo>
                <a:cubicBezTo>
                  <a:pt x="9732" y="8582"/>
                  <a:pt x="9690" y="8582"/>
                  <a:pt x="9649" y="8582"/>
                </a:cubicBezTo>
              </a:path>
              <a:path w="6351" h="1688">
                <a:moveTo>
                  <a:pt x="10492" y="7838"/>
                </a:moveTo>
                <a:cubicBezTo>
                  <a:pt x="10486" y="7819"/>
                  <a:pt x="10449" y="7778"/>
                  <a:pt x="10418" y="7764"/>
                </a:cubicBezTo>
                <a:cubicBezTo>
                  <a:pt x="10382" y="7748"/>
                  <a:pt x="10320" y="7772"/>
                  <a:pt x="10294" y="7789"/>
                </a:cubicBezTo>
                <a:cubicBezTo>
                  <a:pt x="10280" y="7798"/>
                  <a:pt x="10197" y="7860"/>
                  <a:pt x="10195" y="7863"/>
                </a:cubicBezTo>
                <a:cubicBezTo>
                  <a:pt x="10195" y="7891"/>
                  <a:pt x="10193" y="7902"/>
                  <a:pt x="10170" y="7913"/>
                </a:cubicBezTo>
                <a:cubicBezTo>
                  <a:pt x="10203" y="7921"/>
                  <a:pt x="10264" y="7923"/>
                  <a:pt x="10294" y="7938"/>
                </a:cubicBezTo>
                <a:cubicBezTo>
                  <a:pt x="10355" y="7967"/>
                  <a:pt x="10434" y="8000"/>
                  <a:pt x="10492" y="8037"/>
                </a:cubicBezTo>
                <a:cubicBezTo>
                  <a:pt x="10535" y="8065"/>
                  <a:pt x="10602" y="8108"/>
                  <a:pt x="10616" y="8161"/>
                </a:cubicBezTo>
                <a:cubicBezTo>
                  <a:pt x="10627" y="8205"/>
                  <a:pt x="10619" y="8254"/>
                  <a:pt x="10592" y="8285"/>
                </a:cubicBezTo>
                <a:cubicBezTo>
                  <a:pt x="10558" y="8324"/>
                  <a:pt x="10469" y="8331"/>
                  <a:pt x="10418" y="8334"/>
                </a:cubicBezTo>
                <a:cubicBezTo>
                  <a:pt x="10359" y="8337"/>
                  <a:pt x="10295" y="8344"/>
                  <a:pt x="10244" y="8310"/>
                </a:cubicBezTo>
                <a:cubicBezTo>
                  <a:pt x="10206" y="8284"/>
                  <a:pt x="10159" y="8226"/>
                  <a:pt x="10145" y="8186"/>
                </a:cubicBezTo>
                <a:cubicBezTo>
                  <a:pt x="10129" y="8139"/>
                  <a:pt x="10166" y="8115"/>
                  <a:pt x="10195" y="8086"/>
                </a:cubicBezTo>
              </a:path>
              <a:path w="6351" h="1688">
                <a:moveTo>
                  <a:pt x="10840" y="8111"/>
                </a:moveTo>
                <a:cubicBezTo>
                  <a:pt x="10840" y="8168"/>
                  <a:pt x="10859" y="8207"/>
                  <a:pt x="10864" y="8260"/>
                </a:cubicBezTo>
                <a:cubicBezTo>
                  <a:pt x="10866" y="8284"/>
                  <a:pt x="10864" y="8310"/>
                  <a:pt x="10864" y="8334"/>
                </a:cubicBezTo>
              </a:path>
              <a:path w="6351" h="1688">
                <a:moveTo>
                  <a:pt x="10840" y="7913"/>
                </a:moveTo>
                <a:cubicBezTo>
                  <a:pt x="10840" y="7921"/>
                  <a:pt x="10840" y="7930"/>
                  <a:pt x="10840" y="7938"/>
                </a:cubicBezTo>
              </a:path>
              <a:path w="6351" h="1688">
                <a:moveTo>
                  <a:pt x="11088" y="8136"/>
                </a:moveTo>
                <a:cubicBezTo>
                  <a:pt x="11105" y="8177"/>
                  <a:pt x="11133" y="8220"/>
                  <a:pt x="11137" y="8260"/>
                </a:cubicBezTo>
                <a:cubicBezTo>
                  <a:pt x="11140" y="8284"/>
                  <a:pt x="11137" y="8310"/>
                  <a:pt x="11137" y="8334"/>
                </a:cubicBezTo>
                <a:cubicBezTo>
                  <a:pt x="11137" y="8290"/>
                  <a:pt x="11157" y="8268"/>
                  <a:pt x="11162" y="8235"/>
                </a:cubicBezTo>
                <a:cubicBezTo>
                  <a:pt x="11173" y="8166"/>
                  <a:pt x="11167" y="8136"/>
                  <a:pt x="11212" y="8086"/>
                </a:cubicBezTo>
                <a:cubicBezTo>
                  <a:pt x="11251" y="8043"/>
                  <a:pt x="11267" y="8061"/>
                  <a:pt x="11286" y="8086"/>
                </a:cubicBezTo>
                <a:cubicBezTo>
                  <a:pt x="11315" y="8124"/>
                  <a:pt x="11311" y="8138"/>
                  <a:pt x="11311" y="8186"/>
                </a:cubicBezTo>
                <a:cubicBezTo>
                  <a:pt x="11311" y="8245"/>
                  <a:pt x="11323" y="8284"/>
                  <a:pt x="11336" y="8310"/>
                </a:cubicBezTo>
                <a:cubicBezTo>
                  <a:pt x="11353" y="8343"/>
                  <a:pt x="11363" y="8334"/>
                  <a:pt x="11410" y="8334"/>
                </a:cubicBezTo>
                <a:cubicBezTo>
                  <a:pt x="11418" y="8334"/>
                  <a:pt x="11427" y="8334"/>
                  <a:pt x="11435" y="8334"/>
                </a:cubicBezTo>
              </a:path>
              <a:path w="6351" h="1688">
                <a:moveTo>
                  <a:pt x="11757" y="7714"/>
                </a:moveTo>
                <a:cubicBezTo>
                  <a:pt x="11757" y="7835"/>
                  <a:pt x="11749" y="7945"/>
                  <a:pt x="11733" y="8062"/>
                </a:cubicBezTo>
                <a:cubicBezTo>
                  <a:pt x="11723" y="8138"/>
                  <a:pt x="11712" y="8274"/>
                  <a:pt x="11757" y="8334"/>
                </a:cubicBezTo>
                <a:cubicBezTo>
                  <a:pt x="11794" y="8286"/>
                  <a:pt x="11782" y="8286"/>
                  <a:pt x="11782" y="8210"/>
                </a:cubicBezTo>
              </a:path>
              <a:path w="6351" h="1688">
                <a:moveTo>
                  <a:pt x="11658" y="7516"/>
                </a:moveTo>
                <a:cubicBezTo>
                  <a:pt x="11704" y="7470"/>
                  <a:pt x="11716" y="7466"/>
                  <a:pt x="11782" y="7466"/>
                </a:cubicBezTo>
                <a:cubicBezTo>
                  <a:pt x="11857" y="7466"/>
                  <a:pt x="11915" y="7508"/>
                  <a:pt x="11981" y="7541"/>
                </a:cubicBezTo>
                <a:cubicBezTo>
                  <a:pt x="12040" y="7570"/>
                  <a:pt x="12083" y="7593"/>
                  <a:pt x="12129" y="7640"/>
                </a:cubicBezTo>
                <a:cubicBezTo>
                  <a:pt x="12137" y="7648"/>
                  <a:pt x="12146" y="7657"/>
                  <a:pt x="12154" y="7665"/>
                </a:cubicBezTo>
                <a:cubicBezTo>
                  <a:pt x="12115" y="7677"/>
                  <a:pt x="12095" y="7688"/>
                  <a:pt x="12030" y="7714"/>
                </a:cubicBezTo>
                <a:cubicBezTo>
                  <a:pt x="11987" y="7731"/>
                  <a:pt x="11948" y="7759"/>
                  <a:pt x="11906" y="7764"/>
                </a:cubicBezTo>
                <a:cubicBezTo>
                  <a:pt x="11898" y="7764"/>
                  <a:pt x="11889" y="7764"/>
                  <a:pt x="11881" y="7764"/>
                </a:cubicBezTo>
                <a:cubicBezTo>
                  <a:pt x="11925" y="7731"/>
                  <a:pt x="11952" y="7728"/>
                  <a:pt x="12005" y="7764"/>
                </a:cubicBezTo>
                <a:cubicBezTo>
                  <a:pt x="12067" y="7806"/>
                  <a:pt x="12108" y="7833"/>
                  <a:pt x="12154" y="7888"/>
                </a:cubicBezTo>
                <a:cubicBezTo>
                  <a:pt x="12198" y="7940"/>
                  <a:pt x="12204" y="7969"/>
                  <a:pt x="12204" y="8037"/>
                </a:cubicBezTo>
                <a:cubicBezTo>
                  <a:pt x="12204" y="8115"/>
                  <a:pt x="12160" y="8141"/>
                  <a:pt x="12105" y="8186"/>
                </a:cubicBezTo>
                <a:cubicBezTo>
                  <a:pt x="12070" y="8215"/>
                  <a:pt x="11978" y="8227"/>
                  <a:pt x="11931" y="8210"/>
                </a:cubicBezTo>
                <a:cubicBezTo>
                  <a:pt x="11883" y="8192"/>
                  <a:pt x="11833" y="8123"/>
                  <a:pt x="11807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5200" y="2303640"/>
            <a:ext cx="554040" cy="393480"/>
          </a:xfrm>
          <a:custGeom>
            <a:avLst/>
            <a:gdLst/>
            <a:ahLst/>
            <a:rect l="l" t="t" r="r" b="b"/>
            <a:pathLst>
              <a:path w="1539" h="1092">
                <a:moveTo>
                  <a:pt x="16321" y="7045"/>
                </a:moveTo>
                <a:cubicBezTo>
                  <a:pt x="16321" y="7003"/>
                  <a:pt x="16321" y="6995"/>
                  <a:pt x="16321" y="6970"/>
                </a:cubicBezTo>
                <a:cubicBezTo>
                  <a:pt x="16361" y="6983"/>
                  <a:pt x="16346" y="7018"/>
                  <a:pt x="16346" y="7069"/>
                </a:cubicBezTo>
                <a:cubicBezTo>
                  <a:pt x="16346" y="7159"/>
                  <a:pt x="16324" y="7230"/>
                  <a:pt x="16321" y="7317"/>
                </a:cubicBezTo>
                <a:cubicBezTo>
                  <a:pt x="16321" y="7327"/>
                  <a:pt x="16321" y="7534"/>
                  <a:pt x="16321" y="7466"/>
                </a:cubicBezTo>
              </a:path>
              <a:path w="1539" h="1092">
                <a:moveTo>
                  <a:pt x="16694" y="6970"/>
                </a:moveTo>
                <a:cubicBezTo>
                  <a:pt x="16653" y="6915"/>
                  <a:pt x="16677" y="6902"/>
                  <a:pt x="16694" y="6846"/>
                </a:cubicBezTo>
                <a:cubicBezTo>
                  <a:pt x="16714" y="6780"/>
                  <a:pt x="16729" y="6766"/>
                  <a:pt x="16793" y="6747"/>
                </a:cubicBezTo>
                <a:cubicBezTo>
                  <a:pt x="16895" y="6716"/>
                  <a:pt x="16936" y="6882"/>
                  <a:pt x="16942" y="6945"/>
                </a:cubicBezTo>
                <a:cubicBezTo>
                  <a:pt x="16948" y="7006"/>
                  <a:pt x="16917" y="7072"/>
                  <a:pt x="16892" y="7119"/>
                </a:cubicBezTo>
                <a:cubicBezTo>
                  <a:pt x="16874" y="7153"/>
                  <a:pt x="16852" y="7251"/>
                  <a:pt x="16818" y="7268"/>
                </a:cubicBezTo>
                <a:cubicBezTo>
                  <a:pt x="16783" y="7286"/>
                  <a:pt x="16741" y="7261"/>
                  <a:pt x="16718" y="7243"/>
                </a:cubicBezTo>
                <a:cubicBezTo>
                  <a:pt x="16729" y="7189"/>
                  <a:pt x="16738" y="7118"/>
                  <a:pt x="16768" y="7069"/>
                </a:cubicBezTo>
                <a:cubicBezTo>
                  <a:pt x="16785" y="7043"/>
                  <a:pt x="16831" y="7000"/>
                  <a:pt x="16867" y="7020"/>
                </a:cubicBezTo>
                <a:cubicBezTo>
                  <a:pt x="16925" y="7052"/>
                  <a:pt x="16950" y="7063"/>
                  <a:pt x="16966" y="7144"/>
                </a:cubicBezTo>
                <a:cubicBezTo>
                  <a:pt x="16978" y="7206"/>
                  <a:pt x="16957" y="7193"/>
                  <a:pt x="17016" y="7193"/>
                </a:cubicBezTo>
              </a:path>
              <a:path w="1539" h="1092">
                <a:moveTo>
                  <a:pt x="17239" y="6970"/>
                </a:moveTo>
                <a:cubicBezTo>
                  <a:pt x="17231" y="6970"/>
                  <a:pt x="17222" y="6970"/>
                  <a:pt x="17214" y="6970"/>
                </a:cubicBezTo>
              </a:path>
              <a:path w="1539" h="1092">
                <a:moveTo>
                  <a:pt x="17537" y="6548"/>
                </a:moveTo>
                <a:cubicBezTo>
                  <a:pt x="17497" y="6519"/>
                  <a:pt x="17459" y="6520"/>
                  <a:pt x="17413" y="6548"/>
                </a:cubicBezTo>
                <a:cubicBezTo>
                  <a:pt x="17381" y="6567"/>
                  <a:pt x="17371" y="6592"/>
                  <a:pt x="17363" y="6623"/>
                </a:cubicBezTo>
                <a:cubicBezTo>
                  <a:pt x="17403" y="6662"/>
                  <a:pt x="17447" y="6685"/>
                  <a:pt x="17487" y="6722"/>
                </a:cubicBezTo>
                <a:cubicBezTo>
                  <a:pt x="17548" y="6779"/>
                  <a:pt x="17595" y="6772"/>
                  <a:pt x="17661" y="6821"/>
                </a:cubicBezTo>
                <a:cubicBezTo>
                  <a:pt x="17688" y="6841"/>
                  <a:pt x="17729" y="6891"/>
                  <a:pt x="17735" y="6921"/>
                </a:cubicBezTo>
                <a:cubicBezTo>
                  <a:pt x="17746" y="6973"/>
                  <a:pt x="17729" y="6996"/>
                  <a:pt x="17711" y="7020"/>
                </a:cubicBezTo>
                <a:cubicBezTo>
                  <a:pt x="17677" y="7065"/>
                  <a:pt x="17613" y="7045"/>
                  <a:pt x="17562" y="7045"/>
                </a:cubicBezTo>
                <a:cubicBezTo>
                  <a:pt x="17521" y="7045"/>
                  <a:pt x="17549" y="7032"/>
                  <a:pt x="17512" y="7020"/>
                </a:cubicBezTo>
                <a:cubicBezTo>
                  <a:pt x="17522" y="6972"/>
                  <a:pt x="17536" y="6915"/>
                  <a:pt x="17562" y="6871"/>
                </a:cubicBezTo>
                <a:cubicBezTo>
                  <a:pt x="17608" y="6792"/>
                  <a:pt x="17673" y="6714"/>
                  <a:pt x="17735" y="6648"/>
                </a:cubicBezTo>
                <a:cubicBezTo>
                  <a:pt x="17778" y="6602"/>
                  <a:pt x="17836" y="6533"/>
                  <a:pt x="17859" y="6474"/>
                </a:cubicBezTo>
                <a:cubicBezTo>
                  <a:pt x="17866" y="6457"/>
                  <a:pt x="17859" y="6419"/>
                  <a:pt x="17859" y="6400"/>
                </a:cubicBezTo>
                <a:cubicBezTo>
                  <a:pt x="17799" y="6412"/>
                  <a:pt x="17762" y="6443"/>
                  <a:pt x="17711" y="6474"/>
                </a:cubicBezTo>
                <a:cubicBezTo>
                  <a:pt x="17647" y="6513"/>
                  <a:pt x="17615" y="6564"/>
                  <a:pt x="17562" y="66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92920" y="2276640"/>
            <a:ext cx="1339920" cy="366480"/>
          </a:xfrm>
          <a:custGeom>
            <a:avLst/>
            <a:gdLst/>
            <a:ahLst/>
            <a:rect l="l" t="t" r="r" b="b"/>
            <a:pathLst>
              <a:path w="3722" h="1018">
                <a:moveTo>
                  <a:pt x="19348" y="6672"/>
                </a:moveTo>
                <a:cubicBezTo>
                  <a:pt x="19301" y="6684"/>
                  <a:pt x="19239" y="6740"/>
                  <a:pt x="19199" y="6772"/>
                </a:cubicBezTo>
                <a:cubicBezTo>
                  <a:pt x="19159" y="6804"/>
                  <a:pt x="19118" y="6847"/>
                  <a:pt x="19174" y="6896"/>
                </a:cubicBezTo>
                <a:cubicBezTo>
                  <a:pt x="19181" y="6902"/>
                  <a:pt x="19263" y="6920"/>
                  <a:pt x="19273" y="6921"/>
                </a:cubicBezTo>
                <a:cubicBezTo>
                  <a:pt x="19335" y="6925"/>
                  <a:pt x="19418" y="6936"/>
                  <a:pt x="19472" y="6970"/>
                </a:cubicBezTo>
                <a:cubicBezTo>
                  <a:pt x="19510" y="6993"/>
                  <a:pt x="19536" y="7011"/>
                  <a:pt x="19571" y="7045"/>
                </a:cubicBezTo>
                <a:cubicBezTo>
                  <a:pt x="19618" y="7091"/>
                  <a:pt x="19580" y="7144"/>
                  <a:pt x="19546" y="7193"/>
                </a:cubicBezTo>
                <a:cubicBezTo>
                  <a:pt x="19500" y="7259"/>
                  <a:pt x="19485" y="7252"/>
                  <a:pt x="19422" y="7293"/>
                </a:cubicBezTo>
                <a:cubicBezTo>
                  <a:pt x="19382" y="7319"/>
                  <a:pt x="19324" y="7337"/>
                  <a:pt x="19273" y="7342"/>
                </a:cubicBezTo>
                <a:cubicBezTo>
                  <a:pt x="19239" y="7345"/>
                  <a:pt x="19202" y="7317"/>
                  <a:pt x="19199" y="7293"/>
                </a:cubicBezTo>
                <a:cubicBezTo>
                  <a:pt x="19199" y="7285"/>
                  <a:pt x="19199" y="7276"/>
                  <a:pt x="19199" y="7268"/>
                </a:cubicBezTo>
              </a:path>
              <a:path w="3722" h="1018">
                <a:moveTo>
                  <a:pt x="19794" y="6747"/>
                </a:moveTo>
                <a:cubicBezTo>
                  <a:pt x="19804" y="6795"/>
                  <a:pt x="19830" y="6831"/>
                  <a:pt x="19844" y="6871"/>
                </a:cubicBezTo>
                <a:cubicBezTo>
                  <a:pt x="19868" y="6942"/>
                  <a:pt x="19876" y="7023"/>
                  <a:pt x="19893" y="7094"/>
                </a:cubicBezTo>
                <a:cubicBezTo>
                  <a:pt x="19899" y="7120"/>
                  <a:pt x="19893" y="7168"/>
                  <a:pt x="19893" y="7193"/>
                </a:cubicBezTo>
                <a:cubicBezTo>
                  <a:pt x="19925" y="7151"/>
                  <a:pt x="19918" y="7154"/>
                  <a:pt x="19918" y="7094"/>
                </a:cubicBezTo>
              </a:path>
              <a:path w="3722" h="1018">
                <a:moveTo>
                  <a:pt x="19745" y="6424"/>
                </a:moveTo>
                <a:lnTo>
                  <a:pt x="19745" y="6424"/>
                </a:lnTo>
              </a:path>
              <a:path w="3722" h="1018">
                <a:moveTo>
                  <a:pt x="20166" y="6747"/>
                </a:moveTo>
                <a:cubicBezTo>
                  <a:pt x="20176" y="6777"/>
                  <a:pt x="20187" y="6788"/>
                  <a:pt x="20216" y="6821"/>
                </a:cubicBezTo>
                <a:cubicBezTo>
                  <a:pt x="20252" y="6862"/>
                  <a:pt x="20294" y="6919"/>
                  <a:pt x="20315" y="6970"/>
                </a:cubicBezTo>
                <a:cubicBezTo>
                  <a:pt x="20340" y="7030"/>
                  <a:pt x="20340" y="7060"/>
                  <a:pt x="20340" y="7119"/>
                </a:cubicBezTo>
                <a:cubicBezTo>
                  <a:pt x="20340" y="7066"/>
                  <a:pt x="20332" y="7017"/>
                  <a:pt x="20315" y="6970"/>
                </a:cubicBezTo>
                <a:cubicBezTo>
                  <a:pt x="20294" y="6912"/>
                  <a:pt x="20272" y="6837"/>
                  <a:pt x="20290" y="6772"/>
                </a:cubicBezTo>
                <a:cubicBezTo>
                  <a:pt x="20303" y="6726"/>
                  <a:pt x="20323" y="6675"/>
                  <a:pt x="20365" y="6648"/>
                </a:cubicBezTo>
                <a:cubicBezTo>
                  <a:pt x="20419" y="6613"/>
                  <a:pt x="20454" y="6616"/>
                  <a:pt x="20489" y="6672"/>
                </a:cubicBezTo>
                <a:cubicBezTo>
                  <a:pt x="20533" y="6741"/>
                  <a:pt x="20556" y="6822"/>
                  <a:pt x="20588" y="6896"/>
                </a:cubicBezTo>
                <a:cubicBezTo>
                  <a:pt x="20618" y="6966"/>
                  <a:pt x="20614" y="7030"/>
                  <a:pt x="20638" y="7094"/>
                </a:cubicBezTo>
                <a:cubicBezTo>
                  <a:pt x="20640" y="7101"/>
                  <a:pt x="20670" y="7224"/>
                  <a:pt x="20687" y="7218"/>
                </a:cubicBezTo>
                <a:cubicBezTo>
                  <a:pt x="20687" y="7193"/>
                  <a:pt x="20687" y="7185"/>
                  <a:pt x="20687" y="7169"/>
                </a:cubicBezTo>
              </a:path>
              <a:path w="3722" h="1018">
                <a:moveTo>
                  <a:pt x="21109" y="6474"/>
                </a:moveTo>
                <a:cubicBezTo>
                  <a:pt x="21102" y="6500"/>
                  <a:pt x="21066" y="6541"/>
                  <a:pt x="21084" y="6573"/>
                </a:cubicBezTo>
                <a:cubicBezTo>
                  <a:pt x="21110" y="6620"/>
                  <a:pt x="21192" y="6609"/>
                  <a:pt x="21233" y="6623"/>
                </a:cubicBezTo>
                <a:cubicBezTo>
                  <a:pt x="21297" y="6645"/>
                  <a:pt x="21350" y="6655"/>
                  <a:pt x="21406" y="6697"/>
                </a:cubicBezTo>
                <a:cubicBezTo>
                  <a:pt x="21424" y="6711"/>
                  <a:pt x="21463" y="6773"/>
                  <a:pt x="21456" y="6796"/>
                </a:cubicBezTo>
                <a:cubicBezTo>
                  <a:pt x="21447" y="6827"/>
                  <a:pt x="21381" y="6925"/>
                  <a:pt x="21357" y="6945"/>
                </a:cubicBezTo>
                <a:cubicBezTo>
                  <a:pt x="21326" y="6971"/>
                  <a:pt x="21246" y="7016"/>
                  <a:pt x="21208" y="7020"/>
                </a:cubicBezTo>
                <a:cubicBezTo>
                  <a:pt x="21144" y="7027"/>
                  <a:pt x="21158" y="6964"/>
                  <a:pt x="21158" y="6921"/>
                </a:cubicBezTo>
              </a:path>
              <a:path w="3722" h="1018">
                <a:moveTo>
                  <a:pt x="21258" y="6474"/>
                </a:moveTo>
                <a:cubicBezTo>
                  <a:pt x="21269" y="6428"/>
                  <a:pt x="21304" y="6409"/>
                  <a:pt x="21357" y="6400"/>
                </a:cubicBezTo>
                <a:cubicBezTo>
                  <a:pt x="21424" y="6388"/>
                  <a:pt x="21489" y="6361"/>
                  <a:pt x="21555" y="6350"/>
                </a:cubicBezTo>
                <a:cubicBezTo>
                  <a:pt x="21597" y="6350"/>
                  <a:pt x="21605" y="6350"/>
                  <a:pt x="21630" y="6350"/>
                </a:cubicBezTo>
              </a:path>
              <a:path w="3722" h="1018">
                <a:moveTo>
                  <a:pt x="22027" y="6325"/>
                </a:moveTo>
                <a:cubicBezTo>
                  <a:pt x="21962" y="6325"/>
                  <a:pt x="21931" y="6335"/>
                  <a:pt x="21878" y="6375"/>
                </a:cubicBezTo>
                <a:cubicBezTo>
                  <a:pt x="21853" y="6394"/>
                  <a:pt x="21830" y="6444"/>
                  <a:pt x="21828" y="6474"/>
                </a:cubicBezTo>
                <a:cubicBezTo>
                  <a:pt x="21822" y="6553"/>
                  <a:pt x="21843" y="6600"/>
                  <a:pt x="21903" y="6648"/>
                </a:cubicBezTo>
                <a:cubicBezTo>
                  <a:pt x="21967" y="6699"/>
                  <a:pt x="22052" y="6735"/>
                  <a:pt x="22101" y="6796"/>
                </a:cubicBezTo>
                <a:cubicBezTo>
                  <a:pt x="22109" y="6813"/>
                  <a:pt x="22118" y="6829"/>
                  <a:pt x="22126" y="6846"/>
                </a:cubicBezTo>
                <a:cubicBezTo>
                  <a:pt x="22088" y="6865"/>
                  <a:pt x="22079" y="6917"/>
                  <a:pt x="22027" y="6921"/>
                </a:cubicBezTo>
                <a:cubicBezTo>
                  <a:pt x="21938" y="6927"/>
                  <a:pt x="21899" y="6914"/>
                  <a:pt x="21828" y="6871"/>
                </a:cubicBezTo>
                <a:cubicBezTo>
                  <a:pt x="21741" y="6818"/>
                  <a:pt x="21783" y="6797"/>
                  <a:pt x="21828" y="6722"/>
                </a:cubicBezTo>
                <a:cubicBezTo>
                  <a:pt x="21881" y="6634"/>
                  <a:pt x="21966" y="6603"/>
                  <a:pt x="22027" y="6524"/>
                </a:cubicBezTo>
                <a:cubicBezTo>
                  <a:pt x="22057" y="6484"/>
                  <a:pt x="22096" y="6424"/>
                  <a:pt x="22101" y="6375"/>
                </a:cubicBezTo>
                <a:cubicBezTo>
                  <a:pt x="22104" y="6348"/>
                  <a:pt x="22074" y="6328"/>
                  <a:pt x="22051" y="6325"/>
                </a:cubicBezTo>
                <a:cubicBezTo>
                  <a:pt x="22016" y="6325"/>
                  <a:pt x="21999" y="6330"/>
                  <a:pt x="21977" y="6350"/>
                </a:cubicBezTo>
              </a:path>
              <a:path w="3722" h="1018">
                <a:moveTo>
                  <a:pt x="22671" y="6871"/>
                </a:moveTo>
                <a:cubicBezTo>
                  <a:pt x="22719" y="6871"/>
                  <a:pt x="22750" y="6851"/>
                  <a:pt x="22796" y="6846"/>
                </a:cubicBezTo>
                <a:cubicBezTo>
                  <a:pt x="22842" y="6841"/>
                  <a:pt x="22853" y="6794"/>
                  <a:pt x="22870" y="6846"/>
                </a:cubicBezTo>
              </a:path>
              <a:path w="3722" h="1018">
                <a:moveTo>
                  <a:pt x="22771" y="7144"/>
                </a:moveTo>
                <a:cubicBezTo>
                  <a:pt x="22832" y="7144"/>
                  <a:pt x="22848" y="7153"/>
                  <a:pt x="22870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05240" y="1419120"/>
            <a:ext cx="312840" cy="312840"/>
          </a:xfrm>
          <a:custGeom>
            <a:avLst/>
            <a:gdLst/>
            <a:ahLst/>
            <a:rect l="l" t="t" r="r" b="b"/>
            <a:pathLst>
              <a:path w="869" h="869">
                <a:moveTo>
                  <a:pt x="14560" y="4217"/>
                </a:moveTo>
                <a:cubicBezTo>
                  <a:pt x="14543" y="4213"/>
                  <a:pt x="14489" y="4194"/>
                  <a:pt x="14511" y="4291"/>
                </a:cubicBezTo>
                <a:cubicBezTo>
                  <a:pt x="14531" y="4379"/>
                  <a:pt x="14548" y="4473"/>
                  <a:pt x="14560" y="4564"/>
                </a:cubicBezTo>
                <a:cubicBezTo>
                  <a:pt x="14573" y="4663"/>
                  <a:pt x="14601" y="4700"/>
                  <a:pt x="14635" y="4787"/>
                </a:cubicBezTo>
                <a:cubicBezTo>
                  <a:pt x="14635" y="4795"/>
                  <a:pt x="14635" y="4804"/>
                  <a:pt x="14635" y="4812"/>
                </a:cubicBezTo>
                <a:cubicBezTo>
                  <a:pt x="14605" y="4768"/>
                  <a:pt x="14586" y="4716"/>
                  <a:pt x="14560" y="4663"/>
                </a:cubicBezTo>
                <a:cubicBezTo>
                  <a:pt x="14522" y="4587"/>
                  <a:pt x="14480" y="4474"/>
                  <a:pt x="14461" y="4390"/>
                </a:cubicBezTo>
                <a:cubicBezTo>
                  <a:pt x="14445" y="4317"/>
                  <a:pt x="14448" y="4179"/>
                  <a:pt x="14486" y="4118"/>
                </a:cubicBezTo>
                <a:cubicBezTo>
                  <a:pt x="14522" y="4060"/>
                  <a:pt x="14549" y="4026"/>
                  <a:pt x="14610" y="3994"/>
                </a:cubicBezTo>
                <a:cubicBezTo>
                  <a:pt x="14658" y="3969"/>
                  <a:pt x="14754" y="3935"/>
                  <a:pt x="14808" y="3944"/>
                </a:cubicBezTo>
                <a:cubicBezTo>
                  <a:pt x="14876" y="3956"/>
                  <a:pt x="14876" y="3979"/>
                  <a:pt x="14908" y="4018"/>
                </a:cubicBezTo>
                <a:cubicBezTo>
                  <a:pt x="14927" y="4041"/>
                  <a:pt x="14949" y="4085"/>
                  <a:pt x="14932" y="4118"/>
                </a:cubicBezTo>
                <a:cubicBezTo>
                  <a:pt x="14909" y="4164"/>
                  <a:pt x="14826" y="4217"/>
                  <a:pt x="14784" y="4242"/>
                </a:cubicBezTo>
                <a:cubicBezTo>
                  <a:pt x="14739" y="4268"/>
                  <a:pt x="14723" y="4266"/>
                  <a:pt x="14684" y="4291"/>
                </a:cubicBezTo>
                <a:cubicBezTo>
                  <a:pt x="14740" y="4325"/>
                  <a:pt x="14787" y="4316"/>
                  <a:pt x="14858" y="4316"/>
                </a:cubicBezTo>
                <a:cubicBezTo>
                  <a:pt x="14976" y="4316"/>
                  <a:pt x="15119" y="4294"/>
                  <a:pt x="15230" y="4341"/>
                </a:cubicBezTo>
                <a:cubicBezTo>
                  <a:pt x="15264" y="4355"/>
                  <a:pt x="15291" y="4402"/>
                  <a:pt x="15304" y="4415"/>
                </a:cubicBezTo>
                <a:cubicBezTo>
                  <a:pt x="15328" y="4439"/>
                  <a:pt x="15332" y="4442"/>
                  <a:pt x="15304" y="4490"/>
                </a:cubicBezTo>
                <a:cubicBezTo>
                  <a:pt x="15263" y="4561"/>
                  <a:pt x="15200" y="4618"/>
                  <a:pt x="15131" y="4663"/>
                </a:cubicBezTo>
                <a:cubicBezTo>
                  <a:pt x="15058" y="4710"/>
                  <a:pt x="15001" y="4686"/>
                  <a:pt x="14932" y="4713"/>
                </a:cubicBezTo>
                <a:cubicBezTo>
                  <a:pt x="14876" y="4735"/>
                  <a:pt x="14821" y="4721"/>
                  <a:pt x="14759" y="4738"/>
                </a:cubicBezTo>
                <a:cubicBezTo>
                  <a:pt x="14710" y="4751"/>
                  <a:pt x="14686" y="4758"/>
                  <a:pt x="14635" y="47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72200" y="1285920"/>
            <a:ext cx="652680" cy="196920"/>
          </a:xfrm>
          <a:custGeom>
            <a:avLst/>
            <a:gdLst/>
            <a:ahLst/>
            <a:rect l="l" t="t" r="r" b="b"/>
            <a:pathLst>
              <a:path w="1812" h="547">
                <a:moveTo>
                  <a:pt x="19670" y="3870"/>
                </a:moveTo>
                <a:cubicBezTo>
                  <a:pt x="19670" y="3799"/>
                  <a:pt x="19674" y="3913"/>
                  <a:pt x="19670" y="3919"/>
                </a:cubicBezTo>
                <a:cubicBezTo>
                  <a:pt x="19662" y="3927"/>
                  <a:pt x="19653" y="3936"/>
                  <a:pt x="19645" y="3944"/>
                </a:cubicBezTo>
                <a:cubicBezTo>
                  <a:pt x="19680" y="3932"/>
                  <a:pt x="19669" y="3900"/>
                  <a:pt x="19720" y="3894"/>
                </a:cubicBezTo>
                <a:cubicBezTo>
                  <a:pt x="19772" y="3888"/>
                  <a:pt x="19804" y="3907"/>
                  <a:pt x="19844" y="3919"/>
                </a:cubicBezTo>
                <a:cubicBezTo>
                  <a:pt x="19893" y="3934"/>
                  <a:pt x="19893" y="3942"/>
                  <a:pt x="19893" y="3994"/>
                </a:cubicBezTo>
                <a:cubicBezTo>
                  <a:pt x="19893" y="4028"/>
                  <a:pt x="19887" y="4055"/>
                  <a:pt x="19869" y="4068"/>
                </a:cubicBezTo>
                <a:cubicBezTo>
                  <a:pt x="19826" y="4099"/>
                  <a:pt x="19796" y="4118"/>
                  <a:pt x="19745" y="4118"/>
                </a:cubicBezTo>
              </a:path>
              <a:path w="1812" h="547">
                <a:moveTo>
                  <a:pt x="19819" y="3770"/>
                </a:moveTo>
                <a:cubicBezTo>
                  <a:pt x="19860" y="3751"/>
                  <a:pt x="19866" y="3743"/>
                  <a:pt x="19893" y="3746"/>
                </a:cubicBezTo>
              </a:path>
              <a:path w="1812" h="547">
                <a:moveTo>
                  <a:pt x="20265" y="3721"/>
                </a:moveTo>
                <a:cubicBezTo>
                  <a:pt x="20257" y="3812"/>
                  <a:pt x="20245" y="3837"/>
                  <a:pt x="20265" y="3919"/>
                </a:cubicBezTo>
                <a:cubicBezTo>
                  <a:pt x="20272" y="3947"/>
                  <a:pt x="20304" y="4008"/>
                  <a:pt x="20340" y="4018"/>
                </a:cubicBezTo>
                <a:cubicBezTo>
                  <a:pt x="20386" y="4031"/>
                  <a:pt x="20456" y="4021"/>
                  <a:pt x="20489" y="3994"/>
                </a:cubicBezTo>
                <a:cubicBezTo>
                  <a:pt x="20527" y="3964"/>
                  <a:pt x="20555" y="3909"/>
                  <a:pt x="20563" y="3870"/>
                </a:cubicBezTo>
                <a:cubicBezTo>
                  <a:pt x="20576" y="3805"/>
                  <a:pt x="20554" y="3770"/>
                  <a:pt x="20538" y="3721"/>
                </a:cubicBezTo>
                <a:cubicBezTo>
                  <a:pt x="20538" y="3696"/>
                  <a:pt x="20538" y="3688"/>
                  <a:pt x="20513" y="3696"/>
                </a:cubicBezTo>
                <a:cubicBezTo>
                  <a:pt x="20472" y="3710"/>
                  <a:pt x="20470" y="3733"/>
                  <a:pt x="20489" y="3770"/>
                </a:cubicBezTo>
              </a:path>
              <a:path w="1812" h="547">
                <a:moveTo>
                  <a:pt x="20910" y="3919"/>
                </a:moveTo>
                <a:lnTo>
                  <a:pt x="20910" y="3919"/>
                </a:lnTo>
              </a:path>
              <a:path w="1812" h="547">
                <a:moveTo>
                  <a:pt x="21034" y="3646"/>
                </a:moveTo>
                <a:cubicBezTo>
                  <a:pt x="21065" y="3615"/>
                  <a:pt x="21104" y="3553"/>
                  <a:pt x="21158" y="3572"/>
                </a:cubicBezTo>
                <a:cubicBezTo>
                  <a:pt x="21202" y="3588"/>
                  <a:pt x="21275" y="3648"/>
                  <a:pt x="21282" y="3696"/>
                </a:cubicBezTo>
                <a:cubicBezTo>
                  <a:pt x="21288" y="3736"/>
                  <a:pt x="21284" y="3869"/>
                  <a:pt x="21233" y="3894"/>
                </a:cubicBezTo>
                <a:cubicBezTo>
                  <a:pt x="21193" y="3913"/>
                  <a:pt x="21162" y="3879"/>
                  <a:pt x="21134" y="3870"/>
                </a:cubicBezTo>
                <a:cubicBezTo>
                  <a:pt x="21105" y="3861"/>
                  <a:pt x="21059" y="3841"/>
                  <a:pt x="21084" y="3795"/>
                </a:cubicBezTo>
                <a:cubicBezTo>
                  <a:pt x="21117" y="3736"/>
                  <a:pt x="21215" y="3776"/>
                  <a:pt x="21258" y="3795"/>
                </a:cubicBezTo>
                <a:cubicBezTo>
                  <a:pt x="21305" y="3816"/>
                  <a:pt x="21382" y="3896"/>
                  <a:pt x="21406" y="3944"/>
                </a:cubicBezTo>
                <a:cubicBezTo>
                  <a:pt x="21431" y="4018"/>
                  <a:pt x="21440" y="4043"/>
                  <a:pt x="21456" y="40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1840" y="2286000"/>
            <a:ext cx="2500200" cy="1785960"/>
          </a:xfrm>
          <a:custGeom>
            <a:avLst/>
            <a:gdLst/>
            <a:ahLst/>
            <a:rect l="l" t="t" r="r" b="b"/>
            <a:pathLst>
              <a:path w="6947" h="4962">
                <a:moveTo>
                  <a:pt x="9599" y="10567"/>
                </a:moveTo>
                <a:cubicBezTo>
                  <a:pt x="9245" y="10567"/>
                  <a:pt x="8904" y="10554"/>
                  <a:pt x="8558" y="10517"/>
                </a:cubicBezTo>
                <a:cubicBezTo>
                  <a:pt x="8324" y="10492"/>
                  <a:pt x="8073" y="10495"/>
                  <a:pt x="7838" y="10492"/>
                </a:cubicBezTo>
                <a:cubicBezTo>
                  <a:pt x="7454" y="10487"/>
                  <a:pt x="7076" y="10467"/>
                  <a:pt x="6697" y="10443"/>
                </a:cubicBezTo>
                <a:cubicBezTo>
                  <a:pt x="6394" y="10424"/>
                  <a:pt x="6083" y="10422"/>
                  <a:pt x="5779" y="10418"/>
                </a:cubicBezTo>
                <a:cubicBezTo>
                  <a:pt x="5504" y="10415"/>
                  <a:pt x="5235" y="10439"/>
                  <a:pt x="4961" y="10443"/>
                </a:cubicBezTo>
                <a:cubicBezTo>
                  <a:pt x="4735" y="10446"/>
                  <a:pt x="4536" y="10482"/>
                  <a:pt x="4316" y="10492"/>
                </a:cubicBezTo>
                <a:cubicBezTo>
                  <a:pt x="4208" y="10497"/>
                  <a:pt x="4095" y="10509"/>
                  <a:pt x="3994" y="10517"/>
                </a:cubicBezTo>
                <a:cubicBezTo>
                  <a:pt x="3875" y="10526"/>
                  <a:pt x="3957" y="10523"/>
                  <a:pt x="3894" y="10567"/>
                </a:cubicBezTo>
              </a:path>
              <a:path w="6947" h="4962">
                <a:moveTo>
                  <a:pt x="10368" y="6573"/>
                </a:moveTo>
                <a:cubicBezTo>
                  <a:pt x="10338" y="6474"/>
                  <a:pt x="10361" y="6474"/>
                  <a:pt x="10244" y="6449"/>
                </a:cubicBezTo>
                <a:cubicBezTo>
                  <a:pt x="10078" y="6414"/>
                  <a:pt x="9887" y="6466"/>
                  <a:pt x="9723" y="6474"/>
                </a:cubicBezTo>
                <a:cubicBezTo>
                  <a:pt x="9458" y="6488"/>
                  <a:pt x="9238" y="6547"/>
                  <a:pt x="8979" y="6598"/>
                </a:cubicBezTo>
                <a:cubicBezTo>
                  <a:pt x="8753" y="6643"/>
                  <a:pt x="8535" y="6733"/>
                  <a:pt x="8310" y="6772"/>
                </a:cubicBezTo>
                <a:cubicBezTo>
                  <a:pt x="8293" y="6772"/>
                  <a:pt x="8277" y="6772"/>
                  <a:pt x="8260" y="6772"/>
                </a:cubicBezTo>
                <a:cubicBezTo>
                  <a:pt x="8362" y="6729"/>
                  <a:pt x="8445" y="6702"/>
                  <a:pt x="8558" y="6672"/>
                </a:cubicBezTo>
                <a:cubicBezTo>
                  <a:pt x="8830" y="6599"/>
                  <a:pt x="9119" y="6562"/>
                  <a:pt x="9401" y="6548"/>
                </a:cubicBezTo>
                <a:cubicBezTo>
                  <a:pt x="9709" y="6533"/>
                  <a:pt x="10013" y="6515"/>
                  <a:pt x="10319" y="6573"/>
                </a:cubicBezTo>
                <a:cubicBezTo>
                  <a:pt x="10493" y="6606"/>
                  <a:pt x="10666" y="6645"/>
                  <a:pt x="10840" y="6672"/>
                </a:cubicBezTo>
                <a:cubicBezTo>
                  <a:pt x="10697" y="6665"/>
                  <a:pt x="10560" y="6633"/>
                  <a:pt x="10418" y="6623"/>
                </a:cubicBezTo>
                <a:cubicBezTo>
                  <a:pt x="10054" y="6598"/>
                  <a:pt x="9692" y="6552"/>
                  <a:pt x="9327" y="6548"/>
                </a:cubicBezTo>
                <a:cubicBezTo>
                  <a:pt x="8917" y="6543"/>
                  <a:pt x="8456" y="6596"/>
                  <a:pt x="8111" y="6846"/>
                </a:cubicBezTo>
                <a:cubicBezTo>
                  <a:pt x="8031" y="6904"/>
                  <a:pt x="7959" y="6998"/>
                  <a:pt x="7888" y="7069"/>
                </a:cubicBezTo>
                <a:cubicBezTo>
                  <a:pt x="7881" y="7161"/>
                  <a:pt x="7848" y="7227"/>
                  <a:pt x="7987" y="7268"/>
                </a:cubicBezTo>
                <a:cubicBezTo>
                  <a:pt x="8209" y="7333"/>
                  <a:pt x="8503" y="7337"/>
                  <a:pt x="8731" y="7293"/>
                </a:cubicBezTo>
                <a:cubicBezTo>
                  <a:pt x="8964" y="7248"/>
                  <a:pt x="9238" y="7147"/>
                  <a:pt x="9451" y="7045"/>
                </a:cubicBezTo>
                <a:cubicBezTo>
                  <a:pt x="9693" y="6929"/>
                  <a:pt x="9891" y="6768"/>
                  <a:pt x="10096" y="6598"/>
                </a:cubicBezTo>
              </a:path>
              <a:path w="6947" h="4962">
                <a:moveTo>
                  <a:pt x="10592" y="6400"/>
                </a:moveTo>
                <a:cubicBezTo>
                  <a:pt x="10470" y="6493"/>
                  <a:pt x="10345" y="6521"/>
                  <a:pt x="10195" y="6573"/>
                </a:cubicBezTo>
                <a:cubicBezTo>
                  <a:pt x="9951" y="6658"/>
                  <a:pt x="9698" y="6719"/>
                  <a:pt x="9451" y="6796"/>
                </a:cubicBezTo>
                <a:cubicBezTo>
                  <a:pt x="9139" y="6893"/>
                  <a:pt x="8810" y="6929"/>
                  <a:pt x="8483" y="6945"/>
                </a:cubicBezTo>
                <a:cubicBezTo>
                  <a:pt x="8202" y="6959"/>
                  <a:pt x="7800" y="6940"/>
                  <a:pt x="7565" y="6772"/>
                </a:cubicBezTo>
                <a:cubicBezTo>
                  <a:pt x="7367" y="6630"/>
                  <a:pt x="7468" y="6679"/>
                  <a:pt x="7441" y="6548"/>
                </a:cubicBezTo>
                <a:cubicBezTo>
                  <a:pt x="7564" y="6511"/>
                  <a:pt x="7681" y="6481"/>
                  <a:pt x="7813" y="6474"/>
                </a:cubicBezTo>
                <a:cubicBezTo>
                  <a:pt x="8078" y="6459"/>
                  <a:pt x="8342" y="6450"/>
                  <a:pt x="8607" y="6424"/>
                </a:cubicBezTo>
                <a:cubicBezTo>
                  <a:pt x="8839" y="6401"/>
                  <a:pt x="9070" y="6375"/>
                  <a:pt x="9302" y="6350"/>
                </a:cubicBezTo>
              </a:path>
              <a:path w="6947" h="4962">
                <a:moveTo>
                  <a:pt x="10592" y="6424"/>
                </a:moveTo>
                <a:cubicBezTo>
                  <a:pt x="10617" y="6416"/>
                  <a:pt x="10641" y="6408"/>
                  <a:pt x="10666" y="6400"/>
                </a:cubicBezTo>
                <a:cubicBezTo>
                  <a:pt x="10538" y="6400"/>
                  <a:pt x="10421" y="6404"/>
                  <a:pt x="10294" y="6424"/>
                </a:cubicBezTo>
                <a:cubicBezTo>
                  <a:pt x="10025" y="6467"/>
                  <a:pt x="9762" y="6551"/>
                  <a:pt x="9500" y="6623"/>
                </a:cubicBezTo>
                <a:cubicBezTo>
                  <a:pt x="9135" y="6724"/>
                  <a:pt x="8758" y="6783"/>
                  <a:pt x="8384" y="6846"/>
                </a:cubicBezTo>
                <a:cubicBezTo>
                  <a:pt x="8227" y="6871"/>
                  <a:pt x="8070" y="6896"/>
                  <a:pt x="7913" y="6921"/>
                </a:cubicBezTo>
              </a:path>
              <a:path w="6947" h="4962">
                <a:moveTo>
                  <a:pt x="6176" y="10641"/>
                </a:moveTo>
                <a:cubicBezTo>
                  <a:pt x="6203" y="10714"/>
                  <a:pt x="6200" y="10766"/>
                  <a:pt x="6176" y="10840"/>
                </a:cubicBezTo>
                <a:cubicBezTo>
                  <a:pt x="6150" y="10920"/>
                  <a:pt x="6082" y="10989"/>
                  <a:pt x="6052" y="11063"/>
                </a:cubicBezTo>
                <a:cubicBezTo>
                  <a:pt x="6037" y="11100"/>
                  <a:pt x="6040" y="11075"/>
                  <a:pt x="6028" y="11112"/>
                </a:cubicBezTo>
                <a:cubicBezTo>
                  <a:pt x="6069" y="11102"/>
                  <a:pt x="6114" y="11071"/>
                  <a:pt x="6152" y="11063"/>
                </a:cubicBezTo>
                <a:cubicBezTo>
                  <a:pt x="6226" y="11048"/>
                  <a:pt x="6280" y="11022"/>
                  <a:pt x="6350" y="10988"/>
                </a:cubicBezTo>
                <a:cubicBezTo>
                  <a:pt x="6367" y="10980"/>
                  <a:pt x="6383" y="10972"/>
                  <a:pt x="6400" y="10964"/>
                </a:cubicBezTo>
              </a:path>
              <a:path w="6947" h="4962">
                <a:moveTo>
                  <a:pt x="6548" y="10517"/>
                </a:moveTo>
                <a:cubicBezTo>
                  <a:pt x="6548" y="10638"/>
                  <a:pt x="6536" y="10746"/>
                  <a:pt x="6524" y="10864"/>
                </a:cubicBezTo>
                <a:cubicBezTo>
                  <a:pt x="6514" y="10969"/>
                  <a:pt x="6517" y="11065"/>
                  <a:pt x="6524" y="11162"/>
                </a:cubicBezTo>
                <a:cubicBezTo>
                  <a:pt x="6528" y="11215"/>
                  <a:pt x="6496" y="11320"/>
                  <a:pt x="6548" y="11311"/>
                </a:cubicBezTo>
                <a:cubicBezTo>
                  <a:pt x="6556" y="11303"/>
                  <a:pt x="6565" y="11294"/>
                  <a:pt x="6573" y="11286"/>
                </a:cubicBezTo>
              </a:path>
              <a:path w="6947" h="4962">
                <a:moveTo>
                  <a:pt x="6821" y="11187"/>
                </a:moveTo>
                <a:cubicBezTo>
                  <a:pt x="6844" y="11164"/>
                  <a:pt x="6852" y="11160"/>
                  <a:pt x="6846" y="11137"/>
                </a:cubicBezTo>
              </a:path>
              <a:path w="6947" h="4962">
                <a:moveTo>
                  <a:pt x="7516" y="10716"/>
                </a:moveTo>
                <a:cubicBezTo>
                  <a:pt x="7544" y="10688"/>
                  <a:pt x="7553" y="10674"/>
                  <a:pt x="7541" y="10641"/>
                </a:cubicBezTo>
                <a:cubicBezTo>
                  <a:pt x="7448" y="10641"/>
                  <a:pt x="7426" y="10629"/>
                  <a:pt x="7367" y="10691"/>
                </a:cubicBezTo>
                <a:cubicBezTo>
                  <a:pt x="7332" y="10728"/>
                  <a:pt x="7274" y="10764"/>
                  <a:pt x="7268" y="10815"/>
                </a:cubicBezTo>
                <a:cubicBezTo>
                  <a:pt x="7268" y="10823"/>
                  <a:pt x="7268" y="10832"/>
                  <a:pt x="7268" y="10840"/>
                </a:cubicBezTo>
                <a:cubicBezTo>
                  <a:pt x="7357" y="10840"/>
                  <a:pt x="7433" y="10850"/>
                  <a:pt x="7516" y="10864"/>
                </a:cubicBezTo>
                <a:cubicBezTo>
                  <a:pt x="7589" y="10876"/>
                  <a:pt x="7625" y="10895"/>
                  <a:pt x="7665" y="10964"/>
                </a:cubicBezTo>
                <a:cubicBezTo>
                  <a:pt x="7719" y="11056"/>
                  <a:pt x="7740" y="11152"/>
                  <a:pt x="7615" y="11187"/>
                </a:cubicBezTo>
                <a:cubicBezTo>
                  <a:pt x="7533" y="11210"/>
                  <a:pt x="7442" y="11181"/>
                  <a:pt x="7367" y="11162"/>
                </a:cubicBezTo>
                <a:cubicBezTo>
                  <a:pt x="7325" y="11151"/>
                  <a:pt x="7303" y="11140"/>
                  <a:pt x="7268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51200" y="3463920"/>
            <a:ext cx="884160" cy="671400"/>
          </a:xfrm>
          <a:custGeom>
            <a:avLst/>
            <a:gdLst/>
            <a:ahLst/>
            <a:rect l="l" t="t" r="r" b="b"/>
            <a:pathLst>
              <a:path w="2457" h="1862">
                <a:moveTo>
                  <a:pt x="11237" y="10567"/>
                </a:moveTo>
                <a:cubicBezTo>
                  <a:pt x="11221" y="10647"/>
                  <a:pt x="11208" y="10732"/>
                  <a:pt x="11187" y="10815"/>
                </a:cubicBezTo>
                <a:cubicBezTo>
                  <a:pt x="11171" y="10879"/>
                  <a:pt x="11137" y="10982"/>
                  <a:pt x="11112" y="11038"/>
                </a:cubicBezTo>
                <a:cubicBezTo>
                  <a:pt x="11093" y="11079"/>
                  <a:pt x="11088" y="11087"/>
                  <a:pt x="11088" y="11137"/>
                </a:cubicBezTo>
                <a:cubicBezTo>
                  <a:pt x="11088" y="11145"/>
                  <a:pt x="11088" y="11154"/>
                  <a:pt x="11088" y="11162"/>
                </a:cubicBezTo>
                <a:cubicBezTo>
                  <a:pt x="11143" y="11162"/>
                  <a:pt x="11182" y="11140"/>
                  <a:pt x="11237" y="11137"/>
                </a:cubicBezTo>
                <a:cubicBezTo>
                  <a:pt x="11300" y="11133"/>
                  <a:pt x="11379" y="11137"/>
                  <a:pt x="11435" y="11112"/>
                </a:cubicBezTo>
                <a:cubicBezTo>
                  <a:pt x="11460" y="11088"/>
                  <a:pt x="11469" y="11080"/>
                  <a:pt x="11485" y="11063"/>
                </a:cubicBezTo>
              </a:path>
              <a:path w="2457" h="1862">
                <a:moveTo>
                  <a:pt x="11534" y="10592"/>
                </a:moveTo>
                <a:cubicBezTo>
                  <a:pt x="11534" y="10833"/>
                  <a:pt x="11462" y="11188"/>
                  <a:pt x="11559" y="11410"/>
                </a:cubicBezTo>
              </a:path>
              <a:path w="2457" h="1862">
                <a:moveTo>
                  <a:pt x="11807" y="11286"/>
                </a:moveTo>
                <a:cubicBezTo>
                  <a:pt x="11798" y="11320"/>
                  <a:pt x="11802" y="11351"/>
                  <a:pt x="11782" y="11311"/>
                </a:cubicBezTo>
              </a:path>
              <a:path w="2457" h="1862">
                <a:moveTo>
                  <a:pt x="12402" y="10815"/>
                </a:moveTo>
                <a:cubicBezTo>
                  <a:pt x="12392" y="10714"/>
                  <a:pt x="12400" y="10716"/>
                  <a:pt x="12303" y="10716"/>
                </a:cubicBezTo>
                <a:cubicBezTo>
                  <a:pt x="12228" y="10716"/>
                  <a:pt x="12154" y="10798"/>
                  <a:pt x="12129" y="10864"/>
                </a:cubicBezTo>
                <a:cubicBezTo>
                  <a:pt x="12104" y="10929"/>
                  <a:pt x="12148" y="10954"/>
                  <a:pt x="12204" y="10964"/>
                </a:cubicBezTo>
                <a:cubicBezTo>
                  <a:pt x="12284" y="10978"/>
                  <a:pt x="12374" y="10967"/>
                  <a:pt x="12452" y="10988"/>
                </a:cubicBezTo>
                <a:cubicBezTo>
                  <a:pt x="12495" y="11000"/>
                  <a:pt x="12610" y="11103"/>
                  <a:pt x="12626" y="11137"/>
                </a:cubicBezTo>
                <a:cubicBezTo>
                  <a:pt x="12645" y="11178"/>
                  <a:pt x="12650" y="11246"/>
                  <a:pt x="12626" y="11286"/>
                </a:cubicBezTo>
                <a:cubicBezTo>
                  <a:pt x="12599" y="11331"/>
                  <a:pt x="12502" y="11372"/>
                  <a:pt x="12452" y="11361"/>
                </a:cubicBezTo>
                <a:cubicBezTo>
                  <a:pt x="12358" y="11340"/>
                  <a:pt x="12289" y="11310"/>
                  <a:pt x="12204" y="11261"/>
                </a:cubicBezTo>
                <a:cubicBezTo>
                  <a:pt x="12163" y="11241"/>
                  <a:pt x="12146" y="11244"/>
                  <a:pt x="12154" y="11212"/>
                </a:cubicBezTo>
              </a:path>
              <a:path w="2457" h="1862">
                <a:moveTo>
                  <a:pt x="12874" y="11485"/>
                </a:moveTo>
                <a:cubicBezTo>
                  <a:pt x="12830" y="11463"/>
                  <a:pt x="12774" y="11437"/>
                  <a:pt x="12725" y="11410"/>
                </a:cubicBezTo>
                <a:cubicBezTo>
                  <a:pt x="12566" y="11321"/>
                  <a:pt x="12440" y="11205"/>
                  <a:pt x="12303" y="11088"/>
                </a:cubicBezTo>
                <a:cubicBezTo>
                  <a:pt x="12122" y="10933"/>
                  <a:pt x="11943" y="10769"/>
                  <a:pt x="11782" y="10592"/>
                </a:cubicBezTo>
                <a:cubicBezTo>
                  <a:pt x="11603" y="10395"/>
                  <a:pt x="11381" y="10229"/>
                  <a:pt x="11162" y="10071"/>
                </a:cubicBezTo>
                <a:cubicBezTo>
                  <a:pt x="10963" y="9928"/>
                  <a:pt x="10744" y="9815"/>
                  <a:pt x="10542" y="9674"/>
                </a:cubicBezTo>
                <a:cubicBezTo>
                  <a:pt x="10507" y="9650"/>
                  <a:pt x="10455" y="9647"/>
                  <a:pt x="10418" y="96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68920" y="1473120"/>
            <a:ext cx="2098440" cy="1714680"/>
          </a:xfrm>
          <a:custGeom>
            <a:avLst/>
            <a:gdLst/>
            <a:ahLst/>
            <a:rect l="l" t="t" r="r" b="b"/>
            <a:pathLst>
              <a:path w="5830" h="4763">
                <a:moveTo>
                  <a:pt x="15255" y="4986"/>
                </a:moveTo>
                <a:cubicBezTo>
                  <a:pt x="15253" y="5019"/>
                  <a:pt x="15288" y="4979"/>
                  <a:pt x="15280" y="5011"/>
                </a:cubicBezTo>
                <a:cubicBezTo>
                  <a:pt x="15272" y="5041"/>
                  <a:pt x="15267" y="5080"/>
                  <a:pt x="15255" y="5110"/>
                </a:cubicBezTo>
                <a:cubicBezTo>
                  <a:pt x="15237" y="5155"/>
                  <a:pt x="15199" y="5189"/>
                  <a:pt x="15180" y="5234"/>
                </a:cubicBezTo>
                <a:cubicBezTo>
                  <a:pt x="15153" y="5297"/>
                  <a:pt x="15141" y="5392"/>
                  <a:pt x="15106" y="5457"/>
                </a:cubicBezTo>
                <a:cubicBezTo>
                  <a:pt x="15069" y="5525"/>
                  <a:pt x="15023" y="5587"/>
                  <a:pt x="14982" y="5655"/>
                </a:cubicBezTo>
                <a:cubicBezTo>
                  <a:pt x="14941" y="5722"/>
                  <a:pt x="14894" y="5785"/>
                  <a:pt x="14858" y="5854"/>
                </a:cubicBezTo>
                <a:cubicBezTo>
                  <a:pt x="14823" y="5920"/>
                  <a:pt x="14794" y="5990"/>
                  <a:pt x="14759" y="6052"/>
                </a:cubicBezTo>
                <a:cubicBezTo>
                  <a:pt x="14613" y="6306"/>
                  <a:pt x="14483" y="6570"/>
                  <a:pt x="14337" y="6821"/>
                </a:cubicBezTo>
                <a:cubicBezTo>
                  <a:pt x="14294" y="6895"/>
                  <a:pt x="14252" y="6968"/>
                  <a:pt x="14213" y="7045"/>
                </a:cubicBezTo>
                <a:cubicBezTo>
                  <a:pt x="14187" y="7096"/>
                  <a:pt x="14168" y="7139"/>
                  <a:pt x="14139" y="7193"/>
                </a:cubicBezTo>
                <a:cubicBezTo>
                  <a:pt x="14109" y="7250"/>
                  <a:pt x="14066" y="7306"/>
                  <a:pt x="14039" y="7367"/>
                </a:cubicBezTo>
                <a:cubicBezTo>
                  <a:pt x="14024" y="7402"/>
                  <a:pt x="14008" y="7456"/>
                  <a:pt x="13990" y="7491"/>
                </a:cubicBezTo>
                <a:cubicBezTo>
                  <a:pt x="13968" y="7533"/>
                  <a:pt x="13936" y="7575"/>
                  <a:pt x="13915" y="7615"/>
                </a:cubicBezTo>
                <a:cubicBezTo>
                  <a:pt x="13900" y="7645"/>
                  <a:pt x="13886" y="7649"/>
                  <a:pt x="13866" y="7689"/>
                </a:cubicBezTo>
                <a:cubicBezTo>
                  <a:pt x="13849" y="7722"/>
                  <a:pt x="13834" y="7755"/>
                  <a:pt x="13816" y="7789"/>
                </a:cubicBezTo>
                <a:cubicBezTo>
                  <a:pt x="13804" y="7811"/>
                  <a:pt x="13770" y="7856"/>
                  <a:pt x="13767" y="7863"/>
                </a:cubicBezTo>
                <a:cubicBezTo>
                  <a:pt x="13753" y="7891"/>
                  <a:pt x="13756" y="7933"/>
                  <a:pt x="13742" y="7962"/>
                </a:cubicBezTo>
                <a:cubicBezTo>
                  <a:pt x="13726" y="7995"/>
                  <a:pt x="13700" y="8001"/>
                  <a:pt x="13692" y="8037"/>
                </a:cubicBezTo>
                <a:cubicBezTo>
                  <a:pt x="13685" y="8068"/>
                  <a:pt x="13700" y="8105"/>
                  <a:pt x="13692" y="8136"/>
                </a:cubicBezTo>
                <a:cubicBezTo>
                  <a:pt x="13729" y="8112"/>
                  <a:pt x="13777" y="8090"/>
                  <a:pt x="13816" y="8062"/>
                </a:cubicBezTo>
                <a:cubicBezTo>
                  <a:pt x="13841" y="8044"/>
                  <a:pt x="13884" y="8007"/>
                  <a:pt x="13915" y="7987"/>
                </a:cubicBezTo>
                <a:cubicBezTo>
                  <a:pt x="13980" y="7944"/>
                  <a:pt x="14047" y="7903"/>
                  <a:pt x="14114" y="7863"/>
                </a:cubicBezTo>
                <a:cubicBezTo>
                  <a:pt x="14191" y="7817"/>
                  <a:pt x="14260" y="7756"/>
                  <a:pt x="14337" y="7714"/>
                </a:cubicBezTo>
                <a:cubicBezTo>
                  <a:pt x="14437" y="7659"/>
                  <a:pt x="14516" y="7605"/>
                  <a:pt x="14610" y="7541"/>
                </a:cubicBezTo>
                <a:cubicBezTo>
                  <a:pt x="14715" y="7469"/>
                  <a:pt x="14829" y="7416"/>
                  <a:pt x="14932" y="7342"/>
                </a:cubicBezTo>
                <a:cubicBezTo>
                  <a:pt x="15102" y="7220"/>
                  <a:pt x="15269" y="7104"/>
                  <a:pt x="15453" y="6995"/>
                </a:cubicBezTo>
                <a:cubicBezTo>
                  <a:pt x="15630" y="6891"/>
                  <a:pt x="15799" y="6780"/>
                  <a:pt x="15974" y="6672"/>
                </a:cubicBezTo>
                <a:cubicBezTo>
                  <a:pt x="16085" y="6603"/>
                  <a:pt x="16206" y="6535"/>
                  <a:pt x="16321" y="6474"/>
                </a:cubicBezTo>
                <a:cubicBezTo>
                  <a:pt x="16429" y="6417"/>
                  <a:pt x="16536" y="6357"/>
                  <a:pt x="16644" y="6300"/>
                </a:cubicBezTo>
                <a:cubicBezTo>
                  <a:pt x="16742" y="6249"/>
                  <a:pt x="16824" y="6182"/>
                  <a:pt x="16917" y="6127"/>
                </a:cubicBezTo>
                <a:cubicBezTo>
                  <a:pt x="17011" y="6072"/>
                  <a:pt x="17118" y="6031"/>
                  <a:pt x="17214" y="5978"/>
                </a:cubicBezTo>
                <a:cubicBezTo>
                  <a:pt x="17296" y="5933"/>
                  <a:pt x="17380" y="5898"/>
                  <a:pt x="17462" y="5854"/>
                </a:cubicBezTo>
                <a:cubicBezTo>
                  <a:pt x="17547" y="5809"/>
                  <a:pt x="17625" y="5747"/>
                  <a:pt x="17711" y="5705"/>
                </a:cubicBezTo>
                <a:cubicBezTo>
                  <a:pt x="17826" y="5649"/>
                  <a:pt x="17925" y="5590"/>
                  <a:pt x="18033" y="5531"/>
                </a:cubicBezTo>
                <a:cubicBezTo>
                  <a:pt x="18251" y="5412"/>
                  <a:pt x="18480" y="5299"/>
                  <a:pt x="18703" y="5209"/>
                </a:cubicBezTo>
                <a:cubicBezTo>
                  <a:pt x="18759" y="5186"/>
                  <a:pt x="18823" y="5158"/>
                  <a:pt x="18876" y="5135"/>
                </a:cubicBezTo>
                <a:cubicBezTo>
                  <a:pt x="18913" y="5119"/>
                  <a:pt x="18962" y="5100"/>
                  <a:pt x="19000" y="5085"/>
                </a:cubicBezTo>
                <a:cubicBezTo>
                  <a:pt x="19041" y="5069"/>
                  <a:pt x="19042" y="5075"/>
                  <a:pt x="19075" y="5060"/>
                </a:cubicBezTo>
                <a:cubicBezTo>
                  <a:pt x="19061" y="5052"/>
                  <a:pt x="19034" y="5024"/>
                  <a:pt x="19000" y="5011"/>
                </a:cubicBezTo>
                <a:cubicBezTo>
                  <a:pt x="18955" y="4994"/>
                  <a:pt x="18904" y="4973"/>
                  <a:pt x="18852" y="4961"/>
                </a:cubicBezTo>
                <a:cubicBezTo>
                  <a:pt x="18772" y="4942"/>
                  <a:pt x="18685" y="4949"/>
                  <a:pt x="18604" y="4936"/>
                </a:cubicBezTo>
                <a:cubicBezTo>
                  <a:pt x="18518" y="4922"/>
                  <a:pt x="18420" y="4893"/>
                  <a:pt x="18331" y="4887"/>
                </a:cubicBezTo>
                <a:cubicBezTo>
                  <a:pt x="18236" y="4881"/>
                  <a:pt x="18151" y="4875"/>
                  <a:pt x="18058" y="4862"/>
                </a:cubicBezTo>
                <a:cubicBezTo>
                  <a:pt x="17956" y="4847"/>
                  <a:pt x="17864" y="4847"/>
                  <a:pt x="17760" y="4837"/>
                </a:cubicBezTo>
                <a:cubicBezTo>
                  <a:pt x="17666" y="4828"/>
                  <a:pt x="17560" y="4800"/>
                  <a:pt x="17462" y="4787"/>
                </a:cubicBezTo>
                <a:cubicBezTo>
                  <a:pt x="17377" y="4776"/>
                  <a:pt x="17298" y="4773"/>
                  <a:pt x="17214" y="4762"/>
                </a:cubicBezTo>
                <a:cubicBezTo>
                  <a:pt x="17131" y="4751"/>
                  <a:pt x="17049" y="4743"/>
                  <a:pt x="16966" y="4738"/>
                </a:cubicBezTo>
                <a:cubicBezTo>
                  <a:pt x="16515" y="4713"/>
                  <a:pt x="16045" y="4741"/>
                  <a:pt x="15602" y="4762"/>
                </a:cubicBezTo>
                <a:cubicBezTo>
                  <a:pt x="15481" y="4768"/>
                  <a:pt x="15336" y="4781"/>
                  <a:pt x="15230" y="4787"/>
                </a:cubicBezTo>
                <a:cubicBezTo>
                  <a:pt x="15169" y="4790"/>
                  <a:pt x="15082" y="4807"/>
                  <a:pt x="15056" y="4812"/>
                </a:cubicBezTo>
              </a:path>
              <a:path w="5830" h="4763">
                <a:moveTo>
                  <a:pt x="13345" y="7813"/>
                </a:moveTo>
                <a:cubicBezTo>
                  <a:pt x="13345" y="7885"/>
                  <a:pt x="13360" y="7946"/>
                  <a:pt x="13370" y="8012"/>
                </a:cubicBezTo>
                <a:cubicBezTo>
                  <a:pt x="13394" y="8166"/>
                  <a:pt x="13379" y="8359"/>
                  <a:pt x="13345" y="8508"/>
                </a:cubicBezTo>
                <a:cubicBezTo>
                  <a:pt x="13324" y="8601"/>
                  <a:pt x="13293" y="8691"/>
                  <a:pt x="13271" y="8781"/>
                </a:cubicBezTo>
                <a:cubicBezTo>
                  <a:pt x="13271" y="8816"/>
                  <a:pt x="13266" y="8833"/>
                  <a:pt x="13246" y="8855"/>
                </a:cubicBezTo>
              </a:path>
              <a:path w="5830" h="4763">
                <a:moveTo>
                  <a:pt x="13519" y="7714"/>
                </a:moveTo>
                <a:cubicBezTo>
                  <a:pt x="13548" y="7754"/>
                  <a:pt x="13561" y="7795"/>
                  <a:pt x="13593" y="7838"/>
                </a:cubicBezTo>
                <a:cubicBezTo>
                  <a:pt x="13637" y="7895"/>
                  <a:pt x="13658" y="7970"/>
                  <a:pt x="13692" y="8037"/>
                </a:cubicBezTo>
                <a:cubicBezTo>
                  <a:pt x="13733" y="8117"/>
                  <a:pt x="13773" y="8183"/>
                  <a:pt x="13816" y="8260"/>
                </a:cubicBezTo>
                <a:cubicBezTo>
                  <a:pt x="13854" y="8329"/>
                  <a:pt x="13882" y="8427"/>
                  <a:pt x="13915" y="8483"/>
                </a:cubicBezTo>
                <a:cubicBezTo>
                  <a:pt x="13923" y="8498"/>
                  <a:pt x="13993" y="8555"/>
                  <a:pt x="14015" y="8582"/>
                </a:cubicBezTo>
              </a:path>
              <a:path w="5830" h="4763">
                <a:moveTo>
                  <a:pt x="13494" y="8409"/>
                </a:moveTo>
                <a:cubicBezTo>
                  <a:pt x="13553" y="8358"/>
                  <a:pt x="13585" y="8339"/>
                  <a:pt x="13667" y="8334"/>
                </a:cubicBezTo>
                <a:cubicBezTo>
                  <a:pt x="13740" y="8330"/>
                  <a:pt x="13797" y="8301"/>
                  <a:pt x="13866" y="8285"/>
                </a:cubicBezTo>
                <a:cubicBezTo>
                  <a:pt x="13914" y="8274"/>
                  <a:pt x="13952" y="8263"/>
                  <a:pt x="13990" y="8235"/>
                </a:cubicBezTo>
              </a:path>
              <a:path w="5830" h="4763">
                <a:moveTo>
                  <a:pt x="14808" y="6499"/>
                </a:moveTo>
                <a:cubicBezTo>
                  <a:pt x="14808" y="6446"/>
                  <a:pt x="14796" y="6461"/>
                  <a:pt x="14784" y="6424"/>
                </a:cubicBezTo>
              </a:path>
              <a:path w="5830" h="4763">
                <a:moveTo>
                  <a:pt x="14808" y="6499"/>
                </a:moveTo>
                <a:cubicBezTo>
                  <a:pt x="14792" y="6458"/>
                  <a:pt x="14775" y="6416"/>
                  <a:pt x="14759" y="6375"/>
                </a:cubicBezTo>
              </a:path>
              <a:path w="5830" h="4763">
                <a:moveTo>
                  <a:pt x="14759" y="6375"/>
                </a:moveTo>
                <a:cubicBezTo>
                  <a:pt x="14751" y="6375"/>
                  <a:pt x="14742" y="6375"/>
                  <a:pt x="14734" y="6375"/>
                </a:cubicBezTo>
                <a:cubicBezTo>
                  <a:pt x="14763" y="6404"/>
                  <a:pt x="14775" y="6412"/>
                  <a:pt x="14784" y="6449"/>
                </a:cubicBezTo>
                <a:cubicBezTo>
                  <a:pt x="14823" y="6462"/>
                  <a:pt x="14794" y="6461"/>
                  <a:pt x="14833" y="6474"/>
                </a:cubicBezTo>
                <a:cubicBezTo>
                  <a:pt x="14841" y="6498"/>
                  <a:pt x="14842" y="6520"/>
                  <a:pt x="14858" y="6548"/>
                </a:cubicBezTo>
                <a:cubicBezTo>
                  <a:pt x="14879" y="6586"/>
                  <a:pt x="14903" y="6629"/>
                  <a:pt x="14908" y="6672"/>
                </a:cubicBezTo>
                <a:cubicBezTo>
                  <a:pt x="14914" y="6721"/>
                  <a:pt x="14932" y="6737"/>
                  <a:pt x="14932" y="6796"/>
                </a:cubicBezTo>
                <a:cubicBezTo>
                  <a:pt x="14932" y="6883"/>
                  <a:pt x="14924" y="7240"/>
                  <a:pt x="14957" y="7218"/>
                </a:cubicBezTo>
              </a:path>
              <a:path w="5830" h="4763">
                <a:moveTo>
                  <a:pt x="15304" y="6375"/>
                </a:moveTo>
                <a:cubicBezTo>
                  <a:pt x="15304" y="6308"/>
                  <a:pt x="15304" y="6412"/>
                  <a:pt x="15304" y="6424"/>
                </a:cubicBezTo>
                <a:cubicBezTo>
                  <a:pt x="15304" y="6456"/>
                  <a:pt x="15287" y="6469"/>
                  <a:pt x="15280" y="6499"/>
                </a:cubicBezTo>
                <a:cubicBezTo>
                  <a:pt x="15311" y="6475"/>
                  <a:pt x="15340" y="6453"/>
                  <a:pt x="15379" y="6449"/>
                </a:cubicBezTo>
                <a:cubicBezTo>
                  <a:pt x="15427" y="6444"/>
                  <a:pt x="15468" y="6443"/>
                  <a:pt x="15503" y="6474"/>
                </a:cubicBezTo>
                <a:cubicBezTo>
                  <a:pt x="15540" y="6507"/>
                  <a:pt x="15526" y="6539"/>
                  <a:pt x="15503" y="6573"/>
                </a:cubicBezTo>
                <a:cubicBezTo>
                  <a:pt x="15484" y="6602"/>
                  <a:pt x="15434" y="6638"/>
                  <a:pt x="15404" y="6648"/>
                </a:cubicBezTo>
                <a:cubicBezTo>
                  <a:pt x="15364" y="6661"/>
                  <a:pt x="15338" y="6650"/>
                  <a:pt x="15329" y="6623"/>
                </a:cubicBezTo>
              </a:path>
              <a:path w="5830" h="4763">
                <a:moveTo>
                  <a:pt x="15404" y="6350"/>
                </a:moveTo>
                <a:cubicBezTo>
                  <a:pt x="15415" y="6305"/>
                  <a:pt x="15433" y="6287"/>
                  <a:pt x="15478" y="6276"/>
                </a:cubicBezTo>
                <a:cubicBezTo>
                  <a:pt x="15489" y="6232"/>
                  <a:pt x="15519" y="6210"/>
                  <a:pt x="15553" y="6176"/>
                </a:cubicBezTo>
                <a:cubicBezTo>
                  <a:pt x="15561" y="6168"/>
                  <a:pt x="15569" y="6160"/>
                  <a:pt x="15577" y="6152"/>
                </a:cubicBezTo>
              </a:path>
              <a:path w="5830" h="4763">
                <a:moveTo>
                  <a:pt x="15875" y="6102"/>
                </a:moveTo>
                <a:cubicBezTo>
                  <a:pt x="15842" y="6108"/>
                  <a:pt x="15796" y="6113"/>
                  <a:pt x="15776" y="6152"/>
                </a:cubicBezTo>
                <a:cubicBezTo>
                  <a:pt x="15759" y="6186"/>
                  <a:pt x="15796" y="6238"/>
                  <a:pt x="15825" y="6251"/>
                </a:cubicBezTo>
                <a:cubicBezTo>
                  <a:pt x="15860" y="6267"/>
                  <a:pt x="15907" y="6290"/>
                  <a:pt x="15949" y="6300"/>
                </a:cubicBezTo>
                <a:cubicBezTo>
                  <a:pt x="15977" y="6300"/>
                  <a:pt x="15988" y="6302"/>
                  <a:pt x="15999" y="6325"/>
                </a:cubicBezTo>
                <a:cubicBezTo>
                  <a:pt x="15991" y="6357"/>
                  <a:pt x="15961" y="6408"/>
                  <a:pt x="15925" y="6424"/>
                </a:cubicBezTo>
                <a:cubicBezTo>
                  <a:pt x="15909" y="6431"/>
                  <a:pt x="15868" y="6424"/>
                  <a:pt x="15850" y="6424"/>
                </a:cubicBezTo>
                <a:cubicBezTo>
                  <a:pt x="15850" y="6374"/>
                  <a:pt x="15840" y="6337"/>
                  <a:pt x="15875" y="6300"/>
                </a:cubicBezTo>
                <a:cubicBezTo>
                  <a:pt x="15940" y="6231"/>
                  <a:pt x="15960" y="6233"/>
                  <a:pt x="15999" y="6176"/>
                </a:cubicBezTo>
                <a:cubicBezTo>
                  <a:pt x="16022" y="6143"/>
                  <a:pt x="16036" y="6095"/>
                  <a:pt x="15974" y="6077"/>
                </a:cubicBezTo>
                <a:cubicBezTo>
                  <a:pt x="15930" y="6077"/>
                  <a:pt x="15916" y="6074"/>
                  <a:pt x="15900" y="6102"/>
                </a:cubicBezTo>
              </a:path>
              <a:path w="5830" h="4763">
                <a:moveTo>
                  <a:pt x="16197" y="5854"/>
                </a:moveTo>
                <a:cubicBezTo>
                  <a:pt x="16139" y="5888"/>
                  <a:pt x="16123" y="5888"/>
                  <a:pt x="16123" y="5953"/>
                </a:cubicBezTo>
                <a:cubicBezTo>
                  <a:pt x="16123" y="5961"/>
                  <a:pt x="16123" y="5970"/>
                  <a:pt x="16123" y="5978"/>
                </a:cubicBezTo>
                <a:cubicBezTo>
                  <a:pt x="16169" y="5966"/>
                  <a:pt x="16177" y="5954"/>
                  <a:pt x="16197" y="5928"/>
                </a:cubicBezTo>
                <a:cubicBezTo>
                  <a:pt x="16219" y="5900"/>
                  <a:pt x="16248" y="5861"/>
                  <a:pt x="16197" y="5854"/>
                </a:cubicBezTo>
                <a:cubicBezTo>
                  <a:pt x="16173" y="5854"/>
                  <a:pt x="16164" y="5854"/>
                  <a:pt x="16148" y="5854"/>
                </a:cubicBezTo>
              </a:path>
              <a:path w="5830" h="4763">
                <a:moveTo>
                  <a:pt x="16718" y="4167"/>
                </a:moveTo>
                <a:cubicBezTo>
                  <a:pt x="16710" y="4167"/>
                  <a:pt x="16702" y="4167"/>
                  <a:pt x="16694" y="4167"/>
                </a:cubicBezTo>
                <a:cubicBezTo>
                  <a:pt x="16715" y="4174"/>
                  <a:pt x="16732" y="4211"/>
                  <a:pt x="16743" y="4242"/>
                </a:cubicBezTo>
                <a:cubicBezTo>
                  <a:pt x="16773" y="4329"/>
                  <a:pt x="16743" y="4471"/>
                  <a:pt x="16743" y="4564"/>
                </a:cubicBezTo>
                <a:cubicBezTo>
                  <a:pt x="16743" y="4539"/>
                  <a:pt x="16743" y="4531"/>
                  <a:pt x="16743" y="4514"/>
                </a:cubicBezTo>
              </a:path>
              <a:path w="5830" h="4763">
                <a:moveTo>
                  <a:pt x="17140" y="4093"/>
                </a:moveTo>
                <a:cubicBezTo>
                  <a:pt x="17140" y="4165"/>
                  <a:pt x="17152" y="4232"/>
                  <a:pt x="17165" y="4291"/>
                </a:cubicBezTo>
                <a:cubicBezTo>
                  <a:pt x="17183" y="4374"/>
                  <a:pt x="17164" y="4462"/>
                  <a:pt x="17190" y="4514"/>
                </a:cubicBezTo>
                <a:cubicBezTo>
                  <a:pt x="17211" y="4556"/>
                  <a:pt x="17170" y="4505"/>
                  <a:pt x="17165" y="4490"/>
                </a:cubicBezTo>
              </a:path>
              <a:path w="5830" h="4763">
                <a:moveTo>
                  <a:pt x="17562" y="4465"/>
                </a:moveTo>
                <a:lnTo>
                  <a:pt x="17562" y="4465"/>
                </a:lnTo>
              </a:path>
              <a:path w="5830" h="4763">
                <a:moveTo>
                  <a:pt x="17909" y="4118"/>
                </a:moveTo>
                <a:cubicBezTo>
                  <a:pt x="17909" y="4110"/>
                  <a:pt x="17909" y="4101"/>
                  <a:pt x="17909" y="4093"/>
                </a:cubicBezTo>
                <a:cubicBezTo>
                  <a:pt x="17947" y="4106"/>
                  <a:pt x="17934" y="4122"/>
                  <a:pt x="17934" y="4167"/>
                </a:cubicBezTo>
                <a:cubicBezTo>
                  <a:pt x="17934" y="4246"/>
                  <a:pt x="17928" y="4293"/>
                  <a:pt x="17909" y="4366"/>
                </a:cubicBezTo>
                <a:cubicBezTo>
                  <a:pt x="17909" y="4390"/>
                  <a:pt x="17909" y="4399"/>
                  <a:pt x="17909" y="4415"/>
                </a:cubicBezTo>
                <a:cubicBezTo>
                  <a:pt x="17948" y="4425"/>
                  <a:pt x="17964" y="4440"/>
                  <a:pt x="18008" y="4440"/>
                </a:cubicBezTo>
                <a:cubicBezTo>
                  <a:pt x="18041" y="4440"/>
                  <a:pt x="18074" y="4440"/>
                  <a:pt x="18107" y="4440"/>
                </a:cubicBezTo>
                <a:cubicBezTo>
                  <a:pt x="18120" y="4402"/>
                  <a:pt x="18137" y="4415"/>
                  <a:pt x="18182" y="4415"/>
                </a:cubicBezTo>
                <a:cubicBezTo>
                  <a:pt x="18197" y="4369"/>
                  <a:pt x="18216" y="4411"/>
                  <a:pt x="18231" y="4366"/>
                </a:cubicBezTo>
              </a:path>
              <a:path w="5830" h="4763">
                <a:moveTo>
                  <a:pt x="18306" y="4093"/>
                </a:moveTo>
                <a:cubicBezTo>
                  <a:pt x="18306" y="4227"/>
                  <a:pt x="18308" y="4340"/>
                  <a:pt x="18281" y="4465"/>
                </a:cubicBezTo>
                <a:cubicBezTo>
                  <a:pt x="18268" y="4524"/>
                  <a:pt x="18301" y="4559"/>
                  <a:pt x="18306" y="4614"/>
                </a:cubicBezTo>
                <a:cubicBezTo>
                  <a:pt x="18306" y="4638"/>
                  <a:pt x="18306" y="4647"/>
                  <a:pt x="18306" y="4663"/>
                </a:cubicBezTo>
              </a:path>
              <a:path w="5830" h="4763">
                <a:moveTo>
                  <a:pt x="15602" y="5184"/>
                </a:moveTo>
                <a:cubicBezTo>
                  <a:pt x="15639" y="5184"/>
                  <a:pt x="15674" y="5177"/>
                  <a:pt x="15701" y="5159"/>
                </a:cubicBezTo>
                <a:cubicBezTo>
                  <a:pt x="15724" y="5137"/>
                  <a:pt x="15729" y="5129"/>
                  <a:pt x="15751" y="5135"/>
                </a:cubicBezTo>
                <a:cubicBezTo>
                  <a:pt x="15751" y="5201"/>
                  <a:pt x="15737" y="5254"/>
                  <a:pt x="15726" y="5308"/>
                </a:cubicBezTo>
                <a:cubicBezTo>
                  <a:pt x="15724" y="5316"/>
                  <a:pt x="15739" y="5470"/>
                  <a:pt x="15701" y="5457"/>
                </a:cubicBezTo>
                <a:cubicBezTo>
                  <a:pt x="15698" y="5456"/>
                  <a:pt x="15701" y="5389"/>
                  <a:pt x="15701" y="5383"/>
                </a:cubicBezTo>
              </a:path>
              <a:path w="5830" h="4763">
                <a:moveTo>
                  <a:pt x="16098" y="5085"/>
                </a:moveTo>
                <a:cubicBezTo>
                  <a:pt x="16063" y="5132"/>
                  <a:pt x="16073" y="5172"/>
                  <a:pt x="16073" y="5234"/>
                </a:cubicBezTo>
                <a:cubicBezTo>
                  <a:pt x="16073" y="5289"/>
                  <a:pt x="16051" y="5392"/>
                  <a:pt x="16098" y="5407"/>
                </a:cubicBezTo>
              </a:path>
              <a:path w="5830" h="4763">
                <a:moveTo>
                  <a:pt x="16346" y="5283"/>
                </a:moveTo>
                <a:lnTo>
                  <a:pt x="16346" y="5283"/>
                </a:lnTo>
              </a:path>
              <a:path w="5830" h="4763">
                <a:moveTo>
                  <a:pt x="16570" y="5035"/>
                </a:moveTo>
                <a:cubicBezTo>
                  <a:pt x="16519" y="5035"/>
                  <a:pt x="16516" y="5049"/>
                  <a:pt x="16495" y="5060"/>
                </a:cubicBezTo>
                <a:cubicBezTo>
                  <a:pt x="16464" y="5075"/>
                  <a:pt x="16457" y="5075"/>
                  <a:pt x="16446" y="5110"/>
                </a:cubicBezTo>
                <a:cubicBezTo>
                  <a:pt x="16479" y="5122"/>
                  <a:pt x="16479" y="5157"/>
                  <a:pt x="16520" y="5184"/>
                </a:cubicBezTo>
                <a:cubicBezTo>
                  <a:pt x="16576" y="5220"/>
                  <a:pt x="16654" y="5218"/>
                  <a:pt x="16694" y="5283"/>
                </a:cubicBezTo>
                <a:cubicBezTo>
                  <a:pt x="16694" y="5291"/>
                  <a:pt x="16694" y="5300"/>
                  <a:pt x="16694" y="5308"/>
                </a:cubicBezTo>
                <a:cubicBezTo>
                  <a:pt x="16641" y="5308"/>
                  <a:pt x="16624" y="5328"/>
                  <a:pt x="16570" y="5333"/>
                </a:cubicBezTo>
                <a:cubicBezTo>
                  <a:pt x="16528" y="5337"/>
                  <a:pt x="16499" y="5295"/>
                  <a:pt x="16495" y="5259"/>
                </a:cubicBezTo>
                <a:cubicBezTo>
                  <a:pt x="16490" y="5214"/>
                  <a:pt x="16519" y="5124"/>
                  <a:pt x="16545" y="5085"/>
                </a:cubicBezTo>
                <a:cubicBezTo>
                  <a:pt x="16570" y="5048"/>
                  <a:pt x="16596" y="5027"/>
                  <a:pt x="16619" y="49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14280" y="3303720"/>
            <a:ext cx="3946680" cy="669960"/>
          </a:xfrm>
          <a:custGeom>
            <a:avLst/>
            <a:gdLst/>
            <a:ahLst/>
            <a:rect l="l" t="t" r="r" b="b"/>
            <a:pathLst>
              <a:path w="10965" h="1861">
                <a:moveTo>
                  <a:pt x="3795" y="9599"/>
                </a:moveTo>
                <a:cubicBezTo>
                  <a:pt x="3684" y="9555"/>
                  <a:pt x="3720" y="9529"/>
                  <a:pt x="3597" y="9550"/>
                </a:cubicBezTo>
                <a:cubicBezTo>
                  <a:pt x="3503" y="9566"/>
                  <a:pt x="3490" y="9627"/>
                  <a:pt x="3423" y="9674"/>
                </a:cubicBezTo>
                <a:cubicBezTo>
                  <a:pt x="3395" y="9674"/>
                  <a:pt x="3384" y="9676"/>
                  <a:pt x="3373" y="9699"/>
                </a:cubicBezTo>
                <a:cubicBezTo>
                  <a:pt x="3473" y="9732"/>
                  <a:pt x="3494" y="9735"/>
                  <a:pt x="3572" y="9748"/>
                </a:cubicBezTo>
                <a:cubicBezTo>
                  <a:pt x="3727" y="9775"/>
                  <a:pt x="3841" y="9764"/>
                  <a:pt x="3969" y="9897"/>
                </a:cubicBezTo>
                <a:cubicBezTo>
                  <a:pt x="4037" y="9968"/>
                  <a:pt x="4090" y="10015"/>
                  <a:pt x="4068" y="10120"/>
                </a:cubicBezTo>
                <a:cubicBezTo>
                  <a:pt x="4047" y="10218"/>
                  <a:pt x="4002" y="10244"/>
                  <a:pt x="3919" y="10269"/>
                </a:cubicBezTo>
                <a:cubicBezTo>
                  <a:pt x="3832" y="10296"/>
                  <a:pt x="3762" y="10294"/>
                  <a:pt x="3671" y="10294"/>
                </a:cubicBezTo>
                <a:cubicBezTo>
                  <a:pt x="3601" y="10294"/>
                  <a:pt x="3582" y="10253"/>
                  <a:pt x="3547" y="10195"/>
                </a:cubicBezTo>
                <a:cubicBezTo>
                  <a:pt x="3516" y="10143"/>
                  <a:pt x="3522" y="10105"/>
                  <a:pt x="3522" y="10046"/>
                </a:cubicBezTo>
              </a:path>
              <a:path w="10965" h="1861">
                <a:moveTo>
                  <a:pt x="4440" y="9624"/>
                </a:moveTo>
                <a:cubicBezTo>
                  <a:pt x="4440" y="9840"/>
                  <a:pt x="4428" y="10059"/>
                  <a:pt x="4465" y="10269"/>
                </a:cubicBezTo>
                <a:cubicBezTo>
                  <a:pt x="4477" y="10335"/>
                  <a:pt x="4502" y="10211"/>
                  <a:pt x="4514" y="10145"/>
                </a:cubicBezTo>
              </a:path>
              <a:path w="10965" h="1861">
                <a:moveTo>
                  <a:pt x="4490" y="9252"/>
                </a:moveTo>
                <a:lnTo>
                  <a:pt x="4490" y="9252"/>
                </a:lnTo>
              </a:path>
              <a:path w="10965" h="1861">
                <a:moveTo>
                  <a:pt x="4961" y="9550"/>
                </a:moveTo>
                <a:cubicBezTo>
                  <a:pt x="4961" y="9627"/>
                  <a:pt x="4939" y="9680"/>
                  <a:pt x="4936" y="9748"/>
                </a:cubicBezTo>
                <a:cubicBezTo>
                  <a:pt x="4931" y="9860"/>
                  <a:pt x="4943" y="9974"/>
                  <a:pt x="4961" y="10071"/>
                </a:cubicBezTo>
                <a:cubicBezTo>
                  <a:pt x="4961" y="10087"/>
                  <a:pt x="4961" y="10104"/>
                  <a:pt x="4961" y="10120"/>
                </a:cubicBezTo>
                <a:cubicBezTo>
                  <a:pt x="4986" y="10029"/>
                  <a:pt x="5014" y="9939"/>
                  <a:pt x="5035" y="9847"/>
                </a:cubicBezTo>
                <a:cubicBezTo>
                  <a:pt x="5045" y="9804"/>
                  <a:pt x="5084" y="9682"/>
                  <a:pt x="5085" y="9674"/>
                </a:cubicBezTo>
                <a:cubicBezTo>
                  <a:pt x="5095" y="9616"/>
                  <a:pt x="5089" y="9566"/>
                  <a:pt x="5159" y="9550"/>
                </a:cubicBezTo>
                <a:cubicBezTo>
                  <a:pt x="5200" y="9541"/>
                  <a:pt x="5249" y="9581"/>
                  <a:pt x="5259" y="9599"/>
                </a:cubicBezTo>
                <a:cubicBezTo>
                  <a:pt x="5298" y="9675"/>
                  <a:pt x="5308" y="9685"/>
                  <a:pt x="5308" y="9773"/>
                </a:cubicBezTo>
                <a:cubicBezTo>
                  <a:pt x="5308" y="9843"/>
                  <a:pt x="5283" y="9900"/>
                  <a:pt x="5283" y="9971"/>
                </a:cubicBezTo>
                <a:cubicBezTo>
                  <a:pt x="5283" y="10020"/>
                  <a:pt x="5277" y="10026"/>
                  <a:pt x="5308" y="10046"/>
                </a:cubicBezTo>
              </a:path>
              <a:path w="10965" h="1861">
                <a:moveTo>
                  <a:pt x="6201" y="9302"/>
                </a:moveTo>
                <a:cubicBezTo>
                  <a:pt x="6124" y="9209"/>
                  <a:pt x="6094" y="9290"/>
                  <a:pt x="5978" y="9302"/>
                </a:cubicBezTo>
                <a:cubicBezTo>
                  <a:pt x="5899" y="9310"/>
                  <a:pt x="5838" y="9334"/>
                  <a:pt x="5779" y="9376"/>
                </a:cubicBezTo>
                <a:cubicBezTo>
                  <a:pt x="5745" y="9400"/>
                  <a:pt x="5714" y="9452"/>
                  <a:pt x="5705" y="9475"/>
                </a:cubicBezTo>
                <a:cubicBezTo>
                  <a:pt x="5688" y="9518"/>
                  <a:pt x="5716" y="9547"/>
                  <a:pt x="5755" y="9550"/>
                </a:cubicBezTo>
                <a:cubicBezTo>
                  <a:pt x="5888" y="9560"/>
                  <a:pt x="5980" y="9565"/>
                  <a:pt x="6102" y="9599"/>
                </a:cubicBezTo>
                <a:cubicBezTo>
                  <a:pt x="6167" y="9617"/>
                  <a:pt x="6305" y="9638"/>
                  <a:pt x="6350" y="9674"/>
                </a:cubicBezTo>
                <a:cubicBezTo>
                  <a:pt x="6406" y="9719"/>
                  <a:pt x="6484" y="9868"/>
                  <a:pt x="6499" y="9922"/>
                </a:cubicBezTo>
                <a:cubicBezTo>
                  <a:pt x="6520" y="9996"/>
                  <a:pt x="6446" y="10031"/>
                  <a:pt x="6400" y="10046"/>
                </a:cubicBezTo>
                <a:cubicBezTo>
                  <a:pt x="6293" y="10080"/>
                  <a:pt x="6242" y="10120"/>
                  <a:pt x="6127" y="10120"/>
                </a:cubicBezTo>
                <a:cubicBezTo>
                  <a:pt x="6058" y="10120"/>
                  <a:pt x="5971" y="10135"/>
                  <a:pt x="5953" y="10046"/>
                </a:cubicBezTo>
                <a:cubicBezTo>
                  <a:pt x="5953" y="9980"/>
                  <a:pt x="5953" y="9963"/>
                  <a:pt x="5953" y="9922"/>
                </a:cubicBezTo>
              </a:path>
              <a:path w="10965" h="1861">
                <a:moveTo>
                  <a:pt x="6846" y="9376"/>
                </a:moveTo>
                <a:cubicBezTo>
                  <a:pt x="6783" y="9296"/>
                  <a:pt x="6819" y="9302"/>
                  <a:pt x="6747" y="9302"/>
                </a:cubicBezTo>
                <a:cubicBezTo>
                  <a:pt x="6721" y="9321"/>
                  <a:pt x="6646" y="9362"/>
                  <a:pt x="6648" y="9401"/>
                </a:cubicBezTo>
                <a:cubicBezTo>
                  <a:pt x="6652" y="9494"/>
                  <a:pt x="6745" y="9534"/>
                  <a:pt x="6796" y="9599"/>
                </a:cubicBezTo>
                <a:cubicBezTo>
                  <a:pt x="6857" y="9677"/>
                  <a:pt x="6930" y="9727"/>
                  <a:pt x="6970" y="9823"/>
                </a:cubicBezTo>
                <a:cubicBezTo>
                  <a:pt x="7003" y="9903"/>
                  <a:pt x="7033" y="9925"/>
                  <a:pt x="6995" y="9996"/>
                </a:cubicBezTo>
                <a:cubicBezTo>
                  <a:pt x="6975" y="10037"/>
                  <a:pt x="6977" y="10053"/>
                  <a:pt x="6945" y="10046"/>
                </a:cubicBezTo>
                <a:cubicBezTo>
                  <a:pt x="6906" y="10012"/>
                  <a:pt x="6847" y="10016"/>
                  <a:pt x="6821" y="9971"/>
                </a:cubicBezTo>
                <a:cubicBezTo>
                  <a:pt x="6775" y="9890"/>
                  <a:pt x="6821" y="9758"/>
                  <a:pt x="6846" y="9674"/>
                </a:cubicBezTo>
                <a:cubicBezTo>
                  <a:pt x="6867" y="9602"/>
                  <a:pt x="6907" y="9529"/>
                  <a:pt x="6945" y="9475"/>
                </a:cubicBezTo>
                <a:cubicBezTo>
                  <a:pt x="6973" y="9435"/>
                  <a:pt x="7028" y="9395"/>
                  <a:pt x="6970" y="9376"/>
                </a:cubicBezTo>
              </a:path>
              <a:path w="10965" h="1861">
                <a:moveTo>
                  <a:pt x="7367" y="9897"/>
                </a:moveTo>
                <a:cubicBezTo>
                  <a:pt x="7334" y="9897"/>
                  <a:pt x="7325" y="9889"/>
                  <a:pt x="7342" y="9847"/>
                </a:cubicBezTo>
              </a:path>
              <a:path w="10965" h="1861">
                <a:moveTo>
                  <a:pt x="7813" y="9500"/>
                </a:moveTo>
                <a:cubicBezTo>
                  <a:pt x="7813" y="9637"/>
                  <a:pt x="7803" y="9764"/>
                  <a:pt x="7789" y="9897"/>
                </a:cubicBezTo>
                <a:cubicBezTo>
                  <a:pt x="7783" y="9953"/>
                  <a:pt x="7737" y="10061"/>
                  <a:pt x="7764" y="10120"/>
                </a:cubicBezTo>
                <a:cubicBezTo>
                  <a:pt x="7772" y="10120"/>
                  <a:pt x="7781" y="10120"/>
                  <a:pt x="7789" y="10120"/>
                </a:cubicBezTo>
              </a:path>
              <a:path w="10965" h="1861">
                <a:moveTo>
                  <a:pt x="8111" y="9500"/>
                </a:moveTo>
                <a:cubicBezTo>
                  <a:pt x="8142" y="9477"/>
                  <a:pt x="8171" y="9455"/>
                  <a:pt x="8210" y="9451"/>
                </a:cubicBezTo>
                <a:cubicBezTo>
                  <a:pt x="8261" y="9445"/>
                  <a:pt x="8321" y="9442"/>
                  <a:pt x="8359" y="9475"/>
                </a:cubicBezTo>
                <a:cubicBezTo>
                  <a:pt x="8428" y="9535"/>
                  <a:pt x="8362" y="9638"/>
                  <a:pt x="8334" y="9699"/>
                </a:cubicBezTo>
                <a:cubicBezTo>
                  <a:pt x="8304" y="9766"/>
                  <a:pt x="8242" y="9855"/>
                  <a:pt x="8186" y="9897"/>
                </a:cubicBezTo>
                <a:cubicBezTo>
                  <a:pt x="8163" y="9914"/>
                  <a:pt x="8097" y="9951"/>
                  <a:pt x="8086" y="9971"/>
                </a:cubicBezTo>
                <a:cubicBezTo>
                  <a:pt x="8086" y="10004"/>
                  <a:pt x="8086" y="10021"/>
                  <a:pt x="8086" y="10046"/>
                </a:cubicBezTo>
                <a:cubicBezTo>
                  <a:pt x="8161" y="10046"/>
                  <a:pt x="8235" y="10046"/>
                  <a:pt x="8310" y="10046"/>
                </a:cubicBezTo>
              </a:path>
              <a:path w="10965" h="1861">
                <a:moveTo>
                  <a:pt x="8607" y="10046"/>
                </a:moveTo>
                <a:cubicBezTo>
                  <a:pt x="8599" y="10046"/>
                  <a:pt x="8590" y="10046"/>
                  <a:pt x="8582" y="10046"/>
                </a:cubicBezTo>
              </a:path>
              <a:path w="10965" h="1861">
                <a:moveTo>
                  <a:pt x="9128" y="9624"/>
                </a:moveTo>
                <a:cubicBezTo>
                  <a:pt x="9160" y="9575"/>
                  <a:pt x="9108" y="9599"/>
                  <a:pt x="9054" y="9599"/>
                </a:cubicBezTo>
                <a:cubicBezTo>
                  <a:pt x="9002" y="9599"/>
                  <a:pt x="8971" y="9611"/>
                  <a:pt x="8930" y="9624"/>
                </a:cubicBezTo>
                <a:cubicBezTo>
                  <a:pt x="8905" y="9624"/>
                  <a:pt x="8897" y="9624"/>
                  <a:pt x="8880" y="9624"/>
                </a:cubicBezTo>
                <a:cubicBezTo>
                  <a:pt x="8890" y="9697"/>
                  <a:pt x="8931" y="9759"/>
                  <a:pt x="8979" y="9823"/>
                </a:cubicBezTo>
                <a:cubicBezTo>
                  <a:pt x="9028" y="9888"/>
                  <a:pt x="9045" y="9964"/>
                  <a:pt x="9054" y="10046"/>
                </a:cubicBezTo>
                <a:cubicBezTo>
                  <a:pt x="9054" y="10071"/>
                  <a:pt x="9054" y="10095"/>
                  <a:pt x="9054" y="10120"/>
                </a:cubicBezTo>
                <a:cubicBezTo>
                  <a:pt x="8964" y="10120"/>
                  <a:pt x="8964" y="10133"/>
                  <a:pt x="8930" y="10071"/>
                </a:cubicBezTo>
                <a:cubicBezTo>
                  <a:pt x="8900" y="10017"/>
                  <a:pt x="8889" y="9960"/>
                  <a:pt x="8930" y="9897"/>
                </a:cubicBezTo>
                <a:cubicBezTo>
                  <a:pt x="8971" y="9833"/>
                  <a:pt x="9050" y="9822"/>
                  <a:pt x="9103" y="9773"/>
                </a:cubicBezTo>
                <a:cubicBezTo>
                  <a:pt x="9135" y="9744"/>
                  <a:pt x="9188" y="9696"/>
                  <a:pt x="9227" y="9674"/>
                </a:cubicBezTo>
                <a:cubicBezTo>
                  <a:pt x="9280" y="9644"/>
                  <a:pt x="9244" y="9581"/>
                  <a:pt x="9203" y="9550"/>
                </a:cubicBezTo>
              </a:path>
              <a:path w="10965" h="1861">
                <a:moveTo>
                  <a:pt x="9748" y="10046"/>
                </a:moveTo>
                <a:cubicBezTo>
                  <a:pt x="9690" y="10046"/>
                  <a:pt x="9633" y="10046"/>
                  <a:pt x="9575" y="10046"/>
                </a:cubicBezTo>
              </a:path>
              <a:path w="10965" h="1861">
                <a:moveTo>
                  <a:pt x="9748" y="10195"/>
                </a:moveTo>
                <a:cubicBezTo>
                  <a:pt x="9770" y="10249"/>
                  <a:pt x="9767" y="10269"/>
                  <a:pt x="9699" y="10269"/>
                </a:cubicBezTo>
                <a:cubicBezTo>
                  <a:pt x="9658" y="10269"/>
                  <a:pt x="9616" y="10269"/>
                  <a:pt x="9575" y="10269"/>
                </a:cubicBezTo>
              </a:path>
              <a:path w="10965" h="1861">
                <a:moveTo>
                  <a:pt x="10220" y="9525"/>
                </a:moveTo>
                <a:cubicBezTo>
                  <a:pt x="10244" y="9566"/>
                  <a:pt x="10256" y="9621"/>
                  <a:pt x="10244" y="9674"/>
                </a:cubicBezTo>
                <a:cubicBezTo>
                  <a:pt x="10224" y="9766"/>
                  <a:pt x="10204" y="9816"/>
                  <a:pt x="10170" y="9897"/>
                </a:cubicBezTo>
                <a:cubicBezTo>
                  <a:pt x="10143" y="9963"/>
                  <a:pt x="10129" y="9983"/>
                  <a:pt x="10120" y="10046"/>
                </a:cubicBezTo>
                <a:cubicBezTo>
                  <a:pt x="10219" y="10046"/>
                  <a:pt x="10152" y="10040"/>
                  <a:pt x="10244" y="9971"/>
                </a:cubicBezTo>
                <a:cubicBezTo>
                  <a:pt x="10249" y="9967"/>
                  <a:pt x="10382" y="9928"/>
                  <a:pt x="10393" y="9922"/>
                </a:cubicBezTo>
                <a:cubicBezTo>
                  <a:pt x="10441" y="9898"/>
                  <a:pt x="10434" y="9906"/>
                  <a:pt x="10468" y="9847"/>
                </a:cubicBezTo>
              </a:path>
              <a:path w="10965" h="1861">
                <a:moveTo>
                  <a:pt x="10468" y="9451"/>
                </a:moveTo>
                <a:cubicBezTo>
                  <a:pt x="10496" y="9528"/>
                  <a:pt x="10492" y="9590"/>
                  <a:pt x="10492" y="9674"/>
                </a:cubicBezTo>
                <a:cubicBezTo>
                  <a:pt x="10492" y="9875"/>
                  <a:pt x="10501" y="10074"/>
                  <a:pt x="10468" y="10269"/>
                </a:cubicBezTo>
                <a:cubicBezTo>
                  <a:pt x="10461" y="10309"/>
                  <a:pt x="10474" y="10405"/>
                  <a:pt x="10492" y="10368"/>
                </a:cubicBezTo>
                <a:cubicBezTo>
                  <a:pt x="10492" y="10344"/>
                  <a:pt x="10492" y="10336"/>
                  <a:pt x="10517" y="10344"/>
                </a:cubicBezTo>
              </a:path>
              <a:path w="10965" h="1861">
                <a:moveTo>
                  <a:pt x="10691" y="10269"/>
                </a:moveTo>
                <a:cubicBezTo>
                  <a:pt x="10666" y="10269"/>
                  <a:pt x="10658" y="10269"/>
                  <a:pt x="10691" y="10269"/>
                </a:cubicBezTo>
              </a:path>
              <a:path w="10965" h="1861">
                <a:moveTo>
                  <a:pt x="11286" y="9599"/>
                </a:moveTo>
                <a:cubicBezTo>
                  <a:pt x="11226" y="9599"/>
                  <a:pt x="11109" y="9579"/>
                  <a:pt x="11088" y="9624"/>
                </a:cubicBezTo>
                <a:cubicBezTo>
                  <a:pt x="11078" y="9645"/>
                  <a:pt x="11023" y="9736"/>
                  <a:pt x="11013" y="9748"/>
                </a:cubicBezTo>
                <a:cubicBezTo>
                  <a:pt x="10989" y="9776"/>
                  <a:pt x="10971" y="9787"/>
                  <a:pt x="11013" y="9823"/>
                </a:cubicBezTo>
                <a:cubicBezTo>
                  <a:pt x="11048" y="9853"/>
                  <a:pt x="11067" y="9847"/>
                  <a:pt x="11112" y="9847"/>
                </a:cubicBezTo>
                <a:cubicBezTo>
                  <a:pt x="11205" y="9847"/>
                  <a:pt x="11185" y="9848"/>
                  <a:pt x="11261" y="9897"/>
                </a:cubicBezTo>
                <a:cubicBezTo>
                  <a:pt x="11340" y="9948"/>
                  <a:pt x="11355" y="9959"/>
                  <a:pt x="11361" y="10046"/>
                </a:cubicBezTo>
                <a:cubicBezTo>
                  <a:pt x="11365" y="10107"/>
                  <a:pt x="11344" y="10139"/>
                  <a:pt x="11336" y="10195"/>
                </a:cubicBezTo>
                <a:cubicBezTo>
                  <a:pt x="11273" y="10195"/>
                  <a:pt x="11246" y="10217"/>
                  <a:pt x="11187" y="10220"/>
                </a:cubicBezTo>
                <a:cubicBezTo>
                  <a:pt x="11172" y="10221"/>
                  <a:pt x="11045" y="10202"/>
                  <a:pt x="11038" y="10195"/>
                </a:cubicBezTo>
                <a:cubicBezTo>
                  <a:pt x="11018" y="10154"/>
                  <a:pt x="11009" y="10148"/>
                  <a:pt x="11013" y="10120"/>
                </a:cubicBezTo>
              </a:path>
              <a:path w="10965" h="1861">
                <a:moveTo>
                  <a:pt x="11708" y="9922"/>
                </a:moveTo>
                <a:cubicBezTo>
                  <a:pt x="11708" y="9971"/>
                  <a:pt x="11708" y="9987"/>
                  <a:pt x="11708" y="9922"/>
                </a:cubicBezTo>
              </a:path>
              <a:path w="10965" h="1861">
                <a:moveTo>
                  <a:pt x="12154" y="9922"/>
                </a:moveTo>
                <a:cubicBezTo>
                  <a:pt x="12082" y="9901"/>
                  <a:pt x="12067" y="9899"/>
                  <a:pt x="12055" y="9971"/>
                </a:cubicBezTo>
                <a:cubicBezTo>
                  <a:pt x="12127" y="9971"/>
                  <a:pt x="12089" y="9985"/>
                  <a:pt x="12129" y="10046"/>
                </a:cubicBezTo>
                <a:cubicBezTo>
                  <a:pt x="12150" y="10078"/>
                  <a:pt x="12253" y="10171"/>
                  <a:pt x="12204" y="10220"/>
                </a:cubicBezTo>
                <a:cubicBezTo>
                  <a:pt x="12188" y="10236"/>
                  <a:pt x="12153" y="10257"/>
                  <a:pt x="12129" y="10269"/>
                </a:cubicBezTo>
                <a:cubicBezTo>
                  <a:pt x="12089" y="10249"/>
                  <a:pt x="12057" y="10206"/>
                  <a:pt x="12005" y="10195"/>
                </a:cubicBezTo>
                <a:cubicBezTo>
                  <a:pt x="11941" y="10182"/>
                  <a:pt x="11945" y="10188"/>
                  <a:pt x="11931" y="10120"/>
                </a:cubicBezTo>
              </a:path>
              <a:path w="10965" h="1861">
                <a:moveTo>
                  <a:pt x="12353" y="10046"/>
                </a:moveTo>
                <a:cubicBezTo>
                  <a:pt x="12337" y="10136"/>
                  <a:pt x="12328" y="10200"/>
                  <a:pt x="12328" y="10294"/>
                </a:cubicBezTo>
              </a:path>
              <a:path w="10965" h="1861">
                <a:moveTo>
                  <a:pt x="12502" y="9748"/>
                </a:moveTo>
                <a:cubicBezTo>
                  <a:pt x="12454" y="9748"/>
                  <a:pt x="12477" y="9765"/>
                  <a:pt x="12502" y="9773"/>
                </a:cubicBezTo>
              </a:path>
              <a:path w="10965" h="1861">
                <a:moveTo>
                  <a:pt x="12650" y="9971"/>
                </a:moveTo>
                <a:cubicBezTo>
                  <a:pt x="12650" y="10058"/>
                  <a:pt x="12669" y="10118"/>
                  <a:pt x="12675" y="10195"/>
                </a:cubicBezTo>
                <a:cubicBezTo>
                  <a:pt x="12679" y="10244"/>
                  <a:pt x="12675" y="10295"/>
                  <a:pt x="12675" y="10344"/>
                </a:cubicBezTo>
                <a:cubicBezTo>
                  <a:pt x="12711" y="10320"/>
                  <a:pt x="12700" y="10277"/>
                  <a:pt x="12700" y="10220"/>
                </a:cubicBezTo>
                <a:cubicBezTo>
                  <a:pt x="12700" y="10146"/>
                  <a:pt x="12736" y="10068"/>
                  <a:pt x="12750" y="9996"/>
                </a:cubicBezTo>
                <a:cubicBezTo>
                  <a:pt x="12756" y="9963"/>
                  <a:pt x="12771" y="9964"/>
                  <a:pt x="12799" y="9922"/>
                </a:cubicBezTo>
                <a:cubicBezTo>
                  <a:pt x="12828" y="9941"/>
                  <a:pt x="12835" y="9965"/>
                  <a:pt x="12849" y="9996"/>
                </a:cubicBezTo>
                <a:cubicBezTo>
                  <a:pt x="12883" y="10070"/>
                  <a:pt x="12874" y="10139"/>
                  <a:pt x="12874" y="10220"/>
                </a:cubicBezTo>
                <a:cubicBezTo>
                  <a:pt x="12874" y="10278"/>
                  <a:pt x="12894" y="10293"/>
                  <a:pt x="12923" y="10344"/>
                </a:cubicBezTo>
              </a:path>
              <a:path w="10965" h="1861">
                <a:moveTo>
                  <a:pt x="13196" y="9748"/>
                </a:moveTo>
                <a:cubicBezTo>
                  <a:pt x="13196" y="9849"/>
                  <a:pt x="13173" y="10283"/>
                  <a:pt x="13221" y="10220"/>
                </a:cubicBezTo>
              </a:path>
              <a:path w="10965" h="1861">
                <a:moveTo>
                  <a:pt x="13196" y="9674"/>
                </a:moveTo>
                <a:cubicBezTo>
                  <a:pt x="13260" y="9674"/>
                  <a:pt x="13242" y="9632"/>
                  <a:pt x="13295" y="9624"/>
                </a:cubicBezTo>
                <a:cubicBezTo>
                  <a:pt x="13393" y="9610"/>
                  <a:pt x="13391" y="9661"/>
                  <a:pt x="13469" y="9674"/>
                </a:cubicBezTo>
                <a:cubicBezTo>
                  <a:pt x="13526" y="9684"/>
                  <a:pt x="13556" y="9720"/>
                  <a:pt x="13568" y="9748"/>
                </a:cubicBezTo>
                <a:cubicBezTo>
                  <a:pt x="13575" y="9763"/>
                  <a:pt x="13535" y="9819"/>
                  <a:pt x="13519" y="9823"/>
                </a:cubicBezTo>
                <a:cubicBezTo>
                  <a:pt x="13468" y="9836"/>
                  <a:pt x="13431" y="9847"/>
                  <a:pt x="13370" y="9847"/>
                </a:cubicBezTo>
                <a:cubicBezTo>
                  <a:pt x="13345" y="9847"/>
                  <a:pt x="13337" y="9847"/>
                  <a:pt x="13320" y="9847"/>
                </a:cubicBezTo>
                <a:cubicBezTo>
                  <a:pt x="13400" y="9847"/>
                  <a:pt x="13368" y="9859"/>
                  <a:pt x="13444" y="9897"/>
                </a:cubicBezTo>
                <a:cubicBezTo>
                  <a:pt x="13502" y="9926"/>
                  <a:pt x="13530" y="9933"/>
                  <a:pt x="13568" y="9996"/>
                </a:cubicBezTo>
                <a:cubicBezTo>
                  <a:pt x="13599" y="10048"/>
                  <a:pt x="13593" y="10086"/>
                  <a:pt x="13593" y="10145"/>
                </a:cubicBezTo>
                <a:cubicBezTo>
                  <a:pt x="13593" y="10240"/>
                  <a:pt x="13454" y="10231"/>
                  <a:pt x="13370" y="10220"/>
                </a:cubicBezTo>
                <a:cubicBezTo>
                  <a:pt x="13315" y="10213"/>
                  <a:pt x="13282" y="10195"/>
                  <a:pt x="13221" y="10195"/>
                </a:cubicBezTo>
              </a:path>
              <a:path w="10965" h="1861">
                <a:moveTo>
                  <a:pt x="12700" y="9227"/>
                </a:moveTo>
                <a:cubicBezTo>
                  <a:pt x="12771" y="9218"/>
                  <a:pt x="12831" y="9188"/>
                  <a:pt x="12898" y="9178"/>
                </a:cubicBezTo>
                <a:cubicBezTo>
                  <a:pt x="13008" y="9162"/>
                  <a:pt x="13089" y="9211"/>
                  <a:pt x="13171" y="9227"/>
                </a:cubicBezTo>
                <a:cubicBezTo>
                  <a:pt x="13380" y="9268"/>
                  <a:pt x="13628" y="9231"/>
                  <a:pt x="13841" y="9252"/>
                </a:cubicBezTo>
                <a:cubicBezTo>
                  <a:pt x="13930" y="9261"/>
                  <a:pt x="14026" y="9280"/>
                  <a:pt x="14114" y="9302"/>
                </a:cubicBezTo>
                <a:cubicBezTo>
                  <a:pt x="14175" y="9318"/>
                  <a:pt x="14264" y="9397"/>
                  <a:pt x="14288" y="9451"/>
                </a:cubicBezTo>
                <a:cubicBezTo>
                  <a:pt x="14319" y="9519"/>
                  <a:pt x="14334" y="9591"/>
                  <a:pt x="14337" y="9674"/>
                </a:cubicBezTo>
                <a:cubicBezTo>
                  <a:pt x="14346" y="9924"/>
                  <a:pt x="14334" y="10171"/>
                  <a:pt x="14312" y="10418"/>
                </a:cubicBezTo>
                <a:cubicBezTo>
                  <a:pt x="14301" y="10537"/>
                  <a:pt x="14308" y="10768"/>
                  <a:pt x="14213" y="10864"/>
                </a:cubicBezTo>
                <a:cubicBezTo>
                  <a:pt x="14162" y="10915"/>
                  <a:pt x="14122" y="10919"/>
                  <a:pt x="14064" y="10939"/>
                </a:cubicBezTo>
                <a:cubicBezTo>
                  <a:pt x="13972" y="10971"/>
                  <a:pt x="13888" y="10964"/>
                  <a:pt x="13791" y="10964"/>
                </a:cubicBezTo>
                <a:cubicBezTo>
                  <a:pt x="13666" y="10964"/>
                  <a:pt x="13546" y="10988"/>
                  <a:pt x="13419" y="10988"/>
                </a:cubicBezTo>
                <a:cubicBezTo>
                  <a:pt x="13266" y="10988"/>
                  <a:pt x="13122" y="11000"/>
                  <a:pt x="12973" y="11013"/>
                </a:cubicBezTo>
                <a:cubicBezTo>
                  <a:pt x="12857" y="11013"/>
                  <a:pt x="12807" y="11016"/>
                  <a:pt x="12725" y="11038"/>
                </a:cubicBezTo>
              </a:path>
              <a:path w="10965" h="1861">
                <a:moveTo>
                  <a:pt x="13866" y="10641"/>
                </a:moveTo>
                <a:cubicBezTo>
                  <a:pt x="13513" y="10641"/>
                  <a:pt x="13132" y="10679"/>
                  <a:pt x="12799" y="10592"/>
                </a:cubicBezTo>
                <a:cubicBezTo>
                  <a:pt x="12592" y="10538"/>
                  <a:pt x="12366" y="10567"/>
                  <a:pt x="12154" y="10567"/>
                </a:cubicBezTo>
                <a:cubicBezTo>
                  <a:pt x="11976" y="10567"/>
                  <a:pt x="11818" y="10517"/>
                  <a:pt x="11633" y="10517"/>
                </a:cubicBezTo>
                <a:cubicBezTo>
                  <a:pt x="11187" y="10517"/>
                  <a:pt x="10724" y="10480"/>
                  <a:pt x="10294" y="10567"/>
                </a:cubicBezTo>
                <a:cubicBezTo>
                  <a:pt x="10269" y="10567"/>
                  <a:pt x="10261" y="10567"/>
                  <a:pt x="10244" y="105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83200" y="3670200"/>
            <a:ext cx="500040" cy="438120"/>
          </a:xfrm>
          <a:custGeom>
            <a:avLst/>
            <a:gdLst/>
            <a:ahLst/>
            <a:rect l="l" t="t" r="r" b="b"/>
            <a:pathLst>
              <a:path w="1390" h="1216">
                <a:moveTo>
                  <a:pt x="16619" y="10492"/>
                </a:moveTo>
                <a:cubicBezTo>
                  <a:pt x="16619" y="10617"/>
                  <a:pt x="16568" y="10912"/>
                  <a:pt x="16644" y="11013"/>
                </a:cubicBezTo>
              </a:path>
              <a:path w="1390" h="1216">
                <a:moveTo>
                  <a:pt x="16942" y="10344"/>
                </a:moveTo>
                <a:cubicBezTo>
                  <a:pt x="16942" y="10432"/>
                  <a:pt x="16952" y="10517"/>
                  <a:pt x="16966" y="10592"/>
                </a:cubicBezTo>
                <a:cubicBezTo>
                  <a:pt x="16987" y="10709"/>
                  <a:pt x="16963" y="10825"/>
                  <a:pt x="16991" y="10939"/>
                </a:cubicBezTo>
                <a:cubicBezTo>
                  <a:pt x="16991" y="10947"/>
                  <a:pt x="16991" y="10956"/>
                  <a:pt x="16991" y="10964"/>
                </a:cubicBezTo>
              </a:path>
              <a:path w="1390" h="1216">
                <a:moveTo>
                  <a:pt x="17338" y="10765"/>
                </a:moveTo>
                <a:lnTo>
                  <a:pt x="17338" y="10765"/>
                </a:lnTo>
              </a:path>
              <a:path w="1390" h="1216">
                <a:moveTo>
                  <a:pt x="17512" y="10418"/>
                </a:moveTo>
                <a:cubicBezTo>
                  <a:pt x="17501" y="10474"/>
                  <a:pt x="17487" y="10508"/>
                  <a:pt x="17487" y="10567"/>
                </a:cubicBezTo>
                <a:cubicBezTo>
                  <a:pt x="17487" y="10600"/>
                  <a:pt x="17487" y="10616"/>
                  <a:pt x="17487" y="10641"/>
                </a:cubicBezTo>
                <a:cubicBezTo>
                  <a:pt x="17568" y="10641"/>
                  <a:pt x="17526" y="10633"/>
                  <a:pt x="17587" y="10592"/>
                </a:cubicBezTo>
                <a:cubicBezTo>
                  <a:pt x="17630" y="10563"/>
                  <a:pt x="17685" y="10524"/>
                  <a:pt x="17735" y="10492"/>
                </a:cubicBezTo>
              </a:path>
              <a:path w="1390" h="1216">
                <a:moveTo>
                  <a:pt x="17909" y="10195"/>
                </a:moveTo>
                <a:cubicBezTo>
                  <a:pt x="17918" y="10281"/>
                  <a:pt x="17952" y="10354"/>
                  <a:pt x="17959" y="10443"/>
                </a:cubicBezTo>
                <a:cubicBezTo>
                  <a:pt x="17971" y="10593"/>
                  <a:pt x="17983" y="10736"/>
                  <a:pt x="17983" y="10889"/>
                </a:cubicBezTo>
                <a:cubicBezTo>
                  <a:pt x="17983" y="11067"/>
                  <a:pt x="17993" y="11232"/>
                  <a:pt x="18008" y="114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56280" y="1633680"/>
            <a:ext cx="347760" cy="339480"/>
          </a:xfrm>
          <a:custGeom>
            <a:avLst/>
            <a:gdLst/>
            <a:ahLst/>
            <a:rect l="l" t="t" r="r" b="b"/>
            <a:pathLst>
              <a:path w="968" h="944">
                <a:moveTo>
                  <a:pt x="19819" y="4589"/>
                </a:moveTo>
                <a:cubicBezTo>
                  <a:pt x="19819" y="4564"/>
                  <a:pt x="19819" y="4556"/>
                  <a:pt x="19819" y="4539"/>
                </a:cubicBezTo>
                <a:cubicBezTo>
                  <a:pt x="19768" y="4546"/>
                  <a:pt x="19740" y="4552"/>
                  <a:pt x="19695" y="4589"/>
                </a:cubicBezTo>
                <a:cubicBezTo>
                  <a:pt x="19620" y="4650"/>
                  <a:pt x="19598" y="4739"/>
                  <a:pt x="19546" y="4812"/>
                </a:cubicBezTo>
                <a:cubicBezTo>
                  <a:pt x="19498" y="4878"/>
                  <a:pt x="19466" y="4945"/>
                  <a:pt x="19422" y="5011"/>
                </a:cubicBezTo>
                <a:cubicBezTo>
                  <a:pt x="19376" y="5079"/>
                  <a:pt x="19302" y="5137"/>
                  <a:pt x="19323" y="5234"/>
                </a:cubicBezTo>
                <a:cubicBezTo>
                  <a:pt x="19340" y="5313"/>
                  <a:pt x="19422" y="5383"/>
                  <a:pt x="19496" y="5407"/>
                </a:cubicBezTo>
                <a:cubicBezTo>
                  <a:pt x="19624" y="5449"/>
                  <a:pt x="19785" y="5471"/>
                  <a:pt x="19918" y="5482"/>
                </a:cubicBezTo>
                <a:cubicBezTo>
                  <a:pt x="20021" y="5491"/>
                  <a:pt x="20202" y="5510"/>
                  <a:pt x="20290" y="54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59000" y="4152960"/>
            <a:ext cx="2206800" cy="446040"/>
          </a:xfrm>
          <a:custGeom>
            <a:avLst/>
            <a:gdLst/>
            <a:ahLst/>
            <a:rect l="l" t="t" r="r" b="b"/>
            <a:pathLst>
              <a:path w="6127" h="1241">
                <a:moveTo>
                  <a:pt x="6300" y="12080"/>
                </a:moveTo>
                <a:cubicBezTo>
                  <a:pt x="6313" y="12028"/>
                  <a:pt x="6337" y="12038"/>
                  <a:pt x="6375" y="12005"/>
                </a:cubicBezTo>
                <a:cubicBezTo>
                  <a:pt x="6435" y="11953"/>
                  <a:pt x="6483" y="11994"/>
                  <a:pt x="6548" y="12005"/>
                </a:cubicBezTo>
                <a:cubicBezTo>
                  <a:pt x="6588" y="12011"/>
                  <a:pt x="6679" y="12029"/>
                  <a:pt x="6697" y="12080"/>
                </a:cubicBezTo>
                <a:cubicBezTo>
                  <a:pt x="6727" y="12165"/>
                  <a:pt x="6677" y="12217"/>
                  <a:pt x="6648" y="12278"/>
                </a:cubicBezTo>
                <a:cubicBezTo>
                  <a:pt x="6603" y="12373"/>
                  <a:pt x="6549" y="12447"/>
                  <a:pt x="6474" y="12526"/>
                </a:cubicBezTo>
                <a:cubicBezTo>
                  <a:pt x="6417" y="12586"/>
                  <a:pt x="6363" y="12627"/>
                  <a:pt x="6300" y="12675"/>
                </a:cubicBezTo>
                <a:cubicBezTo>
                  <a:pt x="6292" y="12683"/>
                  <a:pt x="6284" y="12692"/>
                  <a:pt x="6276" y="12700"/>
                </a:cubicBezTo>
                <a:cubicBezTo>
                  <a:pt x="6319" y="12733"/>
                  <a:pt x="6342" y="12725"/>
                  <a:pt x="6400" y="12725"/>
                </a:cubicBezTo>
                <a:cubicBezTo>
                  <a:pt x="6465" y="12725"/>
                  <a:pt x="6510" y="12746"/>
                  <a:pt x="6573" y="12750"/>
                </a:cubicBezTo>
                <a:cubicBezTo>
                  <a:pt x="6617" y="12752"/>
                  <a:pt x="6677" y="12796"/>
                  <a:pt x="6722" y="12774"/>
                </a:cubicBezTo>
                <a:cubicBezTo>
                  <a:pt x="6745" y="12752"/>
                  <a:pt x="6750" y="12744"/>
                  <a:pt x="6772" y="12750"/>
                </a:cubicBezTo>
              </a:path>
              <a:path w="6127" h="1241">
                <a:moveTo>
                  <a:pt x="7193" y="12551"/>
                </a:moveTo>
                <a:cubicBezTo>
                  <a:pt x="7185" y="12543"/>
                  <a:pt x="7177" y="12534"/>
                  <a:pt x="7169" y="12526"/>
                </a:cubicBezTo>
              </a:path>
              <a:path w="6127" h="1241">
                <a:moveTo>
                  <a:pt x="7516" y="11906"/>
                </a:moveTo>
                <a:cubicBezTo>
                  <a:pt x="7490" y="11977"/>
                  <a:pt x="7462" y="12045"/>
                  <a:pt x="7417" y="12105"/>
                </a:cubicBezTo>
                <a:cubicBezTo>
                  <a:pt x="7395" y="12134"/>
                  <a:pt x="7343" y="12185"/>
                  <a:pt x="7367" y="12229"/>
                </a:cubicBezTo>
                <a:cubicBezTo>
                  <a:pt x="7382" y="12255"/>
                  <a:pt x="7440" y="12275"/>
                  <a:pt x="7466" y="12278"/>
                </a:cubicBezTo>
                <a:cubicBezTo>
                  <a:pt x="7528" y="12285"/>
                  <a:pt x="7579" y="12300"/>
                  <a:pt x="7640" y="12303"/>
                </a:cubicBezTo>
                <a:cubicBezTo>
                  <a:pt x="7700" y="12306"/>
                  <a:pt x="7769" y="12317"/>
                  <a:pt x="7813" y="12278"/>
                </a:cubicBezTo>
                <a:cubicBezTo>
                  <a:pt x="7836" y="12256"/>
                  <a:pt x="7844" y="12251"/>
                  <a:pt x="7838" y="12229"/>
                </a:cubicBezTo>
              </a:path>
              <a:path w="6127" h="1241">
                <a:moveTo>
                  <a:pt x="7789" y="11857"/>
                </a:moveTo>
                <a:cubicBezTo>
                  <a:pt x="7815" y="11901"/>
                  <a:pt x="7827" y="11973"/>
                  <a:pt x="7813" y="12030"/>
                </a:cubicBezTo>
                <a:cubicBezTo>
                  <a:pt x="7787" y="12139"/>
                  <a:pt x="7768" y="12262"/>
                  <a:pt x="7764" y="12378"/>
                </a:cubicBezTo>
                <a:cubicBezTo>
                  <a:pt x="7761" y="12462"/>
                  <a:pt x="7767" y="12510"/>
                  <a:pt x="7789" y="12576"/>
                </a:cubicBezTo>
                <a:cubicBezTo>
                  <a:pt x="7806" y="12628"/>
                  <a:pt x="7813" y="12584"/>
                  <a:pt x="7838" y="12551"/>
                </a:cubicBezTo>
              </a:path>
              <a:path w="6127" h="1241">
                <a:moveTo>
                  <a:pt x="8334" y="11832"/>
                </a:moveTo>
                <a:cubicBezTo>
                  <a:pt x="8300" y="11927"/>
                  <a:pt x="8288" y="12010"/>
                  <a:pt x="8260" y="12105"/>
                </a:cubicBezTo>
                <a:cubicBezTo>
                  <a:pt x="8230" y="12205"/>
                  <a:pt x="8235" y="12297"/>
                  <a:pt x="8235" y="12402"/>
                </a:cubicBezTo>
                <a:cubicBezTo>
                  <a:pt x="8235" y="12477"/>
                  <a:pt x="8235" y="12551"/>
                  <a:pt x="8235" y="12626"/>
                </a:cubicBezTo>
              </a:path>
              <a:path w="6127" h="1241">
                <a:moveTo>
                  <a:pt x="9004" y="12229"/>
                </a:moveTo>
                <a:cubicBezTo>
                  <a:pt x="8922" y="12229"/>
                  <a:pt x="8850" y="12240"/>
                  <a:pt x="8781" y="12254"/>
                </a:cubicBezTo>
                <a:cubicBezTo>
                  <a:pt x="8739" y="12254"/>
                  <a:pt x="8731" y="12254"/>
                  <a:pt x="8706" y="12254"/>
                </a:cubicBezTo>
                <a:cubicBezTo>
                  <a:pt x="8717" y="12286"/>
                  <a:pt x="8721" y="12276"/>
                  <a:pt x="8756" y="12303"/>
                </a:cubicBezTo>
              </a:path>
              <a:path w="6127" h="1241">
                <a:moveTo>
                  <a:pt x="9004" y="12402"/>
                </a:moveTo>
                <a:cubicBezTo>
                  <a:pt x="9012" y="12410"/>
                  <a:pt x="9021" y="12419"/>
                  <a:pt x="9029" y="12427"/>
                </a:cubicBezTo>
                <a:cubicBezTo>
                  <a:pt x="8954" y="12427"/>
                  <a:pt x="8676" y="12460"/>
                  <a:pt x="8657" y="12402"/>
                </a:cubicBezTo>
              </a:path>
              <a:path w="6127" h="1241">
                <a:moveTo>
                  <a:pt x="9798" y="12105"/>
                </a:moveTo>
                <a:cubicBezTo>
                  <a:pt x="9748" y="12035"/>
                  <a:pt x="9734" y="12030"/>
                  <a:pt x="9649" y="12030"/>
                </a:cubicBezTo>
                <a:cubicBezTo>
                  <a:pt x="9604" y="12030"/>
                  <a:pt x="9517" y="12128"/>
                  <a:pt x="9500" y="12154"/>
                </a:cubicBezTo>
                <a:cubicBezTo>
                  <a:pt x="9500" y="12162"/>
                  <a:pt x="9500" y="12171"/>
                  <a:pt x="9500" y="12179"/>
                </a:cubicBezTo>
                <a:cubicBezTo>
                  <a:pt x="9552" y="12218"/>
                  <a:pt x="9607" y="12204"/>
                  <a:pt x="9674" y="12204"/>
                </a:cubicBezTo>
                <a:cubicBezTo>
                  <a:pt x="9762" y="12204"/>
                  <a:pt x="9838" y="12197"/>
                  <a:pt x="9922" y="12229"/>
                </a:cubicBezTo>
                <a:cubicBezTo>
                  <a:pt x="9984" y="12253"/>
                  <a:pt x="10076" y="12285"/>
                  <a:pt x="10096" y="12353"/>
                </a:cubicBezTo>
                <a:cubicBezTo>
                  <a:pt x="10112" y="12408"/>
                  <a:pt x="10118" y="12447"/>
                  <a:pt x="10096" y="12502"/>
                </a:cubicBezTo>
                <a:cubicBezTo>
                  <a:pt x="10056" y="12601"/>
                  <a:pt x="9979" y="12577"/>
                  <a:pt x="9897" y="12601"/>
                </a:cubicBezTo>
                <a:cubicBezTo>
                  <a:pt x="9820" y="12623"/>
                  <a:pt x="9750" y="12648"/>
                  <a:pt x="9674" y="12601"/>
                </a:cubicBezTo>
                <a:cubicBezTo>
                  <a:pt x="9622" y="12569"/>
                  <a:pt x="9587" y="12459"/>
                  <a:pt x="9599" y="12402"/>
                </a:cubicBezTo>
                <a:cubicBezTo>
                  <a:pt x="9609" y="12355"/>
                  <a:pt x="9652" y="12297"/>
                  <a:pt x="9674" y="12254"/>
                </a:cubicBezTo>
              </a:path>
              <a:path w="6127" h="1241">
                <a:moveTo>
                  <a:pt x="10368" y="12055"/>
                </a:moveTo>
                <a:cubicBezTo>
                  <a:pt x="10414" y="12146"/>
                  <a:pt x="10418" y="12200"/>
                  <a:pt x="10418" y="12303"/>
                </a:cubicBezTo>
                <a:cubicBezTo>
                  <a:pt x="10418" y="12329"/>
                  <a:pt x="10426" y="12599"/>
                  <a:pt x="10443" y="12576"/>
                </a:cubicBezTo>
                <a:cubicBezTo>
                  <a:pt x="10443" y="12551"/>
                  <a:pt x="10443" y="12543"/>
                  <a:pt x="10443" y="12526"/>
                </a:cubicBezTo>
              </a:path>
              <a:path w="6127" h="1241">
                <a:moveTo>
                  <a:pt x="10418" y="11757"/>
                </a:moveTo>
                <a:lnTo>
                  <a:pt x="10418" y="11757"/>
                </a:lnTo>
              </a:path>
              <a:path w="6127" h="1241">
                <a:moveTo>
                  <a:pt x="10765" y="11981"/>
                </a:moveTo>
                <a:cubicBezTo>
                  <a:pt x="10765" y="12120"/>
                  <a:pt x="10710" y="12395"/>
                  <a:pt x="10790" y="12502"/>
                </a:cubicBezTo>
                <a:cubicBezTo>
                  <a:pt x="10821" y="12461"/>
                  <a:pt x="10834" y="12381"/>
                  <a:pt x="10840" y="12328"/>
                </a:cubicBezTo>
                <a:cubicBezTo>
                  <a:pt x="10850" y="12244"/>
                  <a:pt x="10837" y="12160"/>
                  <a:pt x="10864" y="12080"/>
                </a:cubicBezTo>
                <a:cubicBezTo>
                  <a:pt x="10879" y="12034"/>
                  <a:pt x="10915" y="11984"/>
                  <a:pt x="10964" y="11981"/>
                </a:cubicBezTo>
                <a:cubicBezTo>
                  <a:pt x="11036" y="11976"/>
                  <a:pt x="11054" y="11995"/>
                  <a:pt x="11112" y="12030"/>
                </a:cubicBezTo>
                <a:cubicBezTo>
                  <a:pt x="11207" y="12087"/>
                  <a:pt x="11187" y="12147"/>
                  <a:pt x="11187" y="12254"/>
                </a:cubicBezTo>
                <a:cubicBezTo>
                  <a:pt x="11187" y="12338"/>
                  <a:pt x="11168" y="12398"/>
                  <a:pt x="11162" y="12477"/>
                </a:cubicBezTo>
                <a:cubicBezTo>
                  <a:pt x="11161" y="12493"/>
                  <a:pt x="11173" y="12590"/>
                  <a:pt x="11212" y="12551"/>
                </a:cubicBezTo>
                <a:cubicBezTo>
                  <a:pt x="11212" y="12543"/>
                  <a:pt x="11212" y="12534"/>
                  <a:pt x="11212" y="12526"/>
                </a:cubicBezTo>
              </a:path>
              <a:path w="6127" h="1241">
                <a:moveTo>
                  <a:pt x="11658" y="11733"/>
                </a:moveTo>
                <a:cubicBezTo>
                  <a:pt x="11658" y="11799"/>
                  <a:pt x="11680" y="11842"/>
                  <a:pt x="11683" y="11906"/>
                </a:cubicBezTo>
                <a:cubicBezTo>
                  <a:pt x="11687" y="12006"/>
                  <a:pt x="11658" y="12101"/>
                  <a:pt x="11658" y="12204"/>
                </a:cubicBezTo>
                <a:cubicBezTo>
                  <a:pt x="11658" y="12287"/>
                  <a:pt x="11658" y="12369"/>
                  <a:pt x="11658" y="12452"/>
                </a:cubicBezTo>
                <a:cubicBezTo>
                  <a:pt x="11709" y="12439"/>
                  <a:pt x="11704" y="12428"/>
                  <a:pt x="11733" y="12378"/>
                </a:cubicBezTo>
              </a:path>
              <a:path w="6127" h="1241">
                <a:moveTo>
                  <a:pt x="11609" y="11658"/>
                </a:moveTo>
                <a:cubicBezTo>
                  <a:pt x="11619" y="11589"/>
                  <a:pt x="11628" y="11592"/>
                  <a:pt x="11683" y="11559"/>
                </a:cubicBezTo>
                <a:cubicBezTo>
                  <a:pt x="11746" y="11521"/>
                  <a:pt x="11860" y="11521"/>
                  <a:pt x="11931" y="11534"/>
                </a:cubicBezTo>
                <a:cubicBezTo>
                  <a:pt x="12028" y="11552"/>
                  <a:pt x="12141" y="11639"/>
                  <a:pt x="12204" y="11708"/>
                </a:cubicBezTo>
                <a:cubicBezTo>
                  <a:pt x="12255" y="11764"/>
                  <a:pt x="12220" y="11812"/>
                  <a:pt x="12179" y="11857"/>
                </a:cubicBezTo>
                <a:cubicBezTo>
                  <a:pt x="12140" y="11899"/>
                  <a:pt x="12014" y="11947"/>
                  <a:pt x="11956" y="11956"/>
                </a:cubicBezTo>
                <a:cubicBezTo>
                  <a:pt x="11869" y="11969"/>
                  <a:pt x="11867" y="11946"/>
                  <a:pt x="11832" y="11931"/>
                </a:cubicBezTo>
                <a:cubicBezTo>
                  <a:pt x="11861" y="11890"/>
                  <a:pt x="11888" y="11844"/>
                  <a:pt x="11956" y="11832"/>
                </a:cubicBezTo>
                <a:cubicBezTo>
                  <a:pt x="12057" y="11814"/>
                  <a:pt x="12131" y="11841"/>
                  <a:pt x="12204" y="11906"/>
                </a:cubicBezTo>
                <a:cubicBezTo>
                  <a:pt x="12280" y="11974"/>
                  <a:pt x="12336" y="12020"/>
                  <a:pt x="12378" y="12105"/>
                </a:cubicBezTo>
                <a:cubicBezTo>
                  <a:pt x="12411" y="12172"/>
                  <a:pt x="12412" y="12269"/>
                  <a:pt x="12353" y="12328"/>
                </a:cubicBezTo>
                <a:cubicBezTo>
                  <a:pt x="12283" y="12398"/>
                  <a:pt x="12202" y="12423"/>
                  <a:pt x="12105" y="12427"/>
                </a:cubicBezTo>
                <a:cubicBezTo>
                  <a:pt x="12015" y="12431"/>
                  <a:pt x="11939" y="12415"/>
                  <a:pt x="11857" y="12402"/>
                </a:cubicBezTo>
                <a:cubicBezTo>
                  <a:pt x="11761" y="12387"/>
                  <a:pt x="11732" y="12388"/>
                  <a:pt x="11683" y="123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10160" y="2108160"/>
            <a:ext cx="3616200" cy="1401840"/>
          </a:xfrm>
          <a:custGeom>
            <a:avLst/>
            <a:gdLst/>
            <a:ahLst/>
            <a:rect l="l" t="t" r="r" b="b"/>
            <a:pathLst>
              <a:path w="10047" h="3895">
                <a:moveTo>
                  <a:pt x="18752" y="7888"/>
                </a:moveTo>
                <a:cubicBezTo>
                  <a:pt x="18820" y="7849"/>
                  <a:pt x="18874" y="7816"/>
                  <a:pt x="18951" y="7789"/>
                </a:cubicBezTo>
                <a:cubicBezTo>
                  <a:pt x="19075" y="7745"/>
                  <a:pt x="19197" y="7673"/>
                  <a:pt x="19323" y="7640"/>
                </a:cubicBezTo>
                <a:cubicBezTo>
                  <a:pt x="19634" y="7559"/>
                  <a:pt x="19974" y="7524"/>
                  <a:pt x="20290" y="7466"/>
                </a:cubicBezTo>
                <a:cubicBezTo>
                  <a:pt x="20653" y="7400"/>
                  <a:pt x="21039" y="7344"/>
                  <a:pt x="21406" y="7317"/>
                </a:cubicBezTo>
                <a:cubicBezTo>
                  <a:pt x="21597" y="7303"/>
                  <a:pt x="21785" y="7293"/>
                  <a:pt x="21977" y="7293"/>
                </a:cubicBezTo>
                <a:cubicBezTo>
                  <a:pt x="22078" y="7293"/>
                  <a:pt x="22215" y="7283"/>
                  <a:pt x="22275" y="7268"/>
                </a:cubicBezTo>
                <a:cubicBezTo>
                  <a:pt x="22233" y="7276"/>
                  <a:pt x="22192" y="7288"/>
                  <a:pt x="22151" y="7293"/>
                </a:cubicBezTo>
                <a:cubicBezTo>
                  <a:pt x="22118" y="7293"/>
                  <a:pt x="22101" y="7293"/>
                  <a:pt x="22076" y="7293"/>
                </a:cubicBezTo>
              </a:path>
              <a:path w="10047" h="3895">
                <a:moveTo>
                  <a:pt x="19596" y="8186"/>
                </a:moveTo>
                <a:cubicBezTo>
                  <a:pt x="19596" y="8168"/>
                  <a:pt x="19583" y="8031"/>
                  <a:pt x="19596" y="8086"/>
                </a:cubicBezTo>
                <a:cubicBezTo>
                  <a:pt x="19615" y="8167"/>
                  <a:pt x="19642" y="8253"/>
                  <a:pt x="19645" y="8334"/>
                </a:cubicBezTo>
                <a:cubicBezTo>
                  <a:pt x="19649" y="8421"/>
                  <a:pt x="19670" y="8494"/>
                  <a:pt x="19670" y="8582"/>
                </a:cubicBezTo>
                <a:cubicBezTo>
                  <a:pt x="19670" y="8696"/>
                  <a:pt x="19698" y="8593"/>
                  <a:pt x="19720" y="8558"/>
                </a:cubicBezTo>
              </a:path>
              <a:path w="10047" h="3895">
                <a:moveTo>
                  <a:pt x="19968" y="7913"/>
                </a:moveTo>
                <a:cubicBezTo>
                  <a:pt x="19968" y="8003"/>
                  <a:pt x="19969" y="8072"/>
                  <a:pt x="19993" y="8161"/>
                </a:cubicBezTo>
                <a:cubicBezTo>
                  <a:pt x="20031" y="8301"/>
                  <a:pt x="20060" y="8413"/>
                  <a:pt x="20092" y="8558"/>
                </a:cubicBezTo>
                <a:cubicBezTo>
                  <a:pt x="20110" y="8638"/>
                  <a:pt x="20101" y="8660"/>
                  <a:pt x="20141" y="8632"/>
                </a:cubicBezTo>
              </a:path>
              <a:path w="10047" h="3895">
                <a:moveTo>
                  <a:pt x="20439" y="8359"/>
                </a:moveTo>
                <a:cubicBezTo>
                  <a:pt x="20419" y="8400"/>
                  <a:pt x="20400" y="8416"/>
                  <a:pt x="20439" y="8409"/>
                </a:cubicBezTo>
              </a:path>
              <a:path w="10047" h="3895">
                <a:moveTo>
                  <a:pt x="20588" y="7938"/>
                </a:moveTo>
                <a:cubicBezTo>
                  <a:pt x="20597" y="7998"/>
                  <a:pt x="20613" y="8021"/>
                  <a:pt x="20613" y="8086"/>
                </a:cubicBezTo>
                <a:cubicBezTo>
                  <a:pt x="20613" y="8140"/>
                  <a:pt x="20600" y="8207"/>
                  <a:pt x="20662" y="8235"/>
                </a:cubicBezTo>
                <a:cubicBezTo>
                  <a:pt x="20696" y="8250"/>
                  <a:pt x="20758" y="8221"/>
                  <a:pt x="20786" y="8210"/>
                </a:cubicBezTo>
                <a:cubicBezTo>
                  <a:pt x="20858" y="8182"/>
                  <a:pt x="20900" y="8127"/>
                  <a:pt x="20935" y="8062"/>
                </a:cubicBezTo>
                <a:cubicBezTo>
                  <a:pt x="20967" y="8002"/>
                  <a:pt x="20971" y="7930"/>
                  <a:pt x="20985" y="7863"/>
                </a:cubicBezTo>
              </a:path>
              <a:path w="10047" h="3895">
                <a:moveTo>
                  <a:pt x="21010" y="7714"/>
                </a:moveTo>
                <a:cubicBezTo>
                  <a:pt x="21039" y="7862"/>
                  <a:pt x="21034" y="8013"/>
                  <a:pt x="21059" y="8161"/>
                </a:cubicBezTo>
                <a:cubicBezTo>
                  <a:pt x="21077" y="8268"/>
                  <a:pt x="21097" y="8377"/>
                  <a:pt x="21109" y="8483"/>
                </a:cubicBezTo>
                <a:cubicBezTo>
                  <a:pt x="21117" y="8551"/>
                  <a:pt x="21109" y="8594"/>
                  <a:pt x="21134" y="8657"/>
                </a:cubicBezTo>
                <a:cubicBezTo>
                  <a:pt x="21160" y="8711"/>
                  <a:pt x="21172" y="8723"/>
                  <a:pt x="21208" y="8657"/>
                </a:cubicBezTo>
              </a:path>
              <a:path w="10047" h="3895">
                <a:moveTo>
                  <a:pt x="23788" y="6152"/>
                </a:moveTo>
                <a:cubicBezTo>
                  <a:pt x="23731" y="6172"/>
                  <a:pt x="23639" y="6196"/>
                  <a:pt x="23589" y="6226"/>
                </a:cubicBezTo>
                <a:cubicBezTo>
                  <a:pt x="23567" y="6248"/>
                  <a:pt x="23562" y="6257"/>
                  <a:pt x="23540" y="6251"/>
                </a:cubicBezTo>
                <a:cubicBezTo>
                  <a:pt x="23551" y="6295"/>
                  <a:pt x="23580" y="6316"/>
                  <a:pt x="23614" y="6350"/>
                </a:cubicBezTo>
                <a:cubicBezTo>
                  <a:pt x="23652" y="6388"/>
                  <a:pt x="23742" y="6407"/>
                  <a:pt x="23763" y="6449"/>
                </a:cubicBezTo>
                <a:cubicBezTo>
                  <a:pt x="23780" y="6482"/>
                  <a:pt x="23679" y="6558"/>
                  <a:pt x="23664" y="6573"/>
                </a:cubicBezTo>
                <a:cubicBezTo>
                  <a:pt x="23617" y="6620"/>
                  <a:pt x="23567" y="6614"/>
                  <a:pt x="23515" y="6648"/>
                </a:cubicBezTo>
                <a:cubicBezTo>
                  <a:pt x="23479" y="6672"/>
                  <a:pt x="23455" y="6693"/>
                  <a:pt x="23440" y="6648"/>
                </a:cubicBezTo>
              </a:path>
              <a:path w="10047" h="3895">
                <a:moveTo>
                  <a:pt x="24011" y="6251"/>
                </a:moveTo>
                <a:cubicBezTo>
                  <a:pt x="24011" y="6333"/>
                  <a:pt x="24023" y="6398"/>
                  <a:pt x="24036" y="6474"/>
                </a:cubicBezTo>
                <a:cubicBezTo>
                  <a:pt x="24036" y="6515"/>
                  <a:pt x="24036" y="6523"/>
                  <a:pt x="24036" y="6548"/>
                </a:cubicBezTo>
              </a:path>
              <a:path w="10047" h="3895">
                <a:moveTo>
                  <a:pt x="23986" y="5953"/>
                </a:moveTo>
                <a:lnTo>
                  <a:pt x="23986" y="5953"/>
                </a:lnTo>
              </a:path>
              <a:path w="10047" h="3895">
                <a:moveTo>
                  <a:pt x="24234" y="6350"/>
                </a:moveTo>
                <a:cubicBezTo>
                  <a:pt x="24247" y="6439"/>
                  <a:pt x="24259" y="6491"/>
                  <a:pt x="24259" y="6573"/>
                </a:cubicBezTo>
                <a:cubicBezTo>
                  <a:pt x="24330" y="6555"/>
                  <a:pt x="24291" y="6532"/>
                  <a:pt x="24309" y="6474"/>
                </a:cubicBezTo>
                <a:cubicBezTo>
                  <a:pt x="24328" y="6416"/>
                  <a:pt x="24352" y="6376"/>
                  <a:pt x="24383" y="6325"/>
                </a:cubicBezTo>
                <a:cubicBezTo>
                  <a:pt x="24390" y="6313"/>
                  <a:pt x="24447" y="6234"/>
                  <a:pt x="24482" y="6276"/>
                </a:cubicBezTo>
                <a:cubicBezTo>
                  <a:pt x="24500" y="6298"/>
                  <a:pt x="24545" y="6371"/>
                  <a:pt x="24557" y="6400"/>
                </a:cubicBezTo>
                <a:cubicBezTo>
                  <a:pt x="24571" y="6435"/>
                  <a:pt x="24599" y="6490"/>
                  <a:pt x="24606" y="6524"/>
                </a:cubicBezTo>
                <a:cubicBezTo>
                  <a:pt x="24615" y="6568"/>
                  <a:pt x="24621" y="6584"/>
                  <a:pt x="24631" y="6623"/>
                </a:cubicBezTo>
              </a:path>
              <a:path w="10047" h="3895">
                <a:moveTo>
                  <a:pt x="24805" y="6176"/>
                </a:moveTo>
                <a:cubicBezTo>
                  <a:pt x="24836" y="6265"/>
                  <a:pt x="24870" y="6364"/>
                  <a:pt x="24904" y="6449"/>
                </a:cubicBezTo>
                <a:cubicBezTo>
                  <a:pt x="24925" y="6501"/>
                  <a:pt x="24937" y="6561"/>
                  <a:pt x="24929" y="6499"/>
                </a:cubicBezTo>
                <a:cubicBezTo>
                  <a:pt x="24920" y="6427"/>
                  <a:pt x="24923" y="6345"/>
                  <a:pt x="24904" y="6276"/>
                </a:cubicBezTo>
                <a:cubicBezTo>
                  <a:pt x="24882" y="6196"/>
                  <a:pt x="24858" y="6137"/>
                  <a:pt x="24854" y="6052"/>
                </a:cubicBezTo>
                <a:cubicBezTo>
                  <a:pt x="24851" y="6000"/>
                  <a:pt x="24874" y="5923"/>
                  <a:pt x="24904" y="5879"/>
                </a:cubicBezTo>
                <a:cubicBezTo>
                  <a:pt x="24925" y="5848"/>
                  <a:pt x="24992" y="5841"/>
                  <a:pt x="25028" y="5854"/>
                </a:cubicBezTo>
                <a:cubicBezTo>
                  <a:pt x="25075" y="5871"/>
                  <a:pt x="25097" y="5907"/>
                  <a:pt x="25102" y="5953"/>
                </a:cubicBezTo>
                <a:cubicBezTo>
                  <a:pt x="25108" y="6005"/>
                  <a:pt x="25088" y="6017"/>
                  <a:pt x="25053" y="6052"/>
                </a:cubicBezTo>
                <a:cubicBezTo>
                  <a:pt x="25025" y="6080"/>
                  <a:pt x="25012" y="6116"/>
                  <a:pt x="25003" y="6152"/>
                </a:cubicBezTo>
                <a:cubicBezTo>
                  <a:pt x="25046" y="6162"/>
                  <a:pt x="25080" y="6193"/>
                  <a:pt x="25127" y="6201"/>
                </a:cubicBezTo>
                <a:cubicBezTo>
                  <a:pt x="25181" y="6211"/>
                  <a:pt x="25224" y="6230"/>
                  <a:pt x="25276" y="6251"/>
                </a:cubicBezTo>
                <a:cubicBezTo>
                  <a:pt x="25338" y="6276"/>
                  <a:pt x="25350" y="6290"/>
                  <a:pt x="25350" y="6350"/>
                </a:cubicBezTo>
                <a:cubicBezTo>
                  <a:pt x="25350" y="6401"/>
                  <a:pt x="25312" y="6409"/>
                  <a:pt x="25276" y="6424"/>
                </a:cubicBezTo>
                <a:cubicBezTo>
                  <a:pt x="25200" y="6456"/>
                  <a:pt x="25129" y="6452"/>
                  <a:pt x="25053" y="6474"/>
                </a:cubicBezTo>
                <a:cubicBezTo>
                  <a:pt x="24996" y="6502"/>
                  <a:pt x="24973" y="6513"/>
                  <a:pt x="24929" y="6524"/>
                </a:cubicBezTo>
              </a:path>
              <a:path w="10047" h="3895">
                <a:moveTo>
                  <a:pt x="23292" y="7094"/>
                </a:moveTo>
                <a:cubicBezTo>
                  <a:pt x="23396" y="7094"/>
                  <a:pt x="23522" y="7095"/>
                  <a:pt x="23589" y="7069"/>
                </a:cubicBezTo>
                <a:cubicBezTo>
                  <a:pt x="23635" y="7051"/>
                  <a:pt x="23713" y="7029"/>
                  <a:pt x="23763" y="7020"/>
                </a:cubicBezTo>
                <a:cubicBezTo>
                  <a:pt x="23887" y="6997"/>
                  <a:pt x="24011" y="6973"/>
                  <a:pt x="24135" y="6945"/>
                </a:cubicBezTo>
                <a:cubicBezTo>
                  <a:pt x="24261" y="6917"/>
                  <a:pt x="24380" y="6887"/>
                  <a:pt x="24507" y="6871"/>
                </a:cubicBezTo>
                <a:cubicBezTo>
                  <a:pt x="24637" y="6855"/>
                  <a:pt x="24750" y="6846"/>
                  <a:pt x="24879" y="6846"/>
                </a:cubicBezTo>
                <a:cubicBezTo>
                  <a:pt x="24973" y="6846"/>
                  <a:pt x="25233" y="6823"/>
                  <a:pt x="25152" y="6871"/>
                </a:cubicBezTo>
                <a:cubicBezTo>
                  <a:pt x="25127" y="6871"/>
                  <a:pt x="25119" y="6871"/>
                  <a:pt x="25102" y="6871"/>
                </a:cubicBezTo>
              </a:path>
              <a:path w="10047" h="3895">
                <a:moveTo>
                  <a:pt x="22969" y="7987"/>
                </a:moveTo>
                <a:cubicBezTo>
                  <a:pt x="22969" y="8128"/>
                  <a:pt x="22969" y="8268"/>
                  <a:pt x="22969" y="8409"/>
                </a:cubicBezTo>
              </a:path>
              <a:path w="10047" h="3895">
                <a:moveTo>
                  <a:pt x="23341" y="7714"/>
                </a:moveTo>
                <a:cubicBezTo>
                  <a:pt x="23409" y="7700"/>
                  <a:pt x="23473" y="7690"/>
                  <a:pt x="23540" y="7739"/>
                </a:cubicBezTo>
                <a:cubicBezTo>
                  <a:pt x="23610" y="7790"/>
                  <a:pt x="23692" y="7904"/>
                  <a:pt x="23713" y="7987"/>
                </a:cubicBezTo>
                <a:cubicBezTo>
                  <a:pt x="23736" y="8077"/>
                  <a:pt x="23703" y="8157"/>
                  <a:pt x="23664" y="8235"/>
                </a:cubicBezTo>
                <a:cubicBezTo>
                  <a:pt x="23631" y="8302"/>
                  <a:pt x="23613" y="8328"/>
                  <a:pt x="23540" y="8334"/>
                </a:cubicBezTo>
                <a:cubicBezTo>
                  <a:pt x="23532" y="8334"/>
                  <a:pt x="23523" y="8334"/>
                  <a:pt x="23515" y="8334"/>
                </a:cubicBezTo>
                <a:cubicBezTo>
                  <a:pt x="23530" y="8261"/>
                  <a:pt x="23541" y="8239"/>
                  <a:pt x="23614" y="8235"/>
                </a:cubicBezTo>
                <a:cubicBezTo>
                  <a:pt x="23668" y="8232"/>
                  <a:pt x="23716" y="8229"/>
                  <a:pt x="23763" y="8260"/>
                </a:cubicBezTo>
                <a:cubicBezTo>
                  <a:pt x="23780" y="8272"/>
                  <a:pt x="23836" y="8333"/>
                  <a:pt x="23837" y="8334"/>
                </a:cubicBezTo>
                <a:cubicBezTo>
                  <a:pt x="23861" y="8381"/>
                  <a:pt x="23836" y="8427"/>
                  <a:pt x="23887" y="8359"/>
                </a:cubicBezTo>
              </a:path>
              <a:path w="10047" h="3895">
                <a:moveTo>
                  <a:pt x="24085" y="8235"/>
                </a:moveTo>
                <a:cubicBezTo>
                  <a:pt x="24085" y="8260"/>
                  <a:pt x="24085" y="8268"/>
                  <a:pt x="24085" y="8235"/>
                </a:cubicBezTo>
              </a:path>
              <a:path w="10047" h="3895">
                <a:moveTo>
                  <a:pt x="24383" y="7789"/>
                </a:moveTo>
                <a:cubicBezTo>
                  <a:pt x="24366" y="7789"/>
                  <a:pt x="24350" y="7789"/>
                  <a:pt x="24333" y="7789"/>
                </a:cubicBezTo>
                <a:cubicBezTo>
                  <a:pt x="24374" y="7870"/>
                  <a:pt x="24403" y="7942"/>
                  <a:pt x="24457" y="8012"/>
                </a:cubicBezTo>
              </a:path>
              <a:path w="10047" h="3895">
                <a:moveTo>
                  <a:pt x="24581" y="8235"/>
                </a:moveTo>
                <a:cubicBezTo>
                  <a:pt x="24581" y="8313"/>
                  <a:pt x="24596" y="8330"/>
                  <a:pt x="24557" y="8359"/>
                </a:cubicBezTo>
                <a:cubicBezTo>
                  <a:pt x="24518" y="8370"/>
                  <a:pt x="24456" y="8441"/>
                  <a:pt x="24408" y="8409"/>
                </a:cubicBezTo>
                <a:cubicBezTo>
                  <a:pt x="24374" y="8386"/>
                  <a:pt x="24312" y="8351"/>
                  <a:pt x="24309" y="8310"/>
                </a:cubicBezTo>
                <a:cubicBezTo>
                  <a:pt x="24302" y="8213"/>
                  <a:pt x="24381" y="8114"/>
                  <a:pt x="24433" y="8037"/>
                </a:cubicBezTo>
                <a:cubicBezTo>
                  <a:pt x="24457" y="8002"/>
                  <a:pt x="24473" y="7980"/>
                  <a:pt x="24482" y="7938"/>
                </a:cubicBezTo>
              </a:path>
              <a:path w="10047" h="3895">
                <a:moveTo>
                  <a:pt x="22027" y="7020"/>
                </a:moveTo>
                <a:cubicBezTo>
                  <a:pt x="22068" y="7061"/>
                  <a:pt x="22127" y="7139"/>
                  <a:pt x="22175" y="7193"/>
                </a:cubicBezTo>
                <a:cubicBezTo>
                  <a:pt x="22271" y="7301"/>
                  <a:pt x="22387" y="7400"/>
                  <a:pt x="22498" y="7491"/>
                </a:cubicBezTo>
                <a:cubicBezTo>
                  <a:pt x="22598" y="7573"/>
                  <a:pt x="22703" y="7650"/>
                  <a:pt x="22796" y="7739"/>
                </a:cubicBezTo>
                <a:cubicBezTo>
                  <a:pt x="22838" y="7779"/>
                  <a:pt x="22882" y="7809"/>
                  <a:pt x="22920" y="7838"/>
                </a:cubicBezTo>
                <a:cubicBezTo>
                  <a:pt x="22928" y="7846"/>
                  <a:pt x="22936" y="7855"/>
                  <a:pt x="22944" y="7863"/>
                </a:cubicBezTo>
              </a:path>
              <a:path w="10047" h="3895">
                <a:moveTo>
                  <a:pt x="23614" y="6573"/>
                </a:moveTo>
                <a:cubicBezTo>
                  <a:pt x="23458" y="6704"/>
                  <a:pt x="23299" y="6819"/>
                  <a:pt x="23143" y="6945"/>
                </a:cubicBezTo>
                <a:cubicBezTo>
                  <a:pt x="22983" y="7075"/>
                  <a:pt x="22842" y="7221"/>
                  <a:pt x="22696" y="7367"/>
                </a:cubicBezTo>
                <a:cubicBezTo>
                  <a:pt x="22551" y="7512"/>
                  <a:pt x="22408" y="7658"/>
                  <a:pt x="22275" y="7813"/>
                </a:cubicBezTo>
                <a:cubicBezTo>
                  <a:pt x="22156" y="7952"/>
                  <a:pt x="22055" y="8104"/>
                  <a:pt x="21927" y="8235"/>
                </a:cubicBezTo>
                <a:cubicBezTo>
                  <a:pt x="21847" y="8317"/>
                  <a:pt x="21785" y="8367"/>
                  <a:pt x="21704" y="8434"/>
                </a:cubicBezTo>
              </a:path>
              <a:path w="10047" h="3895">
                <a:moveTo>
                  <a:pt x="15528" y="9451"/>
                </a:moveTo>
                <a:cubicBezTo>
                  <a:pt x="15478" y="9451"/>
                  <a:pt x="15442" y="9442"/>
                  <a:pt x="15404" y="9475"/>
                </a:cubicBezTo>
                <a:cubicBezTo>
                  <a:pt x="15396" y="9483"/>
                  <a:pt x="15387" y="9492"/>
                  <a:pt x="15379" y="9500"/>
                </a:cubicBezTo>
                <a:cubicBezTo>
                  <a:pt x="15425" y="9500"/>
                  <a:pt x="15438" y="9522"/>
                  <a:pt x="15478" y="9525"/>
                </a:cubicBezTo>
                <a:cubicBezTo>
                  <a:pt x="15571" y="9532"/>
                  <a:pt x="15539" y="9558"/>
                  <a:pt x="15602" y="9599"/>
                </a:cubicBezTo>
                <a:cubicBezTo>
                  <a:pt x="15652" y="9632"/>
                  <a:pt x="15605" y="9640"/>
                  <a:pt x="15577" y="9674"/>
                </a:cubicBezTo>
                <a:cubicBezTo>
                  <a:pt x="15510" y="9755"/>
                  <a:pt x="15539" y="9748"/>
                  <a:pt x="15453" y="9748"/>
                </a:cubicBezTo>
                <a:cubicBezTo>
                  <a:pt x="15376" y="9748"/>
                  <a:pt x="15377" y="9757"/>
                  <a:pt x="15329" y="9699"/>
                </a:cubicBezTo>
                <a:cubicBezTo>
                  <a:pt x="15321" y="9691"/>
                  <a:pt x="15312" y="9682"/>
                  <a:pt x="15304" y="9674"/>
                </a:cubicBezTo>
              </a:path>
              <a:path w="10047" h="3895">
                <a:moveTo>
                  <a:pt x="15577" y="9401"/>
                </a:moveTo>
                <a:cubicBezTo>
                  <a:pt x="15577" y="9322"/>
                  <a:pt x="15595" y="9341"/>
                  <a:pt x="15627" y="9302"/>
                </a:cubicBezTo>
                <a:cubicBezTo>
                  <a:pt x="15661" y="9260"/>
                  <a:pt x="15668" y="9234"/>
                  <a:pt x="15726" y="9227"/>
                </a:cubicBezTo>
                <a:cubicBezTo>
                  <a:pt x="15772" y="9222"/>
                  <a:pt x="15791" y="9226"/>
                  <a:pt x="15825" y="9252"/>
                </a:cubicBezTo>
              </a:path>
              <a:path w="10047" h="3895">
                <a:moveTo>
                  <a:pt x="15999" y="9376"/>
                </a:moveTo>
                <a:cubicBezTo>
                  <a:pt x="15999" y="9437"/>
                  <a:pt x="16016" y="9470"/>
                  <a:pt x="16024" y="9525"/>
                </a:cubicBezTo>
                <a:cubicBezTo>
                  <a:pt x="16026" y="9542"/>
                  <a:pt x="16024" y="9800"/>
                  <a:pt x="16024" y="9599"/>
                </a:cubicBezTo>
              </a:path>
              <a:path w="10047" h="3895">
                <a:moveTo>
                  <a:pt x="16049" y="8930"/>
                </a:moveTo>
                <a:lnTo>
                  <a:pt x="16049" y="8930"/>
                </a:lnTo>
              </a:path>
              <a:path w="10047" h="3895">
                <a:moveTo>
                  <a:pt x="16272" y="9376"/>
                </a:moveTo>
                <a:cubicBezTo>
                  <a:pt x="16284" y="9437"/>
                  <a:pt x="16335" y="9497"/>
                  <a:pt x="16346" y="9550"/>
                </a:cubicBezTo>
                <a:cubicBezTo>
                  <a:pt x="16346" y="9591"/>
                  <a:pt x="16346" y="9599"/>
                  <a:pt x="16346" y="9624"/>
                </a:cubicBezTo>
                <a:cubicBezTo>
                  <a:pt x="16346" y="9559"/>
                  <a:pt x="16324" y="9514"/>
                  <a:pt x="16321" y="9451"/>
                </a:cubicBezTo>
                <a:cubicBezTo>
                  <a:pt x="16319" y="9405"/>
                  <a:pt x="16302" y="9290"/>
                  <a:pt x="16346" y="9252"/>
                </a:cubicBezTo>
                <a:cubicBezTo>
                  <a:pt x="16354" y="9252"/>
                  <a:pt x="16363" y="9252"/>
                  <a:pt x="16371" y="9252"/>
                </a:cubicBezTo>
                <a:cubicBezTo>
                  <a:pt x="16429" y="9252"/>
                  <a:pt x="16440" y="9277"/>
                  <a:pt x="16470" y="9327"/>
                </a:cubicBezTo>
                <a:cubicBezTo>
                  <a:pt x="16505" y="9385"/>
                  <a:pt x="16487" y="9451"/>
                  <a:pt x="16520" y="9500"/>
                </a:cubicBezTo>
                <a:cubicBezTo>
                  <a:pt x="16548" y="9542"/>
                  <a:pt x="16545" y="9570"/>
                  <a:pt x="16545" y="9624"/>
                </a:cubicBezTo>
              </a:path>
              <a:path w="10047" h="3895">
                <a:moveTo>
                  <a:pt x="16991" y="9029"/>
                </a:moveTo>
                <a:cubicBezTo>
                  <a:pt x="16964" y="9077"/>
                  <a:pt x="16902" y="9100"/>
                  <a:pt x="16917" y="9153"/>
                </a:cubicBezTo>
                <a:cubicBezTo>
                  <a:pt x="16937" y="9224"/>
                  <a:pt x="16993" y="9215"/>
                  <a:pt x="17041" y="9252"/>
                </a:cubicBezTo>
                <a:cubicBezTo>
                  <a:pt x="17106" y="9302"/>
                  <a:pt x="17111" y="9316"/>
                  <a:pt x="17190" y="9327"/>
                </a:cubicBezTo>
                <a:cubicBezTo>
                  <a:pt x="17201" y="9396"/>
                  <a:pt x="17214" y="9369"/>
                  <a:pt x="17214" y="9451"/>
                </a:cubicBezTo>
                <a:cubicBezTo>
                  <a:pt x="17162" y="9451"/>
                  <a:pt x="17153" y="9463"/>
                  <a:pt x="17115" y="9500"/>
                </a:cubicBezTo>
                <a:cubicBezTo>
                  <a:pt x="17077" y="9537"/>
                  <a:pt x="17055" y="9508"/>
                  <a:pt x="17041" y="9550"/>
                </a:cubicBezTo>
                <a:cubicBezTo>
                  <a:pt x="17000" y="9495"/>
                  <a:pt x="17017" y="9466"/>
                  <a:pt x="17041" y="9401"/>
                </a:cubicBezTo>
              </a:path>
              <a:path w="10047" h="3895">
                <a:moveTo>
                  <a:pt x="17090" y="9029"/>
                </a:moveTo>
                <a:cubicBezTo>
                  <a:pt x="17145" y="9029"/>
                  <a:pt x="17184" y="9007"/>
                  <a:pt x="17239" y="9004"/>
                </a:cubicBezTo>
                <a:cubicBezTo>
                  <a:pt x="17296" y="9004"/>
                  <a:pt x="17317" y="8999"/>
                  <a:pt x="17338" y="8954"/>
                </a:cubicBezTo>
              </a:path>
              <a:path w="10047" h="3895">
                <a:moveTo>
                  <a:pt x="17735" y="8954"/>
                </a:moveTo>
                <a:cubicBezTo>
                  <a:pt x="17673" y="9001"/>
                  <a:pt x="17643" y="9035"/>
                  <a:pt x="17587" y="9079"/>
                </a:cubicBezTo>
                <a:cubicBezTo>
                  <a:pt x="17559" y="9101"/>
                  <a:pt x="17494" y="9111"/>
                  <a:pt x="17512" y="9178"/>
                </a:cubicBezTo>
                <a:cubicBezTo>
                  <a:pt x="17527" y="9233"/>
                  <a:pt x="17619" y="9281"/>
                  <a:pt x="17661" y="9302"/>
                </a:cubicBezTo>
                <a:cubicBezTo>
                  <a:pt x="17722" y="9333"/>
                  <a:pt x="17783" y="9350"/>
                  <a:pt x="17835" y="9376"/>
                </a:cubicBezTo>
                <a:cubicBezTo>
                  <a:pt x="17857" y="9399"/>
                  <a:pt x="17862" y="9407"/>
                  <a:pt x="17884" y="9401"/>
                </a:cubicBezTo>
                <a:cubicBezTo>
                  <a:pt x="17828" y="9486"/>
                  <a:pt x="17848" y="9426"/>
                  <a:pt x="17760" y="9451"/>
                </a:cubicBezTo>
                <a:cubicBezTo>
                  <a:pt x="17696" y="9469"/>
                  <a:pt x="17655" y="9475"/>
                  <a:pt x="17587" y="9475"/>
                </a:cubicBezTo>
                <a:cubicBezTo>
                  <a:pt x="17555" y="9475"/>
                  <a:pt x="17542" y="9458"/>
                  <a:pt x="17512" y="9451"/>
                </a:cubicBezTo>
                <a:cubicBezTo>
                  <a:pt x="17558" y="9370"/>
                  <a:pt x="17625" y="9298"/>
                  <a:pt x="17686" y="9227"/>
                </a:cubicBezTo>
                <a:cubicBezTo>
                  <a:pt x="17738" y="9167"/>
                  <a:pt x="17825" y="9116"/>
                  <a:pt x="17859" y="9079"/>
                </a:cubicBezTo>
                <a:cubicBezTo>
                  <a:pt x="17879" y="9038"/>
                  <a:pt x="17888" y="9032"/>
                  <a:pt x="17884" y="9004"/>
                </a:cubicBezTo>
                <a:cubicBezTo>
                  <a:pt x="17827" y="9004"/>
                  <a:pt x="17788" y="9020"/>
                  <a:pt x="17735" y="9029"/>
                </a:cubicBezTo>
                <a:cubicBezTo>
                  <a:pt x="17665" y="9041"/>
                  <a:pt x="17630" y="9092"/>
                  <a:pt x="17587" y="9153"/>
                </a:cubicBezTo>
              </a:path>
              <a:path w="10047" h="3895">
                <a:moveTo>
                  <a:pt x="18207" y="9227"/>
                </a:moveTo>
                <a:cubicBezTo>
                  <a:pt x="18207" y="9235"/>
                  <a:pt x="18207" y="9244"/>
                  <a:pt x="18207" y="9252"/>
                </a:cubicBezTo>
              </a:path>
              <a:path w="10047" h="3895">
                <a:moveTo>
                  <a:pt x="18653" y="9079"/>
                </a:moveTo>
                <a:cubicBezTo>
                  <a:pt x="18623" y="9128"/>
                  <a:pt x="18628" y="9166"/>
                  <a:pt x="18628" y="9227"/>
                </a:cubicBezTo>
                <a:cubicBezTo>
                  <a:pt x="18628" y="9311"/>
                  <a:pt x="18608" y="9368"/>
                  <a:pt x="18604" y="9451"/>
                </a:cubicBezTo>
                <a:cubicBezTo>
                  <a:pt x="18601" y="9505"/>
                  <a:pt x="18586" y="9545"/>
                  <a:pt x="18579" y="9599"/>
                </a:cubicBezTo>
              </a:path>
              <a:path w="10047" h="3895">
                <a:moveTo>
                  <a:pt x="18752" y="9079"/>
                </a:moveTo>
                <a:cubicBezTo>
                  <a:pt x="18807" y="9063"/>
                  <a:pt x="18853" y="8986"/>
                  <a:pt x="18926" y="9004"/>
                </a:cubicBezTo>
                <a:cubicBezTo>
                  <a:pt x="19047" y="9034"/>
                  <a:pt x="19026" y="9071"/>
                  <a:pt x="19100" y="9153"/>
                </a:cubicBezTo>
                <a:cubicBezTo>
                  <a:pt x="19139" y="9196"/>
                  <a:pt x="19149" y="9231"/>
                  <a:pt x="19149" y="9302"/>
                </a:cubicBezTo>
                <a:cubicBezTo>
                  <a:pt x="19149" y="9386"/>
                  <a:pt x="19130" y="9409"/>
                  <a:pt x="19075" y="9451"/>
                </a:cubicBezTo>
                <a:cubicBezTo>
                  <a:pt x="19038" y="9479"/>
                  <a:pt x="18975" y="9495"/>
                  <a:pt x="18926" y="9500"/>
                </a:cubicBezTo>
                <a:cubicBezTo>
                  <a:pt x="18893" y="9503"/>
                  <a:pt x="18845" y="9510"/>
                  <a:pt x="18827" y="9475"/>
                </a:cubicBezTo>
                <a:cubicBezTo>
                  <a:pt x="18795" y="9412"/>
                  <a:pt x="18848" y="9398"/>
                  <a:pt x="18876" y="9376"/>
                </a:cubicBezTo>
                <a:cubicBezTo>
                  <a:pt x="18961" y="9310"/>
                  <a:pt x="18960" y="9302"/>
                  <a:pt x="19075" y="9302"/>
                </a:cubicBezTo>
                <a:cubicBezTo>
                  <a:pt x="19094" y="9302"/>
                  <a:pt x="19215" y="9372"/>
                  <a:pt x="19224" y="9401"/>
                </a:cubicBezTo>
                <a:cubicBezTo>
                  <a:pt x="19234" y="9432"/>
                  <a:pt x="19224" y="9491"/>
                  <a:pt x="19224" y="9525"/>
                </a:cubicBezTo>
              </a:path>
              <a:path w="10047" h="3895">
                <a:moveTo>
                  <a:pt x="19769" y="9475"/>
                </a:moveTo>
                <a:lnTo>
                  <a:pt x="19769" y="9475"/>
                </a:lnTo>
              </a:path>
              <a:path w="10047" h="3895">
                <a:moveTo>
                  <a:pt x="20166" y="8930"/>
                </a:moveTo>
                <a:cubicBezTo>
                  <a:pt x="20088" y="8930"/>
                  <a:pt x="20071" y="8915"/>
                  <a:pt x="20042" y="8954"/>
                </a:cubicBezTo>
                <a:cubicBezTo>
                  <a:pt x="20024" y="9018"/>
                  <a:pt x="20027" y="9047"/>
                  <a:pt x="20092" y="9079"/>
                </a:cubicBezTo>
                <a:cubicBezTo>
                  <a:pt x="20160" y="9113"/>
                  <a:pt x="20191" y="9199"/>
                  <a:pt x="20265" y="9227"/>
                </a:cubicBezTo>
                <a:cubicBezTo>
                  <a:pt x="20350" y="9260"/>
                  <a:pt x="20390" y="9288"/>
                  <a:pt x="20365" y="9376"/>
                </a:cubicBezTo>
                <a:cubicBezTo>
                  <a:pt x="20257" y="9376"/>
                  <a:pt x="20150" y="9376"/>
                  <a:pt x="20042" y="9376"/>
                </a:cubicBezTo>
                <a:cubicBezTo>
                  <a:pt x="20010" y="9266"/>
                  <a:pt x="20106" y="9231"/>
                  <a:pt x="20191" y="9153"/>
                </a:cubicBezTo>
                <a:cubicBezTo>
                  <a:pt x="20230" y="9118"/>
                  <a:pt x="20318" y="9020"/>
                  <a:pt x="20365" y="9004"/>
                </a:cubicBezTo>
                <a:cubicBezTo>
                  <a:pt x="20435" y="8980"/>
                  <a:pt x="20391" y="8986"/>
                  <a:pt x="20439" y="89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4749840"/>
            <a:ext cx="758880" cy="563400"/>
          </a:xfrm>
          <a:custGeom>
            <a:avLst/>
            <a:gdLst/>
            <a:ahLst/>
            <a:rect l="l" t="t" r="r" b="b"/>
            <a:pathLst>
              <a:path w="2109" h="1564">
                <a:moveTo>
                  <a:pt x="6821" y="13469"/>
                </a:moveTo>
                <a:cubicBezTo>
                  <a:pt x="6840" y="13683"/>
                  <a:pt x="6837" y="13833"/>
                  <a:pt x="6821" y="14039"/>
                </a:cubicBezTo>
                <a:cubicBezTo>
                  <a:pt x="6809" y="14188"/>
                  <a:pt x="6800" y="14337"/>
                  <a:pt x="6796" y="14486"/>
                </a:cubicBezTo>
                <a:cubicBezTo>
                  <a:pt x="6793" y="14572"/>
                  <a:pt x="6772" y="14647"/>
                  <a:pt x="6772" y="14734"/>
                </a:cubicBezTo>
                <a:cubicBezTo>
                  <a:pt x="6772" y="14784"/>
                  <a:pt x="6772" y="14685"/>
                  <a:pt x="6772" y="14635"/>
                </a:cubicBezTo>
              </a:path>
              <a:path w="2109" h="1564">
                <a:moveTo>
                  <a:pt x="6945" y="13271"/>
                </a:moveTo>
                <a:cubicBezTo>
                  <a:pt x="6979" y="13362"/>
                  <a:pt x="7029" y="13432"/>
                  <a:pt x="7069" y="13519"/>
                </a:cubicBezTo>
                <a:cubicBezTo>
                  <a:pt x="7130" y="13652"/>
                  <a:pt x="7192" y="13791"/>
                  <a:pt x="7268" y="13915"/>
                </a:cubicBezTo>
                <a:cubicBezTo>
                  <a:pt x="7363" y="14070"/>
                  <a:pt x="7484" y="14225"/>
                  <a:pt x="7565" y="14387"/>
                </a:cubicBezTo>
                <a:cubicBezTo>
                  <a:pt x="7615" y="14487"/>
                  <a:pt x="7596" y="14489"/>
                  <a:pt x="7689" y="14536"/>
                </a:cubicBezTo>
                <a:cubicBezTo>
                  <a:pt x="7708" y="14478"/>
                  <a:pt x="7737" y="14339"/>
                  <a:pt x="7739" y="14238"/>
                </a:cubicBezTo>
                <a:cubicBezTo>
                  <a:pt x="7743" y="14078"/>
                  <a:pt x="7753" y="13925"/>
                  <a:pt x="7764" y="13767"/>
                </a:cubicBezTo>
                <a:cubicBezTo>
                  <a:pt x="7774" y="13626"/>
                  <a:pt x="7760" y="13483"/>
                  <a:pt x="7789" y="13345"/>
                </a:cubicBezTo>
                <a:cubicBezTo>
                  <a:pt x="7801" y="13286"/>
                  <a:pt x="7811" y="13241"/>
                  <a:pt x="7838" y="13196"/>
                </a:cubicBezTo>
              </a:path>
              <a:path w="2109" h="1564">
                <a:moveTo>
                  <a:pt x="8210" y="13568"/>
                </a:moveTo>
                <a:cubicBezTo>
                  <a:pt x="8210" y="13488"/>
                  <a:pt x="8219" y="13417"/>
                  <a:pt x="8260" y="13345"/>
                </a:cubicBezTo>
                <a:cubicBezTo>
                  <a:pt x="8299" y="13277"/>
                  <a:pt x="8330" y="13250"/>
                  <a:pt x="8409" y="13246"/>
                </a:cubicBezTo>
                <a:cubicBezTo>
                  <a:pt x="8465" y="13243"/>
                  <a:pt x="8616" y="13284"/>
                  <a:pt x="8657" y="13320"/>
                </a:cubicBezTo>
                <a:cubicBezTo>
                  <a:pt x="8753" y="13404"/>
                  <a:pt x="8820" y="13547"/>
                  <a:pt x="8855" y="13667"/>
                </a:cubicBezTo>
                <a:cubicBezTo>
                  <a:pt x="8889" y="13783"/>
                  <a:pt x="8899" y="13931"/>
                  <a:pt x="8830" y="14039"/>
                </a:cubicBezTo>
                <a:cubicBezTo>
                  <a:pt x="8777" y="14124"/>
                  <a:pt x="8675" y="14159"/>
                  <a:pt x="8582" y="14163"/>
                </a:cubicBezTo>
                <a:cubicBezTo>
                  <a:pt x="8436" y="14169"/>
                  <a:pt x="8380" y="14074"/>
                  <a:pt x="8310" y="13965"/>
                </a:cubicBezTo>
                <a:cubicBezTo>
                  <a:pt x="8237" y="13851"/>
                  <a:pt x="8216" y="13729"/>
                  <a:pt x="8235" y="13593"/>
                </a:cubicBezTo>
                <a:cubicBezTo>
                  <a:pt x="8250" y="13487"/>
                  <a:pt x="8299" y="13445"/>
                  <a:pt x="8384" y="13395"/>
                </a:cubicBezTo>
                <a:cubicBezTo>
                  <a:pt x="8441" y="13367"/>
                  <a:pt x="8464" y="13356"/>
                  <a:pt x="8508" y="133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81960" y="3438360"/>
            <a:ext cx="115920" cy="125640"/>
          </a:xfrm>
          <a:custGeom>
            <a:avLst/>
            <a:gdLst/>
            <a:ahLst/>
            <a:rect l="l" t="t" r="r" b="b"/>
            <a:pathLst>
              <a:path w="324" h="348">
                <a:moveTo>
                  <a:pt x="21059" y="9599"/>
                </a:moveTo>
                <a:cubicBezTo>
                  <a:pt x="21170" y="9599"/>
                  <a:pt x="21148" y="9592"/>
                  <a:pt x="21233" y="9550"/>
                </a:cubicBezTo>
                <a:cubicBezTo>
                  <a:pt x="21248" y="9543"/>
                  <a:pt x="21291" y="9550"/>
                  <a:pt x="21307" y="9550"/>
                </a:cubicBezTo>
              </a:path>
              <a:path w="324" h="348">
                <a:moveTo>
                  <a:pt x="21158" y="9897"/>
                </a:moveTo>
                <a:cubicBezTo>
                  <a:pt x="21261" y="9897"/>
                  <a:pt x="21264" y="9893"/>
                  <a:pt x="21332" y="9847"/>
                </a:cubicBezTo>
                <a:cubicBezTo>
                  <a:pt x="21360" y="9847"/>
                  <a:pt x="21371" y="9845"/>
                  <a:pt x="21382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18640" y="3251160"/>
            <a:ext cx="125280" cy="258840"/>
          </a:xfrm>
          <a:custGeom>
            <a:avLst/>
            <a:gdLst/>
            <a:ahLst/>
            <a:rect l="l" t="t" r="r" b="b"/>
            <a:pathLst>
              <a:path w="348" h="720">
                <a:moveTo>
                  <a:pt x="22349" y="9029"/>
                </a:moveTo>
                <a:cubicBezTo>
                  <a:pt x="22349" y="9088"/>
                  <a:pt x="22328" y="9123"/>
                  <a:pt x="22324" y="9178"/>
                </a:cubicBezTo>
                <a:cubicBezTo>
                  <a:pt x="22316" y="9295"/>
                  <a:pt x="22315" y="9421"/>
                  <a:pt x="22299" y="9525"/>
                </a:cubicBezTo>
                <a:cubicBezTo>
                  <a:pt x="22291" y="9577"/>
                  <a:pt x="22278" y="9649"/>
                  <a:pt x="22275" y="9699"/>
                </a:cubicBezTo>
                <a:cubicBezTo>
                  <a:pt x="22275" y="9715"/>
                  <a:pt x="22275" y="9732"/>
                  <a:pt x="22275" y="9748"/>
                </a:cubicBezTo>
              </a:path>
              <a:path w="348" h="720">
                <a:moveTo>
                  <a:pt x="22498" y="9029"/>
                </a:moveTo>
                <a:cubicBezTo>
                  <a:pt x="22506" y="9086"/>
                  <a:pt x="22523" y="9116"/>
                  <a:pt x="22523" y="9178"/>
                </a:cubicBezTo>
                <a:cubicBezTo>
                  <a:pt x="22523" y="9312"/>
                  <a:pt x="22508" y="9504"/>
                  <a:pt x="22547" y="9599"/>
                </a:cubicBezTo>
                <a:cubicBezTo>
                  <a:pt x="22562" y="9636"/>
                  <a:pt x="22542" y="9684"/>
                  <a:pt x="22572" y="9699"/>
                </a:cubicBezTo>
                <a:cubicBezTo>
                  <a:pt x="22600" y="9699"/>
                  <a:pt x="22611" y="9697"/>
                  <a:pt x="22622" y="96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32840" y="3251160"/>
            <a:ext cx="144360" cy="24120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22870" y="9599"/>
                </a:moveTo>
                <a:cubicBezTo>
                  <a:pt x="22870" y="9558"/>
                  <a:pt x="22870" y="9550"/>
                  <a:pt x="22870" y="9525"/>
                </a:cubicBezTo>
              </a:path>
              <a:path w="398" h="671">
                <a:moveTo>
                  <a:pt x="23019" y="9079"/>
                </a:moveTo>
                <a:cubicBezTo>
                  <a:pt x="23019" y="9178"/>
                  <a:pt x="23019" y="9277"/>
                  <a:pt x="23019" y="9376"/>
                </a:cubicBezTo>
                <a:cubicBezTo>
                  <a:pt x="23090" y="9376"/>
                  <a:pt x="23072" y="9383"/>
                  <a:pt x="23118" y="9327"/>
                </a:cubicBezTo>
                <a:cubicBezTo>
                  <a:pt x="23181" y="9251"/>
                  <a:pt x="23133" y="9363"/>
                  <a:pt x="23192" y="9227"/>
                </a:cubicBezTo>
              </a:path>
              <a:path w="398" h="671">
                <a:moveTo>
                  <a:pt x="23242" y="9029"/>
                </a:moveTo>
                <a:cubicBezTo>
                  <a:pt x="23216" y="9124"/>
                  <a:pt x="23217" y="9202"/>
                  <a:pt x="23217" y="9302"/>
                </a:cubicBezTo>
                <a:cubicBezTo>
                  <a:pt x="23217" y="9368"/>
                  <a:pt x="23227" y="9422"/>
                  <a:pt x="23242" y="9475"/>
                </a:cubicBezTo>
                <a:cubicBezTo>
                  <a:pt x="23259" y="9537"/>
                  <a:pt x="23251" y="9611"/>
                  <a:pt x="23267" y="9674"/>
                </a:cubicBezTo>
                <a:cubicBezTo>
                  <a:pt x="23267" y="9682"/>
                  <a:pt x="23267" y="9691"/>
                  <a:pt x="23267" y="96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535960" y="3187800"/>
            <a:ext cx="600120" cy="349200"/>
          </a:xfrm>
          <a:custGeom>
            <a:avLst/>
            <a:gdLst/>
            <a:ahLst/>
            <a:rect l="l" t="t" r="r" b="b"/>
            <a:pathLst>
              <a:path w="1663" h="969">
                <a:moveTo>
                  <a:pt x="23713" y="9327"/>
                </a:moveTo>
                <a:cubicBezTo>
                  <a:pt x="23724" y="9294"/>
                  <a:pt x="23749" y="9302"/>
                  <a:pt x="23713" y="9302"/>
                </a:cubicBezTo>
              </a:path>
              <a:path w="1663" h="969">
                <a:moveTo>
                  <a:pt x="24135" y="9252"/>
                </a:moveTo>
                <a:cubicBezTo>
                  <a:pt x="24072" y="9302"/>
                  <a:pt x="24042" y="9317"/>
                  <a:pt x="24036" y="9401"/>
                </a:cubicBezTo>
                <a:cubicBezTo>
                  <a:pt x="24033" y="9439"/>
                  <a:pt x="24058" y="9484"/>
                  <a:pt x="24085" y="9525"/>
                </a:cubicBezTo>
                <a:cubicBezTo>
                  <a:pt x="24113" y="9567"/>
                  <a:pt x="24174" y="9651"/>
                  <a:pt x="24185" y="9674"/>
                </a:cubicBezTo>
                <a:cubicBezTo>
                  <a:pt x="24206" y="9717"/>
                  <a:pt x="24140" y="9763"/>
                  <a:pt x="24110" y="9773"/>
                </a:cubicBezTo>
                <a:cubicBezTo>
                  <a:pt x="24084" y="9782"/>
                  <a:pt x="24038" y="9866"/>
                  <a:pt x="23986" y="9823"/>
                </a:cubicBezTo>
                <a:cubicBezTo>
                  <a:pt x="23932" y="9778"/>
                  <a:pt x="23976" y="9778"/>
                  <a:pt x="23986" y="9748"/>
                </a:cubicBezTo>
              </a:path>
              <a:path w="1663" h="969">
                <a:moveTo>
                  <a:pt x="24408" y="9451"/>
                </a:moveTo>
                <a:cubicBezTo>
                  <a:pt x="24356" y="9485"/>
                  <a:pt x="24395" y="9533"/>
                  <a:pt x="24408" y="9599"/>
                </a:cubicBezTo>
                <a:cubicBezTo>
                  <a:pt x="24417" y="9644"/>
                  <a:pt x="24408" y="9702"/>
                  <a:pt x="24408" y="9748"/>
                </a:cubicBezTo>
              </a:path>
              <a:path w="1663" h="969">
                <a:moveTo>
                  <a:pt x="24383" y="9103"/>
                </a:moveTo>
                <a:lnTo>
                  <a:pt x="24383" y="9103"/>
                </a:lnTo>
              </a:path>
              <a:path w="1663" h="969">
                <a:moveTo>
                  <a:pt x="24606" y="9475"/>
                </a:moveTo>
                <a:cubicBezTo>
                  <a:pt x="24615" y="9521"/>
                  <a:pt x="24643" y="9703"/>
                  <a:pt x="24681" y="9748"/>
                </a:cubicBezTo>
                <a:cubicBezTo>
                  <a:pt x="24689" y="9748"/>
                  <a:pt x="24697" y="9748"/>
                  <a:pt x="24705" y="9748"/>
                </a:cubicBezTo>
                <a:cubicBezTo>
                  <a:pt x="24735" y="9679"/>
                  <a:pt x="24730" y="9627"/>
                  <a:pt x="24730" y="9550"/>
                </a:cubicBezTo>
                <a:cubicBezTo>
                  <a:pt x="24730" y="9492"/>
                  <a:pt x="24760" y="9438"/>
                  <a:pt x="24780" y="9401"/>
                </a:cubicBezTo>
                <a:cubicBezTo>
                  <a:pt x="24788" y="9393"/>
                  <a:pt x="24797" y="9384"/>
                  <a:pt x="24805" y="9376"/>
                </a:cubicBezTo>
                <a:cubicBezTo>
                  <a:pt x="24844" y="9389"/>
                  <a:pt x="24836" y="9430"/>
                  <a:pt x="24854" y="9475"/>
                </a:cubicBezTo>
                <a:cubicBezTo>
                  <a:pt x="24883" y="9548"/>
                  <a:pt x="24876" y="9626"/>
                  <a:pt x="24904" y="9699"/>
                </a:cubicBezTo>
                <a:cubicBezTo>
                  <a:pt x="24918" y="9736"/>
                  <a:pt x="24960" y="9818"/>
                  <a:pt x="24978" y="9823"/>
                </a:cubicBezTo>
                <a:cubicBezTo>
                  <a:pt x="24986" y="9823"/>
                  <a:pt x="24995" y="9823"/>
                  <a:pt x="25003" y="9823"/>
                </a:cubicBezTo>
              </a:path>
              <a:path w="1663" h="969">
                <a:moveTo>
                  <a:pt x="25078" y="9227"/>
                </a:moveTo>
                <a:cubicBezTo>
                  <a:pt x="25084" y="9280"/>
                  <a:pt x="25082" y="9553"/>
                  <a:pt x="25152" y="9599"/>
                </a:cubicBezTo>
                <a:cubicBezTo>
                  <a:pt x="25152" y="9530"/>
                  <a:pt x="25113" y="9506"/>
                  <a:pt x="25102" y="9451"/>
                </a:cubicBezTo>
                <a:cubicBezTo>
                  <a:pt x="25078" y="9331"/>
                  <a:pt x="25042" y="9200"/>
                  <a:pt x="25028" y="9079"/>
                </a:cubicBezTo>
                <a:cubicBezTo>
                  <a:pt x="25022" y="9025"/>
                  <a:pt x="25015" y="8902"/>
                  <a:pt x="25053" y="8855"/>
                </a:cubicBezTo>
                <a:cubicBezTo>
                  <a:pt x="25072" y="8832"/>
                  <a:pt x="25219" y="8860"/>
                  <a:pt x="25226" y="8880"/>
                </a:cubicBezTo>
                <a:cubicBezTo>
                  <a:pt x="25238" y="8911"/>
                  <a:pt x="25255" y="8969"/>
                  <a:pt x="25226" y="9004"/>
                </a:cubicBezTo>
                <a:cubicBezTo>
                  <a:pt x="25211" y="9022"/>
                  <a:pt x="25144" y="9066"/>
                  <a:pt x="25127" y="9079"/>
                </a:cubicBezTo>
                <a:cubicBezTo>
                  <a:pt x="25119" y="9087"/>
                  <a:pt x="25110" y="9095"/>
                  <a:pt x="25102" y="9103"/>
                </a:cubicBezTo>
                <a:cubicBezTo>
                  <a:pt x="25145" y="9168"/>
                  <a:pt x="25145" y="9153"/>
                  <a:pt x="25226" y="9153"/>
                </a:cubicBezTo>
                <a:cubicBezTo>
                  <a:pt x="25382" y="9153"/>
                  <a:pt x="25351" y="9185"/>
                  <a:pt x="25375" y="9376"/>
                </a:cubicBezTo>
                <a:cubicBezTo>
                  <a:pt x="25386" y="9467"/>
                  <a:pt x="25379" y="9601"/>
                  <a:pt x="25326" y="9674"/>
                </a:cubicBezTo>
                <a:cubicBezTo>
                  <a:pt x="25279" y="9739"/>
                  <a:pt x="25174" y="9716"/>
                  <a:pt x="25152" y="96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4133880"/>
            <a:ext cx="4929120" cy="1884240"/>
          </a:xfrm>
          <a:custGeom>
            <a:avLst/>
            <a:gdLst/>
            <a:ahLst/>
            <a:rect l="l" t="t" r="r" b="b"/>
            <a:pathLst>
              <a:path w="13693" h="5234">
                <a:moveTo>
                  <a:pt x="7541" y="15280"/>
                </a:moveTo>
                <a:cubicBezTo>
                  <a:pt x="7419" y="15236"/>
                  <a:pt x="7374" y="15225"/>
                  <a:pt x="7243" y="15255"/>
                </a:cubicBezTo>
                <a:cubicBezTo>
                  <a:pt x="7081" y="15292"/>
                  <a:pt x="6973" y="15342"/>
                  <a:pt x="6846" y="15453"/>
                </a:cubicBezTo>
                <a:cubicBezTo>
                  <a:pt x="6743" y="15543"/>
                  <a:pt x="6651" y="15665"/>
                  <a:pt x="6573" y="15776"/>
                </a:cubicBezTo>
                <a:cubicBezTo>
                  <a:pt x="6525" y="15844"/>
                  <a:pt x="6509" y="15872"/>
                  <a:pt x="6499" y="15949"/>
                </a:cubicBezTo>
                <a:cubicBezTo>
                  <a:pt x="6579" y="15927"/>
                  <a:pt x="6673" y="15896"/>
                  <a:pt x="6747" y="15850"/>
                </a:cubicBezTo>
                <a:cubicBezTo>
                  <a:pt x="6874" y="15772"/>
                  <a:pt x="7023" y="15697"/>
                  <a:pt x="7169" y="15652"/>
                </a:cubicBezTo>
                <a:cubicBezTo>
                  <a:pt x="7314" y="15607"/>
                  <a:pt x="7521" y="15602"/>
                  <a:pt x="7665" y="15652"/>
                </a:cubicBezTo>
                <a:cubicBezTo>
                  <a:pt x="7776" y="15691"/>
                  <a:pt x="7915" y="15726"/>
                  <a:pt x="7962" y="15850"/>
                </a:cubicBezTo>
                <a:cubicBezTo>
                  <a:pt x="7997" y="15943"/>
                  <a:pt x="7931" y="16073"/>
                  <a:pt x="7888" y="16148"/>
                </a:cubicBezTo>
                <a:cubicBezTo>
                  <a:pt x="7809" y="16286"/>
                  <a:pt x="7704" y="16367"/>
                  <a:pt x="7590" y="16470"/>
                </a:cubicBezTo>
                <a:cubicBezTo>
                  <a:pt x="7482" y="16568"/>
                  <a:pt x="7355" y="16637"/>
                  <a:pt x="7218" y="16694"/>
                </a:cubicBezTo>
                <a:cubicBezTo>
                  <a:pt x="7140" y="16727"/>
                  <a:pt x="6980" y="16752"/>
                  <a:pt x="6921" y="16669"/>
                </a:cubicBezTo>
                <a:cubicBezTo>
                  <a:pt x="6904" y="16628"/>
                  <a:pt x="6888" y="16586"/>
                  <a:pt x="6871" y="16545"/>
                </a:cubicBezTo>
              </a:path>
              <a:path w="13693" h="5234">
                <a:moveTo>
                  <a:pt x="8285" y="15627"/>
                </a:moveTo>
                <a:cubicBezTo>
                  <a:pt x="8245" y="15557"/>
                  <a:pt x="8235" y="15536"/>
                  <a:pt x="8235" y="15453"/>
                </a:cubicBezTo>
                <a:cubicBezTo>
                  <a:pt x="8235" y="15343"/>
                  <a:pt x="8277" y="15357"/>
                  <a:pt x="8359" y="15329"/>
                </a:cubicBezTo>
                <a:cubicBezTo>
                  <a:pt x="8462" y="15294"/>
                  <a:pt x="8529" y="15312"/>
                  <a:pt x="8632" y="15354"/>
                </a:cubicBezTo>
                <a:cubicBezTo>
                  <a:pt x="8726" y="15393"/>
                  <a:pt x="8790" y="15448"/>
                  <a:pt x="8806" y="15553"/>
                </a:cubicBezTo>
                <a:cubicBezTo>
                  <a:pt x="8820" y="15645"/>
                  <a:pt x="8806" y="15740"/>
                  <a:pt x="8731" y="15801"/>
                </a:cubicBezTo>
                <a:cubicBezTo>
                  <a:pt x="8668" y="15853"/>
                  <a:pt x="8560" y="15871"/>
                  <a:pt x="8483" y="15875"/>
                </a:cubicBezTo>
                <a:cubicBezTo>
                  <a:pt x="8388" y="15880"/>
                  <a:pt x="8330" y="15763"/>
                  <a:pt x="8310" y="15677"/>
                </a:cubicBezTo>
                <a:cubicBezTo>
                  <a:pt x="8292" y="15597"/>
                  <a:pt x="8309" y="15502"/>
                  <a:pt x="8334" y="15429"/>
                </a:cubicBezTo>
                <a:cubicBezTo>
                  <a:pt x="8342" y="15404"/>
                  <a:pt x="8351" y="15379"/>
                  <a:pt x="8359" y="15354"/>
                </a:cubicBezTo>
              </a:path>
              <a:path w="13693" h="5234">
                <a:moveTo>
                  <a:pt x="9004" y="14784"/>
                </a:moveTo>
                <a:cubicBezTo>
                  <a:pt x="9053" y="14949"/>
                  <a:pt x="9104" y="15077"/>
                  <a:pt x="9178" y="15230"/>
                </a:cubicBezTo>
                <a:cubicBezTo>
                  <a:pt x="9234" y="15345"/>
                  <a:pt x="9275" y="15461"/>
                  <a:pt x="9327" y="15577"/>
                </a:cubicBezTo>
                <a:cubicBezTo>
                  <a:pt x="9349" y="15626"/>
                  <a:pt x="9376" y="15748"/>
                  <a:pt x="9401" y="15701"/>
                </a:cubicBezTo>
                <a:cubicBezTo>
                  <a:pt x="9401" y="15693"/>
                  <a:pt x="9401" y="15685"/>
                  <a:pt x="9401" y="15677"/>
                </a:cubicBezTo>
              </a:path>
              <a:path w="13693" h="5234">
                <a:moveTo>
                  <a:pt x="9401" y="15007"/>
                </a:moveTo>
                <a:cubicBezTo>
                  <a:pt x="9401" y="14990"/>
                  <a:pt x="9401" y="14974"/>
                  <a:pt x="9401" y="14957"/>
                </a:cubicBezTo>
                <a:cubicBezTo>
                  <a:pt x="9401" y="14893"/>
                  <a:pt x="9417" y="15063"/>
                  <a:pt x="9426" y="15081"/>
                </a:cubicBezTo>
                <a:cubicBezTo>
                  <a:pt x="9471" y="15176"/>
                  <a:pt x="9502" y="15286"/>
                  <a:pt x="9550" y="15379"/>
                </a:cubicBezTo>
                <a:cubicBezTo>
                  <a:pt x="9581" y="15440"/>
                  <a:pt x="9652" y="15556"/>
                  <a:pt x="9723" y="15577"/>
                </a:cubicBezTo>
                <a:cubicBezTo>
                  <a:pt x="9810" y="15603"/>
                  <a:pt x="9909" y="15576"/>
                  <a:pt x="9971" y="15528"/>
                </a:cubicBezTo>
                <a:cubicBezTo>
                  <a:pt x="10060" y="15458"/>
                  <a:pt x="10046" y="15380"/>
                  <a:pt x="10046" y="15280"/>
                </a:cubicBezTo>
                <a:cubicBezTo>
                  <a:pt x="10046" y="15168"/>
                  <a:pt x="10006" y="15085"/>
                  <a:pt x="9971" y="14982"/>
                </a:cubicBezTo>
                <a:cubicBezTo>
                  <a:pt x="9945" y="14906"/>
                  <a:pt x="9896" y="14835"/>
                  <a:pt x="9872" y="14759"/>
                </a:cubicBezTo>
                <a:cubicBezTo>
                  <a:pt x="9872" y="14734"/>
                  <a:pt x="9872" y="14726"/>
                  <a:pt x="9872" y="14709"/>
                </a:cubicBezTo>
              </a:path>
              <a:path w="13693" h="5234">
                <a:moveTo>
                  <a:pt x="10244" y="14263"/>
                </a:moveTo>
                <a:cubicBezTo>
                  <a:pt x="10255" y="14392"/>
                  <a:pt x="10281" y="14511"/>
                  <a:pt x="10319" y="14635"/>
                </a:cubicBezTo>
                <a:cubicBezTo>
                  <a:pt x="10359" y="14767"/>
                  <a:pt x="10371" y="14935"/>
                  <a:pt x="10443" y="15056"/>
                </a:cubicBezTo>
                <a:cubicBezTo>
                  <a:pt x="10458" y="15082"/>
                  <a:pt x="10557" y="15222"/>
                  <a:pt x="10616" y="15205"/>
                </a:cubicBezTo>
                <a:cubicBezTo>
                  <a:pt x="10673" y="15189"/>
                  <a:pt x="10703" y="15124"/>
                  <a:pt x="10740" y="15081"/>
                </a:cubicBezTo>
              </a:path>
              <a:path w="13693" h="5234">
                <a:moveTo>
                  <a:pt x="10790" y="14635"/>
                </a:moveTo>
                <a:cubicBezTo>
                  <a:pt x="10691" y="14655"/>
                  <a:pt x="10591" y="14670"/>
                  <a:pt x="10492" y="14684"/>
                </a:cubicBezTo>
                <a:cubicBezTo>
                  <a:pt x="10452" y="14689"/>
                  <a:pt x="10408" y="14684"/>
                  <a:pt x="10368" y="14684"/>
                </a:cubicBezTo>
              </a:path>
              <a:path w="13693" h="5234">
                <a:moveTo>
                  <a:pt x="10988" y="14536"/>
                </a:moveTo>
                <a:cubicBezTo>
                  <a:pt x="11024" y="14661"/>
                  <a:pt x="11039" y="14787"/>
                  <a:pt x="11088" y="14908"/>
                </a:cubicBezTo>
                <a:cubicBezTo>
                  <a:pt x="11109" y="14960"/>
                  <a:pt x="11116" y="14970"/>
                  <a:pt x="11162" y="14982"/>
                </a:cubicBezTo>
              </a:path>
              <a:path w="13693" h="5234">
                <a:moveTo>
                  <a:pt x="11013" y="14238"/>
                </a:moveTo>
                <a:cubicBezTo>
                  <a:pt x="11013" y="14205"/>
                  <a:pt x="11013" y="14172"/>
                  <a:pt x="11013" y="14139"/>
                </a:cubicBezTo>
              </a:path>
              <a:path w="13693" h="5234">
                <a:moveTo>
                  <a:pt x="11460" y="14213"/>
                </a:moveTo>
                <a:cubicBezTo>
                  <a:pt x="11486" y="14183"/>
                  <a:pt x="11541" y="14076"/>
                  <a:pt x="11584" y="14064"/>
                </a:cubicBezTo>
                <a:cubicBezTo>
                  <a:pt x="11653" y="14044"/>
                  <a:pt x="11725" y="14080"/>
                  <a:pt x="11782" y="14114"/>
                </a:cubicBezTo>
                <a:cubicBezTo>
                  <a:pt x="11857" y="14159"/>
                  <a:pt x="11938" y="14272"/>
                  <a:pt x="11956" y="14362"/>
                </a:cubicBezTo>
                <a:cubicBezTo>
                  <a:pt x="11971" y="14440"/>
                  <a:pt x="11953" y="14545"/>
                  <a:pt x="11906" y="14610"/>
                </a:cubicBezTo>
                <a:cubicBezTo>
                  <a:pt x="11836" y="14706"/>
                  <a:pt x="11738" y="14713"/>
                  <a:pt x="11633" y="14684"/>
                </a:cubicBezTo>
                <a:cubicBezTo>
                  <a:pt x="11549" y="14661"/>
                  <a:pt x="11483" y="14545"/>
                  <a:pt x="11485" y="14461"/>
                </a:cubicBezTo>
                <a:cubicBezTo>
                  <a:pt x="11488" y="14345"/>
                  <a:pt x="11525" y="14188"/>
                  <a:pt x="11584" y="14089"/>
                </a:cubicBezTo>
                <a:cubicBezTo>
                  <a:pt x="11636" y="14001"/>
                  <a:pt x="11742" y="13948"/>
                  <a:pt x="11832" y="13915"/>
                </a:cubicBezTo>
                <a:cubicBezTo>
                  <a:pt x="11903" y="13889"/>
                  <a:pt x="12020" y="13905"/>
                  <a:pt x="12080" y="13965"/>
                </a:cubicBezTo>
                <a:cubicBezTo>
                  <a:pt x="12139" y="14024"/>
                  <a:pt x="12177" y="14109"/>
                  <a:pt x="12204" y="14188"/>
                </a:cubicBezTo>
                <a:cubicBezTo>
                  <a:pt x="12231" y="14267"/>
                  <a:pt x="12229" y="14330"/>
                  <a:pt x="12229" y="14412"/>
                </a:cubicBezTo>
                <a:cubicBezTo>
                  <a:pt x="12229" y="14420"/>
                  <a:pt x="12229" y="14428"/>
                  <a:pt x="12229" y="14436"/>
                </a:cubicBezTo>
                <a:cubicBezTo>
                  <a:pt x="12229" y="14256"/>
                  <a:pt x="12235" y="14147"/>
                  <a:pt x="12303" y="13965"/>
                </a:cubicBezTo>
                <a:cubicBezTo>
                  <a:pt x="12334" y="13882"/>
                  <a:pt x="12390" y="13804"/>
                  <a:pt x="12452" y="13742"/>
                </a:cubicBezTo>
                <a:cubicBezTo>
                  <a:pt x="12477" y="13717"/>
                  <a:pt x="12485" y="13709"/>
                  <a:pt x="12502" y="13692"/>
                </a:cubicBezTo>
                <a:cubicBezTo>
                  <a:pt x="12564" y="13731"/>
                  <a:pt x="12606" y="13727"/>
                  <a:pt x="12626" y="13816"/>
                </a:cubicBezTo>
                <a:cubicBezTo>
                  <a:pt x="12644" y="13897"/>
                  <a:pt x="12650" y="13979"/>
                  <a:pt x="12650" y="14064"/>
                </a:cubicBezTo>
                <a:cubicBezTo>
                  <a:pt x="12650" y="14194"/>
                  <a:pt x="12655" y="14314"/>
                  <a:pt x="12675" y="14436"/>
                </a:cubicBezTo>
                <a:cubicBezTo>
                  <a:pt x="12675" y="14453"/>
                  <a:pt x="12675" y="14469"/>
                  <a:pt x="12675" y="14486"/>
                </a:cubicBezTo>
              </a:path>
              <a:path w="13693" h="5234">
                <a:moveTo>
                  <a:pt x="15503" y="12129"/>
                </a:moveTo>
                <a:cubicBezTo>
                  <a:pt x="15455" y="12178"/>
                  <a:pt x="15417" y="12114"/>
                  <a:pt x="15379" y="12229"/>
                </a:cubicBezTo>
                <a:cubicBezTo>
                  <a:pt x="15351" y="12314"/>
                  <a:pt x="15355" y="12419"/>
                  <a:pt x="15329" y="12502"/>
                </a:cubicBezTo>
                <a:cubicBezTo>
                  <a:pt x="15299" y="12599"/>
                  <a:pt x="15246" y="12682"/>
                  <a:pt x="15205" y="12774"/>
                </a:cubicBezTo>
                <a:cubicBezTo>
                  <a:pt x="15158" y="12879"/>
                  <a:pt x="15126" y="12991"/>
                  <a:pt x="15081" y="13097"/>
                </a:cubicBezTo>
                <a:cubicBezTo>
                  <a:pt x="15023" y="13232"/>
                  <a:pt x="14948" y="13364"/>
                  <a:pt x="14883" y="13494"/>
                </a:cubicBezTo>
                <a:cubicBezTo>
                  <a:pt x="14832" y="13595"/>
                  <a:pt x="14756" y="13690"/>
                  <a:pt x="14709" y="13791"/>
                </a:cubicBezTo>
                <a:cubicBezTo>
                  <a:pt x="14665" y="13886"/>
                  <a:pt x="14627" y="13971"/>
                  <a:pt x="14585" y="14064"/>
                </a:cubicBezTo>
                <a:cubicBezTo>
                  <a:pt x="14550" y="14142"/>
                  <a:pt x="14516" y="14219"/>
                  <a:pt x="14486" y="14288"/>
                </a:cubicBezTo>
                <a:cubicBezTo>
                  <a:pt x="14457" y="14356"/>
                  <a:pt x="14435" y="14424"/>
                  <a:pt x="14412" y="14486"/>
                </a:cubicBezTo>
                <a:cubicBezTo>
                  <a:pt x="14388" y="14550"/>
                  <a:pt x="14334" y="14604"/>
                  <a:pt x="14312" y="14660"/>
                </a:cubicBezTo>
                <a:cubicBezTo>
                  <a:pt x="14297" y="14699"/>
                  <a:pt x="14300" y="14703"/>
                  <a:pt x="14288" y="14734"/>
                </a:cubicBezTo>
                <a:cubicBezTo>
                  <a:pt x="14288" y="14742"/>
                  <a:pt x="14288" y="14751"/>
                  <a:pt x="14288" y="14759"/>
                </a:cubicBezTo>
                <a:cubicBezTo>
                  <a:pt x="14308" y="14746"/>
                  <a:pt x="14336" y="14723"/>
                  <a:pt x="14362" y="14709"/>
                </a:cubicBezTo>
                <a:cubicBezTo>
                  <a:pt x="14394" y="14692"/>
                  <a:pt x="14402" y="14673"/>
                  <a:pt x="14436" y="14660"/>
                </a:cubicBezTo>
                <a:cubicBezTo>
                  <a:pt x="14469" y="14647"/>
                  <a:pt x="14504" y="14649"/>
                  <a:pt x="14536" y="14635"/>
                </a:cubicBezTo>
                <a:cubicBezTo>
                  <a:pt x="14564" y="14623"/>
                  <a:pt x="14576" y="14627"/>
                  <a:pt x="14610" y="14610"/>
                </a:cubicBezTo>
                <a:cubicBezTo>
                  <a:pt x="14668" y="14582"/>
                  <a:pt x="14724" y="14560"/>
                  <a:pt x="14784" y="14536"/>
                </a:cubicBezTo>
                <a:cubicBezTo>
                  <a:pt x="14864" y="14504"/>
                  <a:pt x="14955" y="14475"/>
                  <a:pt x="15032" y="14436"/>
                </a:cubicBezTo>
                <a:cubicBezTo>
                  <a:pt x="15124" y="14389"/>
                  <a:pt x="15211" y="14332"/>
                  <a:pt x="15304" y="14288"/>
                </a:cubicBezTo>
                <a:cubicBezTo>
                  <a:pt x="15422" y="14233"/>
                  <a:pt x="15535" y="14180"/>
                  <a:pt x="15652" y="14114"/>
                </a:cubicBezTo>
                <a:cubicBezTo>
                  <a:pt x="15841" y="14007"/>
                  <a:pt x="16041" y="13912"/>
                  <a:pt x="16222" y="13791"/>
                </a:cubicBezTo>
                <a:cubicBezTo>
                  <a:pt x="16349" y="13706"/>
                  <a:pt x="16498" y="13635"/>
                  <a:pt x="16619" y="13543"/>
                </a:cubicBezTo>
                <a:cubicBezTo>
                  <a:pt x="16741" y="13450"/>
                  <a:pt x="16853" y="13342"/>
                  <a:pt x="16991" y="13271"/>
                </a:cubicBezTo>
                <a:cubicBezTo>
                  <a:pt x="17169" y="13179"/>
                  <a:pt x="17351" y="13071"/>
                  <a:pt x="17512" y="12948"/>
                </a:cubicBezTo>
                <a:cubicBezTo>
                  <a:pt x="17669" y="12829"/>
                  <a:pt x="17819" y="12710"/>
                  <a:pt x="17983" y="12601"/>
                </a:cubicBezTo>
                <a:cubicBezTo>
                  <a:pt x="18132" y="12502"/>
                  <a:pt x="18316" y="12407"/>
                  <a:pt x="18455" y="12303"/>
                </a:cubicBezTo>
                <a:cubicBezTo>
                  <a:pt x="18527" y="12249"/>
                  <a:pt x="18573" y="12198"/>
                  <a:pt x="18653" y="12154"/>
                </a:cubicBezTo>
                <a:cubicBezTo>
                  <a:pt x="18688" y="12135"/>
                  <a:pt x="18727" y="12117"/>
                  <a:pt x="18752" y="12105"/>
                </a:cubicBezTo>
                <a:cubicBezTo>
                  <a:pt x="18699" y="12096"/>
                  <a:pt x="18645" y="12081"/>
                  <a:pt x="18579" y="12080"/>
                </a:cubicBezTo>
                <a:cubicBezTo>
                  <a:pt x="18363" y="12076"/>
                  <a:pt x="18145" y="12066"/>
                  <a:pt x="17934" y="12055"/>
                </a:cubicBezTo>
                <a:cubicBezTo>
                  <a:pt x="17782" y="12047"/>
                  <a:pt x="17637" y="12048"/>
                  <a:pt x="17487" y="12030"/>
                </a:cubicBezTo>
                <a:cubicBezTo>
                  <a:pt x="17340" y="12012"/>
                  <a:pt x="17189" y="11998"/>
                  <a:pt x="17041" y="11981"/>
                </a:cubicBezTo>
                <a:cubicBezTo>
                  <a:pt x="16908" y="11966"/>
                  <a:pt x="16779" y="11958"/>
                  <a:pt x="16644" y="11956"/>
                </a:cubicBezTo>
                <a:cubicBezTo>
                  <a:pt x="16502" y="11953"/>
                  <a:pt x="16362" y="11927"/>
                  <a:pt x="16222" y="11931"/>
                </a:cubicBezTo>
                <a:cubicBezTo>
                  <a:pt x="16071" y="11935"/>
                  <a:pt x="15901" y="11959"/>
                  <a:pt x="15751" y="11981"/>
                </a:cubicBezTo>
                <a:cubicBezTo>
                  <a:pt x="15698" y="11989"/>
                  <a:pt x="15636" y="11981"/>
                  <a:pt x="15602" y="11981"/>
                </a:cubicBezTo>
              </a:path>
              <a:path w="13693" h="5234">
                <a:moveTo>
                  <a:pt x="13940" y="14412"/>
                </a:moveTo>
                <a:cubicBezTo>
                  <a:pt x="13899" y="14465"/>
                  <a:pt x="13894" y="14514"/>
                  <a:pt x="13891" y="14585"/>
                </a:cubicBezTo>
                <a:cubicBezTo>
                  <a:pt x="13887" y="14703"/>
                  <a:pt x="13866" y="14812"/>
                  <a:pt x="13866" y="14932"/>
                </a:cubicBezTo>
                <a:cubicBezTo>
                  <a:pt x="13866" y="15043"/>
                  <a:pt x="13841" y="15142"/>
                  <a:pt x="13841" y="15255"/>
                </a:cubicBezTo>
                <a:cubicBezTo>
                  <a:pt x="13841" y="15300"/>
                  <a:pt x="13841" y="15516"/>
                  <a:pt x="13841" y="15478"/>
                </a:cubicBezTo>
                <a:cubicBezTo>
                  <a:pt x="13841" y="15462"/>
                  <a:pt x="13841" y="15445"/>
                  <a:pt x="13841" y="15429"/>
                </a:cubicBezTo>
              </a:path>
              <a:path w="13693" h="5234">
                <a:moveTo>
                  <a:pt x="13990" y="14412"/>
                </a:moveTo>
                <a:cubicBezTo>
                  <a:pt x="13998" y="14395"/>
                  <a:pt x="14007" y="14379"/>
                  <a:pt x="14015" y="14362"/>
                </a:cubicBezTo>
                <a:cubicBezTo>
                  <a:pt x="14029" y="14432"/>
                  <a:pt x="14072" y="14491"/>
                  <a:pt x="14089" y="14560"/>
                </a:cubicBezTo>
                <a:cubicBezTo>
                  <a:pt x="14104" y="14620"/>
                  <a:pt x="14149" y="14726"/>
                  <a:pt x="14188" y="14784"/>
                </a:cubicBezTo>
                <a:cubicBezTo>
                  <a:pt x="14240" y="14861"/>
                  <a:pt x="14286" y="14957"/>
                  <a:pt x="14337" y="15032"/>
                </a:cubicBezTo>
                <a:cubicBezTo>
                  <a:pt x="14391" y="15111"/>
                  <a:pt x="14439" y="15192"/>
                  <a:pt x="14486" y="15280"/>
                </a:cubicBezTo>
                <a:cubicBezTo>
                  <a:pt x="14518" y="15340"/>
                  <a:pt x="14540" y="15403"/>
                  <a:pt x="14585" y="15453"/>
                </a:cubicBezTo>
                <a:cubicBezTo>
                  <a:pt x="14585" y="15478"/>
                  <a:pt x="14585" y="15486"/>
                  <a:pt x="14610" y="15478"/>
                </a:cubicBezTo>
              </a:path>
              <a:path w="13693" h="5234">
                <a:moveTo>
                  <a:pt x="13990" y="14808"/>
                </a:moveTo>
                <a:cubicBezTo>
                  <a:pt x="13982" y="14808"/>
                  <a:pt x="13973" y="14808"/>
                  <a:pt x="13965" y="14808"/>
                </a:cubicBezTo>
                <a:cubicBezTo>
                  <a:pt x="14014" y="14796"/>
                  <a:pt x="14022" y="14761"/>
                  <a:pt x="14064" y="14734"/>
                </a:cubicBezTo>
                <a:cubicBezTo>
                  <a:pt x="14130" y="14691"/>
                  <a:pt x="14213" y="14669"/>
                  <a:pt x="14288" y="14660"/>
                </a:cubicBezTo>
              </a:path>
              <a:path w="13693" h="5234">
                <a:moveTo>
                  <a:pt x="19323" y="11534"/>
                </a:moveTo>
                <a:cubicBezTo>
                  <a:pt x="19323" y="11509"/>
                  <a:pt x="19323" y="11501"/>
                  <a:pt x="19323" y="11485"/>
                </a:cubicBezTo>
                <a:cubicBezTo>
                  <a:pt x="19292" y="11489"/>
                  <a:pt x="19245" y="11488"/>
                  <a:pt x="19224" y="11509"/>
                </a:cubicBezTo>
                <a:cubicBezTo>
                  <a:pt x="19221" y="11512"/>
                  <a:pt x="19152" y="11600"/>
                  <a:pt x="19149" y="11609"/>
                </a:cubicBezTo>
                <a:cubicBezTo>
                  <a:pt x="19132" y="11666"/>
                  <a:pt x="19107" y="11748"/>
                  <a:pt x="19100" y="11807"/>
                </a:cubicBezTo>
                <a:cubicBezTo>
                  <a:pt x="19088" y="11902"/>
                  <a:pt x="19085" y="11942"/>
                  <a:pt x="19100" y="12030"/>
                </a:cubicBezTo>
                <a:cubicBezTo>
                  <a:pt x="19112" y="12103"/>
                  <a:pt x="19178" y="12158"/>
                  <a:pt x="19248" y="12204"/>
                </a:cubicBezTo>
                <a:cubicBezTo>
                  <a:pt x="19337" y="12262"/>
                  <a:pt x="19448" y="12340"/>
                  <a:pt x="19546" y="12378"/>
                </a:cubicBezTo>
                <a:cubicBezTo>
                  <a:pt x="19677" y="12429"/>
                  <a:pt x="19812" y="12469"/>
                  <a:pt x="19943" y="12526"/>
                </a:cubicBezTo>
                <a:cubicBezTo>
                  <a:pt x="20008" y="12555"/>
                  <a:pt x="20078" y="12546"/>
                  <a:pt x="20141" y="12576"/>
                </a:cubicBezTo>
                <a:cubicBezTo>
                  <a:pt x="20164" y="12599"/>
                  <a:pt x="20168" y="12607"/>
                  <a:pt x="20191" y="12601"/>
                </a:cubicBezTo>
              </a:path>
              <a:path w="13693" h="5234">
                <a:moveTo>
                  <a:pt x="15032" y="14064"/>
                </a:moveTo>
                <a:cubicBezTo>
                  <a:pt x="15032" y="14056"/>
                  <a:pt x="15032" y="14047"/>
                  <a:pt x="15032" y="14039"/>
                </a:cubicBezTo>
                <a:cubicBezTo>
                  <a:pt x="15082" y="14039"/>
                  <a:pt x="15090" y="14050"/>
                  <a:pt x="15131" y="14064"/>
                </a:cubicBezTo>
                <a:cubicBezTo>
                  <a:pt x="15156" y="14064"/>
                  <a:pt x="15164" y="14064"/>
                  <a:pt x="15180" y="14064"/>
                </a:cubicBezTo>
                <a:cubicBezTo>
                  <a:pt x="15191" y="14098"/>
                  <a:pt x="15215" y="14095"/>
                  <a:pt x="15230" y="14139"/>
                </a:cubicBezTo>
                <a:cubicBezTo>
                  <a:pt x="15243" y="14177"/>
                  <a:pt x="15228" y="14212"/>
                  <a:pt x="15205" y="14238"/>
                </a:cubicBezTo>
                <a:cubicBezTo>
                  <a:pt x="15176" y="14271"/>
                  <a:pt x="15149" y="14307"/>
                  <a:pt x="15106" y="14312"/>
                </a:cubicBezTo>
                <a:cubicBezTo>
                  <a:pt x="15098" y="14312"/>
                  <a:pt x="15089" y="14312"/>
                  <a:pt x="15081" y="14312"/>
                </a:cubicBezTo>
              </a:path>
              <a:path w="13693" h="5234">
                <a:moveTo>
                  <a:pt x="15131" y="13990"/>
                </a:moveTo>
                <a:cubicBezTo>
                  <a:pt x="15159" y="13983"/>
                  <a:pt x="15209" y="13956"/>
                  <a:pt x="15230" y="13940"/>
                </a:cubicBezTo>
                <a:cubicBezTo>
                  <a:pt x="15247" y="13924"/>
                  <a:pt x="15263" y="13907"/>
                  <a:pt x="15280" y="13891"/>
                </a:cubicBezTo>
              </a:path>
              <a:path w="13693" h="5234">
                <a:moveTo>
                  <a:pt x="15503" y="13717"/>
                </a:moveTo>
                <a:cubicBezTo>
                  <a:pt x="15492" y="13732"/>
                  <a:pt x="15366" y="13848"/>
                  <a:pt x="15404" y="13915"/>
                </a:cubicBezTo>
                <a:cubicBezTo>
                  <a:pt x="15431" y="13963"/>
                  <a:pt x="15487" y="13985"/>
                  <a:pt x="15528" y="14015"/>
                </a:cubicBezTo>
                <a:cubicBezTo>
                  <a:pt x="15579" y="14053"/>
                  <a:pt x="15633" y="14053"/>
                  <a:pt x="15677" y="14089"/>
                </a:cubicBezTo>
                <a:cubicBezTo>
                  <a:pt x="15713" y="14118"/>
                  <a:pt x="15714" y="14104"/>
                  <a:pt x="15726" y="14139"/>
                </a:cubicBezTo>
                <a:cubicBezTo>
                  <a:pt x="15714" y="14175"/>
                  <a:pt x="15703" y="14168"/>
                  <a:pt x="15677" y="14188"/>
                </a:cubicBezTo>
                <a:cubicBezTo>
                  <a:pt x="15639" y="14217"/>
                  <a:pt x="15625" y="14213"/>
                  <a:pt x="15577" y="14213"/>
                </a:cubicBezTo>
                <a:cubicBezTo>
                  <a:pt x="15577" y="14103"/>
                  <a:pt x="15618" y="13898"/>
                  <a:pt x="15553" y="13816"/>
                </a:cubicBezTo>
                <a:cubicBezTo>
                  <a:pt x="15525" y="13788"/>
                  <a:pt x="15516" y="13775"/>
                  <a:pt x="15528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010360" y="3652920"/>
            <a:ext cx="1071720" cy="677880"/>
          </a:xfrm>
          <a:custGeom>
            <a:avLst/>
            <a:gdLst/>
            <a:ahLst/>
            <a:rect l="l" t="t" r="r" b="b"/>
            <a:pathLst>
              <a:path w="2977" h="1886">
                <a:moveTo>
                  <a:pt x="22250" y="10344"/>
                </a:moveTo>
                <a:cubicBezTo>
                  <a:pt x="22309" y="10311"/>
                  <a:pt x="22370" y="10278"/>
                  <a:pt x="22448" y="10269"/>
                </a:cubicBezTo>
                <a:cubicBezTo>
                  <a:pt x="22583" y="10253"/>
                  <a:pt x="22704" y="10206"/>
                  <a:pt x="22845" y="10195"/>
                </a:cubicBezTo>
                <a:cubicBezTo>
                  <a:pt x="23136" y="10172"/>
                  <a:pt x="23431" y="10175"/>
                  <a:pt x="23713" y="10145"/>
                </a:cubicBezTo>
                <a:cubicBezTo>
                  <a:pt x="24072" y="10106"/>
                  <a:pt x="24488" y="10129"/>
                  <a:pt x="24829" y="10195"/>
                </a:cubicBezTo>
                <a:cubicBezTo>
                  <a:pt x="24955" y="10219"/>
                  <a:pt x="25139" y="10166"/>
                  <a:pt x="25226" y="10220"/>
                </a:cubicBezTo>
              </a:path>
              <a:path w="2977" h="1886">
                <a:moveTo>
                  <a:pt x="22771" y="10889"/>
                </a:moveTo>
                <a:cubicBezTo>
                  <a:pt x="22771" y="11041"/>
                  <a:pt x="22778" y="11191"/>
                  <a:pt x="22796" y="11336"/>
                </a:cubicBezTo>
                <a:cubicBezTo>
                  <a:pt x="22803" y="11395"/>
                  <a:pt x="22809" y="11567"/>
                  <a:pt x="22820" y="11509"/>
                </a:cubicBezTo>
                <a:cubicBezTo>
                  <a:pt x="22820" y="11493"/>
                  <a:pt x="22820" y="11476"/>
                  <a:pt x="22820" y="11460"/>
                </a:cubicBezTo>
              </a:path>
              <a:path w="2977" h="1886">
                <a:moveTo>
                  <a:pt x="23093" y="10939"/>
                </a:moveTo>
                <a:cubicBezTo>
                  <a:pt x="23074" y="11068"/>
                  <a:pt x="23068" y="11181"/>
                  <a:pt x="23068" y="11311"/>
                </a:cubicBezTo>
                <a:cubicBezTo>
                  <a:pt x="23068" y="11379"/>
                  <a:pt x="23093" y="11421"/>
                  <a:pt x="23093" y="11485"/>
                </a:cubicBezTo>
                <a:cubicBezTo>
                  <a:pt x="23093" y="11509"/>
                  <a:pt x="23093" y="11517"/>
                  <a:pt x="23118" y="11509"/>
                </a:cubicBezTo>
              </a:path>
              <a:path w="2977" h="1886">
                <a:moveTo>
                  <a:pt x="23664" y="11261"/>
                </a:moveTo>
                <a:cubicBezTo>
                  <a:pt x="23664" y="11233"/>
                  <a:pt x="23666" y="11223"/>
                  <a:pt x="23688" y="11212"/>
                </a:cubicBezTo>
              </a:path>
              <a:path w="2977" h="1886">
                <a:moveTo>
                  <a:pt x="24110" y="10641"/>
                </a:moveTo>
                <a:cubicBezTo>
                  <a:pt x="24110" y="10702"/>
                  <a:pt x="24129" y="10715"/>
                  <a:pt x="24135" y="10765"/>
                </a:cubicBezTo>
                <a:cubicBezTo>
                  <a:pt x="24137" y="10779"/>
                  <a:pt x="24115" y="10871"/>
                  <a:pt x="24110" y="10889"/>
                </a:cubicBezTo>
                <a:cubicBezTo>
                  <a:pt x="24092" y="10950"/>
                  <a:pt x="24065" y="10962"/>
                  <a:pt x="24110" y="11013"/>
                </a:cubicBezTo>
                <a:cubicBezTo>
                  <a:pt x="24138" y="11044"/>
                  <a:pt x="24193" y="11059"/>
                  <a:pt x="24234" y="11063"/>
                </a:cubicBezTo>
                <a:cubicBezTo>
                  <a:pt x="24290" y="11069"/>
                  <a:pt x="24313" y="11043"/>
                  <a:pt x="24358" y="11038"/>
                </a:cubicBezTo>
                <a:cubicBezTo>
                  <a:pt x="24382" y="11035"/>
                  <a:pt x="24409" y="11038"/>
                  <a:pt x="24433" y="11038"/>
                </a:cubicBezTo>
                <a:cubicBezTo>
                  <a:pt x="24433" y="11013"/>
                  <a:pt x="24433" y="11005"/>
                  <a:pt x="24433" y="10988"/>
                </a:cubicBezTo>
              </a:path>
              <a:path w="2977" h="1886">
                <a:moveTo>
                  <a:pt x="24482" y="10716"/>
                </a:moveTo>
                <a:cubicBezTo>
                  <a:pt x="24482" y="10909"/>
                  <a:pt x="24473" y="11097"/>
                  <a:pt x="24457" y="11286"/>
                </a:cubicBezTo>
                <a:cubicBezTo>
                  <a:pt x="24446" y="11417"/>
                  <a:pt x="24421" y="11531"/>
                  <a:pt x="24383" y="11658"/>
                </a:cubicBezTo>
                <a:cubicBezTo>
                  <a:pt x="24345" y="11783"/>
                  <a:pt x="24339" y="11899"/>
                  <a:pt x="24333" y="120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Lesson 6.1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rt three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9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pplications of the Law of Sin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1.  A TV antenna sits on a roof.  Two 80-foot guide wires are on opposite sides of the antenna.   Each wire makes a 28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 angle with the ground.  How far apart are the wires?</a:t>
            </a:r>
            <a:endParaRPr b="0" lang="en-US" sz="3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03200" y="4902120"/>
            <a:ext cx="1376640" cy="911160"/>
          </a:xfrm>
          <a:custGeom>
            <a:avLst/>
            <a:gdLst/>
            <a:ahLst/>
            <a:rect l="l" t="t" r="r" b="b"/>
            <a:pathLst>
              <a:path w="3821" h="2531">
                <a:moveTo>
                  <a:pt x="4142" y="13618"/>
                </a:moveTo>
                <a:cubicBezTo>
                  <a:pt x="4142" y="13650"/>
                  <a:pt x="4122" y="13646"/>
                  <a:pt x="4093" y="13667"/>
                </a:cubicBezTo>
              </a:path>
              <a:path w="3821" h="2531">
                <a:moveTo>
                  <a:pt x="6400" y="13767"/>
                </a:moveTo>
                <a:cubicBezTo>
                  <a:pt x="6403" y="13766"/>
                  <a:pt x="6471" y="13745"/>
                  <a:pt x="6474" y="13742"/>
                </a:cubicBezTo>
                <a:cubicBezTo>
                  <a:pt x="6500" y="13709"/>
                  <a:pt x="6509" y="13717"/>
                  <a:pt x="6573" y="13717"/>
                </a:cubicBezTo>
                <a:cubicBezTo>
                  <a:pt x="6603" y="13717"/>
                  <a:pt x="6680" y="13717"/>
                  <a:pt x="6697" y="13742"/>
                </a:cubicBezTo>
                <a:cubicBezTo>
                  <a:pt x="6697" y="13767"/>
                  <a:pt x="6697" y="13775"/>
                  <a:pt x="6722" y="13767"/>
                </a:cubicBezTo>
                <a:cubicBezTo>
                  <a:pt x="6688" y="13811"/>
                  <a:pt x="6689" y="13804"/>
                  <a:pt x="6648" y="13841"/>
                </a:cubicBezTo>
                <a:cubicBezTo>
                  <a:pt x="6612" y="13873"/>
                  <a:pt x="6595" y="13908"/>
                  <a:pt x="6573" y="13940"/>
                </a:cubicBezTo>
                <a:cubicBezTo>
                  <a:pt x="6547" y="13980"/>
                  <a:pt x="6548" y="13990"/>
                  <a:pt x="6548" y="14039"/>
                </a:cubicBezTo>
                <a:cubicBezTo>
                  <a:pt x="6548" y="14059"/>
                  <a:pt x="6575" y="14132"/>
                  <a:pt x="6598" y="14139"/>
                </a:cubicBezTo>
                <a:cubicBezTo>
                  <a:pt x="6618" y="14145"/>
                  <a:pt x="6698" y="14176"/>
                  <a:pt x="6722" y="14163"/>
                </a:cubicBezTo>
                <a:cubicBezTo>
                  <a:pt x="6730" y="14155"/>
                  <a:pt x="6739" y="14147"/>
                  <a:pt x="6747" y="14139"/>
                </a:cubicBezTo>
              </a:path>
              <a:path w="3821" h="2531">
                <a:moveTo>
                  <a:pt x="6970" y="13816"/>
                </a:moveTo>
                <a:cubicBezTo>
                  <a:pt x="6933" y="13854"/>
                  <a:pt x="6921" y="13863"/>
                  <a:pt x="6921" y="13915"/>
                </a:cubicBezTo>
                <a:cubicBezTo>
                  <a:pt x="6921" y="13952"/>
                  <a:pt x="6963" y="13951"/>
                  <a:pt x="6995" y="13965"/>
                </a:cubicBezTo>
                <a:cubicBezTo>
                  <a:pt x="7057" y="13992"/>
                  <a:pt x="7117" y="14012"/>
                  <a:pt x="7169" y="13965"/>
                </a:cubicBezTo>
                <a:cubicBezTo>
                  <a:pt x="7208" y="13930"/>
                  <a:pt x="7218" y="13916"/>
                  <a:pt x="7218" y="13866"/>
                </a:cubicBezTo>
                <a:cubicBezTo>
                  <a:pt x="7218" y="13840"/>
                  <a:pt x="7193" y="13819"/>
                  <a:pt x="7169" y="13816"/>
                </a:cubicBezTo>
                <a:cubicBezTo>
                  <a:pt x="7137" y="13812"/>
                  <a:pt x="7101" y="13816"/>
                  <a:pt x="7069" y="13816"/>
                </a:cubicBezTo>
              </a:path>
              <a:path w="3821" h="2531">
                <a:moveTo>
                  <a:pt x="7069" y="13990"/>
                </a:moveTo>
                <a:cubicBezTo>
                  <a:pt x="7006" y="14096"/>
                  <a:pt x="7017" y="14056"/>
                  <a:pt x="7045" y="14139"/>
                </a:cubicBezTo>
                <a:cubicBezTo>
                  <a:pt x="7050" y="14153"/>
                  <a:pt x="7091" y="14205"/>
                  <a:pt x="7119" y="14213"/>
                </a:cubicBezTo>
                <a:cubicBezTo>
                  <a:pt x="7140" y="14219"/>
                  <a:pt x="7218" y="14252"/>
                  <a:pt x="7243" y="14238"/>
                </a:cubicBezTo>
                <a:cubicBezTo>
                  <a:pt x="7277" y="14219"/>
                  <a:pt x="7305" y="14201"/>
                  <a:pt x="7317" y="14163"/>
                </a:cubicBezTo>
                <a:cubicBezTo>
                  <a:pt x="7327" y="14134"/>
                  <a:pt x="7306" y="14083"/>
                  <a:pt x="7293" y="14064"/>
                </a:cubicBezTo>
                <a:cubicBezTo>
                  <a:pt x="7272" y="14033"/>
                  <a:pt x="7266" y="14020"/>
                  <a:pt x="7243" y="13990"/>
                </a:cubicBezTo>
              </a:path>
              <a:path w="3821" h="2531">
                <a:moveTo>
                  <a:pt x="7392" y="13767"/>
                </a:moveTo>
                <a:cubicBezTo>
                  <a:pt x="7384" y="13775"/>
                  <a:pt x="7375" y="13783"/>
                  <a:pt x="7367" y="13791"/>
                </a:cubicBezTo>
                <a:cubicBezTo>
                  <a:pt x="7383" y="13838"/>
                  <a:pt x="7407" y="13819"/>
                  <a:pt x="7417" y="13816"/>
                </a:cubicBezTo>
                <a:cubicBezTo>
                  <a:pt x="7449" y="13805"/>
                  <a:pt x="7457" y="13770"/>
                  <a:pt x="7417" y="13742"/>
                </a:cubicBezTo>
                <a:cubicBezTo>
                  <a:pt x="7369" y="13718"/>
                  <a:pt x="7354" y="13710"/>
                  <a:pt x="7317" y="13717"/>
                </a:cubicBezTo>
              </a:path>
              <a:path w="3821" h="2531">
                <a:moveTo>
                  <a:pt x="3994" y="14610"/>
                </a:moveTo>
                <a:cubicBezTo>
                  <a:pt x="4011" y="14645"/>
                  <a:pt x="4022" y="14674"/>
                  <a:pt x="4043" y="14709"/>
                </a:cubicBezTo>
                <a:cubicBezTo>
                  <a:pt x="4087" y="14783"/>
                  <a:pt x="4125" y="14848"/>
                  <a:pt x="4192" y="14908"/>
                </a:cubicBezTo>
                <a:cubicBezTo>
                  <a:pt x="4306" y="15009"/>
                  <a:pt x="4418" y="15114"/>
                  <a:pt x="4539" y="15205"/>
                </a:cubicBezTo>
                <a:cubicBezTo>
                  <a:pt x="4631" y="15274"/>
                  <a:pt x="4706" y="15348"/>
                  <a:pt x="4787" y="15429"/>
                </a:cubicBezTo>
                <a:cubicBezTo>
                  <a:pt x="4820" y="15462"/>
                  <a:pt x="4833" y="15565"/>
                  <a:pt x="4862" y="15528"/>
                </a:cubicBezTo>
                <a:cubicBezTo>
                  <a:pt x="4872" y="15515"/>
                  <a:pt x="4862" y="15447"/>
                  <a:pt x="4862" y="15429"/>
                </a:cubicBezTo>
              </a:path>
              <a:path w="3821" h="2531">
                <a:moveTo>
                  <a:pt x="4911" y="14635"/>
                </a:moveTo>
                <a:cubicBezTo>
                  <a:pt x="4911" y="14618"/>
                  <a:pt x="4911" y="14602"/>
                  <a:pt x="4911" y="14585"/>
                </a:cubicBezTo>
                <a:cubicBezTo>
                  <a:pt x="4904" y="14637"/>
                  <a:pt x="4897" y="14662"/>
                  <a:pt x="4862" y="14709"/>
                </a:cubicBezTo>
                <a:cubicBezTo>
                  <a:pt x="4815" y="14772"/>
                  <a:pt x="4728" y="14843"/>
                  <a:pt x="4663" y="14883"/>
                </a:cubicBezTo>
                <a:cubicBezTo>
                  <a:pt x="4547" y="14954"/>
                  <a:pt x="4432" y="15036"/>
                  <a:pt x="4316" y="15106"/>
                </a:cubicBezTo>
                <a:cubicBezTo>
                  <a:pt x="4193" y="15180"/>
                  <a:pt x="4086" y="15247"/>
                  <a:pt x="3969" y="15329"/>
                </a:cubicBezTo>
                <a:cubicBezTo>
                  <a:pt x="3896" y="15380"/>
                  <a:pt x="3818" y="15430"/>
                  <a:pt x="3746" y="15478"/>
                </a:cubicBezTo>
                <a:cubicBezTo>
                  <a:pt x="3695" y="15512"/>
                  <a:pt x="3663" y="15536"/>
                  <a:pt x="3721" y="15478"/>
                </a:cubicBezTo>
                <a:cubicBezTo>
                  <a:pt x="3746" y="15478"/>
                  <a:pt x="3754" y="15478"/>
                  <a:pt x="3746" y="15453"/>
                </a:cubicBezTo>
              </a:path>
              <a:path w="3821" h="2531">
                <a:moveTo>
                  <a:pt x="5383" y="14511"/>
                </a:moveTo>
                <a:cubicBezTo>
                  <a:pt x="5326" y="14439"/>
                  <a:pt x="5292" y="14389"/>
                  <a:pt x="5209" y="14337"/>
                </a:cubicBezTo>
                <a:cubicBezTo>
                  <a:pt x="5079" y="14255"/>
                  <a:pt x="4933" y="14232"/>
                  <a:pt x="4787" y="14188"/>
                </a:cubicBezTo>
                <a:cubicBezTo>
                  <a:pt x="4688" y="14158"/>
                  <a:pt x="4569" y="14147"/>
                  <a:pt x="4465" y="14163"/>
                </a:cubicBezTo>
                <a:cubicBezTo>
                  <a:pt x="4357" y="14180"/>
                  <a:pt x="4216" y="14212"/>
                  <a:pt x="4118" y="14263"/>
                </a:cubicBezTo>
                <a:cubicBezTo>
                  <a:pt x="4006" y="14321"/>
                  <a:pt x="3926" y="14397"/>
                  <a:pt x="3845" y="14486"/>
                </a:cubicBezTo>
                <a:cubicBezTo>
                  <a:pt x="3768" y="14571"/>
                  <a:pt x="3711" y="14652"/>
                  <a:pt x="3671" y="14759"/>
                </a:cubicBezTo>
                <a:cubicBezTo>
                  <a:pt x="3628" y="14874"/>
                  <a:pt x="3621" y="14959"/>
                  <a:pt x="3621" y="15081"/>
                </a:cubicBezTo>
                <a:cubicBezTo>
                  <a:pt x="3621" y="15213"/>
                  <a:pt x="3685" y="15292"/>
                  <a:pt x="3746" y="15404"/>
                </a:cubicBezTo>
                <a:cubicBezTo>
                  <a:pt x="3856" y="15607"/>
                  <a:pt x="3956" y="15718"/>
                  <a:pt x="4142" y="15875"/>
                </a:cubicBezTo>
                <a:cubicBezTo>
                  <a:pt x="4221" y="15941"/>
                  <a:pt x="4345" y="16014"/>
                  <a:pt x="4440" y="16049"/>
                </a:cubicBezTo>
                <a:cubicBezTo>
                  <a:pt x="4600" y="16109"/>
                  <a:pt x="4766" y="16148"/>
                  <a:pt x="4936" y="16148"/>
                </a:cubicBezTo>
                <a:cubicBezTo>
                  <a:pt x="5050" y="16148"/>
                  <a:pt x="5140" y="16134"/>
                  <a:pt x="5234" y="16073"/>
                </a:cubicBezTo>
                <a:cubicBezTo>
                  <a:pt x="5306" y="16026"/>
                  <a:pt x="5405" y="15972"/>
                  <a:pt x="5457" y="15900"/>
                </a:cubicBezTo>
                <a:cubicBezTo>
                  <a:pt x="5513" y="15823"/>
                  <a:pt x="5536" y="15734"/>
                  <a:pt x="5581" y="15652"/>
                </a:cubicBezTo>
                <a:cubicBezTo>
                  <a:pt x="5653" y="15520"/>
                  <a:pt x="5669" y="15410"/>
                  <a:pt x="5680" y="15255"/>
                </a:cubicBezTo>
                <a:cubicBezTo>
                  <a:pt x="5688" y="15138"/>
                  <a:pt x="5686" y="15019"/>
                  <a:pt x="5655" y="14908"/>
                </a:cubicBezTo>
                <a:cubicBezTo>
                  <a:pt x="5626" y="14805"/>
                  <a:pt x="5597" y="14696"/>
                  <a:pt x="5531" y="14610"/>
                </a:cubicBezTo>
                <a:cubicBezTo>
                  <a:pt x="5461" y="14519"/>
                  <a:pt x="5364" y="14427"/>
                  <a:pt x="5259" y="14387"/>
                </a:cubicBezTo>
                <a:cubicBezTo>
                  <a:pt x="5162" y="14350"/>
                  <a:pt x="5064" y="14362"/>
                  <a:pt x="4961" y="14362"/>
                </a:cubicBezTo>
                <a:cubicBezTo>
                  <a:pt x="4944" y="14362"/>
                  <a:pt x="4928" y="14362"/>
                  <a:pt x="4911" y="143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41880" y="3544920"/>
            <a:ext cx="3224160" cy="1027080"/>
          </a:xfrm>
          <a:custGeom>
            <a:avLst/>
            <a:gdLst/>
            <a:ahLst/>
            <a:rect l="l" t="t" r="r" b="b"/>
            <a:pathLst>
              <a:path w="8956" h="2854">
                <a:moveTo>
                  <a:pt x="11782" y="11509"/>
                </a:moveTo>
                <a:cubicBezTo>
                  <a:pt x="11854" y="11497"/>
                  <a:pt x="11933" y="11500"/>
                  <a:pt x="12005" y="11485"/>
                </a:cubicBezTo>
                <a:cubicBezTo>
                  <a:pt x="12137" y="11457"/>
                  <a:pt x="12265" y="11438"/>
                  <a:pt x="12402" y="11435"/>
                </a:cubicBezTo>
                <a:cubicBezTo>
                  <a:pt x="12570" y="11431"/>
                  <a:pt x="12731" y="11396"/>
                  <a:pt x="12898" y="11385"/>
                </a:cubicBezTo>
                <a:cubicBezTo>
                  <a:pt x="13080" y="11373"/>
                  <a:pt x="13262" y="11372"/>
                  <a:pt x="13444" y="11361"/>
                </a:cubicBezTo>
                <a:cubicBezTo>
                  <a:pt x="13679" y="11347"/>
                  <a:pt x="13904" y="11336"/>
                  <a:pt x="14139" y="11336"/>
                </a:cubicBezTo>
                <a:cubicBezTo>
                  <a:pt x="14333" y="11336"/>
                  <a:pt x="14521" y="11344"/>
                  <a:pt x="14709" y="11361"/>
                </a:cubicBezTo>
                <a:cubicBezTo>
                  <a:pt x="14826" y="11371"/>
                  <a:pt x="14945" y="11372"/>
                  <a:pt x="15056" y="11385"/>
                </a:cubicBezTo>
                <a:cubicBezTo>
                  <a:pt x="15081" y="11388"/>
                  <a:pt x="15106" y="11383"/>
                  <a:pt x="15131" y="11385"/>
                </a:cubicBezTo>
              </a:path>
              <a:path w="8956" h="2854">
                <a:moveTo>
                  <a:pt x="13469" y="11906"/>
                </a:moveTo>
                <a:cubicBezTo>
                  <a:pt x="13480" y="11873"/>
                  <a:pt x="13498" y="11875"/>
                  <a:pt x="13469" y="11832"/>
                </a:cubicBezTo>
                <a:cubicBezTo>
                  <a:pt x="13444" y="11795"/>
                  <a:pt x="13385" y="11785"/>
                  <a:pt x="13345" y="11782"/>
                </a:cubicBezTo>
                <a:cubicBezTo>
                  <a:pt x="13294" y="11778"/>
                  <a:pt x="13240" y="11791"/>
                  <a:pt x="13196" y="11807"/>
                </a:cubicBezTo>
                <a:cubicBezTo>
                  <a:pt x="13138" y="11828"/>
                  <a:pt x="13065" y="11867"/>
                  <a:pt x="13022" y="11906"/>
                </a:cubicBezTo>
                <a:cubicBezTo>
                  <a:pt x="13001" y="11925"/>
                  <a:pt x="12982" y="11975"/>
                  <a:pt x="12998" y="12005"/>
                </a:cubicBezTo>
                <a:cubicBezTo>
                  <a:pt x="13043" y="12088"/>
                  <a:pt x="13098" y="12115"/>
                  <a:pt x="13171" y="12179"/>
                </a:cubicBezTo>
                <a:cubicBezTo>
                  <a:pt x="13236" y="12235"/>
                  <a:pt x="13298" y="12308"/>
                  <a:pt x="13345" y="12378"/>
                </a:cubicBezTo>
                <a:cubicBezTo>
                  <a:pt x="13381" y="12431"/>
                  <a:pt x="13397" y="12496"/>
                  <a:pt x="13419" y="12551"/>
                </a:cubicBezTo>
                <a:cubicBezTo>
                  <a:pt x="13435" y="12592"/>
                  <a:pt x="13466" y="12655"/>
                  <a:pt x="13395" y="12675"/>
                </a:cubicBezTo>
                <a:cubicBezTo>
                  <a:pt x="13336" y="12692"/>
                  <a:pt x="13314" y="12664"/>
                  <a:pt x="13271" y="12650"/>
                </a:cubicBezTo>
                <a:cubicBezTo>
                  <a:pt x="13229" y="12636"/>
                  <a:pt x="13190" y="12579"/>
                  <a:pt x="13196" y="12526"/>
                </a:cubicBezTo>
                <a:cubicBezTo>
                  <a:pt x="13203" y="12459"/>
                  <a:pt x="13236" y="12363"/>
                  <a:pt x="13271" y="12303"/>
                </a:cubicBezTo>
                <a:cubicBezTo>
                  <a:pt x="13322" y="12215"/>
                  <a:pt x="13373" y="12151"/>
                  <a:pt x="13444" y="12080"/>
                </a:cubicBezTo>
                <a:cubicBezTo>
                  <a:pt x="13502" y="12022"/>
                  <a:pt x="13560" y="11964"/>
                  <a:pt x="13618" y="11906"/>
                </a:cubicBezTo>
              </a:path>
              <a:path w="8956" h="2854">
                <a:moveTo>
                  <a:pt x="13742" y="11832"/>
                </a:moveTo>
                <a:cubicBezTo>
                  <a:pt x="13789" y="11832"/>
                  <a:pt x="13726" y="11840"/>
                  <a:pt x="13717" y="11881"/>
                </a:cubicBezTo>
                <a:cubicBezTo>
                  <a:pt x="13703" y="11944"/>
                  <a:pt x="13675" y="12017"/>
                  <a:pt x="13667" y="12080"/>
                </a:cubicBezTo>
                <a:cubicBezTo>
                  <a:pt x="13652" y="12193"/>
                  <a:pt x="13653" y="12346"/>
                  <a:pt x="13692" y="12452"/>
                </a:cubicBezTo>
                <a:cubicBezTo>
                  <a:pt x="13714" y="12513"/>
                  <a:pt x="13762" y="12571"/>
                  <a:pt x="13816" y="12601"/>
                </a:cubicBezTo>
                <a:cubicBezTo>
                  <a:pt x="13877" y="12635"/>
                  <a:pt x="13964" y="12671"/>
                  <a:pt x="14039" y="12650"/>
                </a:cubicBezTo>
                <a:cubicBezTo>
                  <a:pt x="14116" y="12628"/>
                  <a:pt x="14175" y="12603"/>
                  <a:pt x="14238" y="12551"/>
                </a:cubicBezTo>
                <a:cubicBezTo>
                  <a:pt x="14296" y="12503"/>
                  <a:pt x="14334" y="12423"/>
                  <a:pt x="14362" y="12353"/>
                </a:cubicBezTo>
                <a:cubicBezTo>
                  <a:pt x="14384" y="12298"/>
                  <a:pt x="14416" y="12140"/>
                  <a:pt x="14387" y="12080"/>
                </a:cubicBezTo>
                <a:cubicBezTo>
                  <a:pt x="14299" y="11900"/>
                  <a:pt x="14265" y="11900"/>
                  <a:pt x="14114" y="11857"/>
                </a:cubicBezTo>
                <a:cubicBezTo>
                  <a:pt x="14039" y="11836"/>
                  <a:pt x="13992" y="11832"/>
                  <a:pt x="13915" y="11857"/>
                </a:cubicBezTo>
                <a:cubicBezTo>
                  <a:pt x="13899" y="11865"/>
                  <a:pt x="13882" y="11873"/>
                  <a:pt x="13866" y="11881"/>
                </a:cubicBezTo>
              </a:path>
              <a:path w="8956" h="2854">
                <a:moveTo>
                  <a:pt x="15577" y="11261"/>
                </a:moveTo>
                <a:cubicBezTo>
                  <a:pt x="15647" y="11261"/>
                  <a:pt x="15695" y="11255"/>
                  <a:pt x="15751" y="11237"/>
                </a:cubicBezTo>
                <a:cubicBezTo>
                  <a:pt x="15797" y="11222"/>
                  <a:pt x="15875" y="11237"/>
                  <a:pt x="15925" y="11237"/>
                </a:cubicBezTo>
              </a:path>
              <a:path w="8956" h="2854">
                <a:moveTo>
                  <a:pt x="15751" y="11559"/>
                </a:moveTo>
                <a:cubicBezTo>
                  <a:pt x="15802" y="11546"/>
                  <a:pt x="15814" y="11534"/>
                  <a:pt x="15875" y="11534"/>
                </a:cubicBezTo>
                <a:cubicBezTo>
                  <a:pt x="15921" y="11534"/>
                  <a:pt x="15933" y="11514"/>
                  <a:pt x="15974" y="11509"/>
                </a:cubicBezTo>
                <a:cubicBezTo>
                  <a:pt x="15999" y="11509"/>
                  <a:pt x="16007" y="11509"/>
                  <a:pt x="16024" y="11509"/>
                </a:cubicBezTo>
              </a:path>
              <a:path w="8956" h="2854">
                <a:moveTo>
                  <a:pt x="16818" y="10344"/>
                </a:moveTo>
                <a:cubicBezTo>
                  <a:pt x="16835" y="10247"/>
                  <a:pt x="16830" y="10246"/>
                  <a:pt x="16793" y="10195"/>
                </a:cubicBezTo>
                <a:cubicBezTo>
                  <a:pt x="16742" y="10125"/>
                  <a:pt x="16758" y="10120"/>
                  <a:pt x="16669" y="10120"/>
                </a:cubicBezTo>
                <a:cubicBezTo>
                  <a:pt x="16603" y="10120"/>
                  <a:pt x="16520" y="10101"/>
                  <a:pt x="16470" y="10145"/>
                </a:cubicBezTo>
                <a:cubicBezTo>
                  <a:pt x="16422" y="10187"/>
                  <a:pt x="16368" y="10203"/>
                  <a:pt x="16346" y="10269"/>
                </a:cubicBezTo>
                <a:cubicBezTo>
                  <a:pt x="16328" y="10322"/>
                  <a:pt x="16366" y="10378"/>
                  <a:pt x="16396" y="10418"/>
                </a:cubicBezTo>
                <a:cubicBezTo>
                  <a:pt x="16456" y="10498"/>
                  <a:pt x="16502" y="10537"/>
                  <a:pt x="16570" y="10592"/>
                </a:cubicBezTo>
                <a:cubicBezTo>
                  <a:pt x="16655" y="10660"/>
                  <a:pt x="16713" y="10774"/>
                  <a:pt x="16793" y="10840"/>
                </a:cubicBezTo>
                <a:cubicBezTo>
                  <a:pt x="16835" y="10875"/>
                  <a:pt x="16888" y="10903"/>
                  <a:pt x="16892" y="10964"/>
                </a:cubicBezTo>
                <a:cubicBezTo>
                  <a:pt x="16898" y="11051"/>
                  <a:pt x="16882" y="11040"/>
                  <a:pt x="16818" y="11088"/>
                </a:cubicBezTo>
                <a:cubicBezTo>
                  <a:pt x="16755" y="11135"/>
                  <a:pt x="16722" y="11137"/>
                  <a:pt x="16644" y="11137"/>
                </a:cubicBezTo>
                <a:cubicBezTo>
                  <a:pt x="16590" y="11137"/>
                  <a:pt x="16525" y="11157"/>
                  <a:pt x="16520" y="11088"/>
                </a:cubicBezTo>
                <a:cubicBezTo>
                  <a:pt x="16515" y="11016"/>
                  <a:pt x="16538" y="10978"/>
                  <a:pt x="16570" y="10914"/>
                </a:cubicBezTo>
              </a:path>
              <a:path w="8956" h="2854">
                <a:moveTo>
                  <a:pt x="17190" y="10294"/>
                </a:moveTo>
                <a:cubicBezTo>
                  <a:pt x="17171" y="10313"/>
                  <a:pt x="17192" y="10387"/>
                  <a:pt x="17214" y="10443"/>
                </a:cubicBezTo>
                <a:cubicBezTo>
                  <a:pt x="17249" y="10531"/>
                  <a:pt x="17243" y="10624"/>
                  <a:pt x="17264" y="10716"/>
                </a:cubicBezTo>
                <a:cubicBezTo>
                  <a:pt x="17281" y="10792"/>
                  <a:pt x="17297" y="10865"/>
                  <a:pt x="17314" y="10939"/>
                </a:cubicBezTo>
                <a:cubicBezTo>
                  <a:pt x="17322" y="10974"/>
                  <a:pt x="17370" y="11055"/>
                  <a:pt x="17338" y="11038"/>
                </a:cubicBezTo>
                <a:cubicBezTo>
                  <a:pt x="17330" y="11030"/>
                  <a:pt x="17322" y="11021"/>
                  <a:pt x="17314" y="11013"/>
                </a:cubicBezTo>
              </a:path>
              <a:path w="8956" h="2854">
                <a:moveTo>
                  <a:pt x="17314" y="10046"/>
                </a:moveTo>
                <a:cubicBezTo>
                  <a:pt x="17322" y="10046"/>
                  <a:pt x="17330" y="10046"/>
                  <a:pt x="17338" y="10046"/>
                </a:cubicBezTo>
              </a:path>
              <a:path w="8956" h="2854">
                <a:moveTo>
                  <a:pt x="17611" y="10195"/>
                </a:moveTo>
                <a:cubicBezTo>
                  <a:pt x="17611" y="10262"/>
                  <a:pt x="17608" y="10301"/>
                  <a:pt x="17611" y="10368"/>
                </a:cubicBezTo>
                <a:cubicBezTo>
                  <a:pt x="17614" y="10448"/>
                  <a:pt x="17618" y="10563"/>
                  <a:pt x="17636" y="10641"/>
                </a:cubicBezTo>
                <a:cubicBezTo>
                  <a:pt x="17654" y="10721"/>
                  <a:pt x="17661" y="10778"/>
                  <a:pt x="17661" y="10864"/>
                </a:cubicBezTo>
                <a:cubicBezTo>
                  <a:pt x="17661" y="10889"/>
                  <a:pt x="17661" y="10864"/>
                  <a:pt x="17661" y="10889"/>
                </a:cubicBezTo>
                <a:cubicBezTo>
                  <a:pt x="17661" y="10728"/>
                  <a:pt x="17665" y="10574"/>
                  <a:pt x="17686" y="10418"/>
                </a:cubicBezTo>
                <a:cubicBezTo>
                  <a:pt x="17692" y="10374"/>
                  <a:pt x="17717" y="10245"/>
                  <a:pt x="17760" y="10220"/>
                </a:cubicBezTo>
                <a:cubicBezTo>
                  <a:pt x="17797" y="10198"/>
                  <a:pt x="17933" y="10114"/>
                  <a:pt x="17983" y="10120"/>
                </a:cubicBezTo>
                <a:cubicBezTo>
                  <a:pt x="18032" y="10125"/>
                  <a:pt x="18134" y="10172"/>
                  <a:pt x="18157" y="10195"/>
                </a:cubicBezTo>
                <a:cubicBezTo>
                  <a:pt x="18227" y="10264"/>
                  <a:pt x="18271" y="10325"/>
                  <a:pt x="18306" y="10418"/>
                </a:cubicBezTo>
                <a:cubicBezTo>
                  <a:pt x="18347" y="10527"/>
                  <a:pt x="18376" y="10624"/>
                  <a:pt x="18380" y="10740"/>
                </a:cubicBezTo>
                <a:cubicBezTo>
                  <a:pt x="18383" y="10830"/>
                  <a:pt x="18402" y="10900"/>
                  <a:pt x="18405" y="10988"/>
                </a:cubicBezTo>
                <a:cubicBezTo>
                  <a:pt x="18405" y="11000"/>
                  <a:pt x="18420" y="11121"/>
                  <a:pt x="18430" y="11088"/>
                </a:cubicBezTo>
                <a:cubicBezTo>
                  <a:pt x="18430" y="11055"/>
                  <a:pt x="18430" y="11038"/>
                  <a:pt x="18430" y="11013"/>
                </a:cubicBezTo>
              </a:path>
              <a:path w="8956" h="2854">
                <a:moveTo>
                  <a:pt x="18653" y="9897"/>
                </a:moveTo>
                <a:cubicBezTo>
                  <a:pt x="18661" y="9992"/>
                  <a:pt x="18660" y="10101"/>
                  <a:pt x="18678" y="10195"/>
                </a:cubicBezTo>
                <a:cubicBezTo>
                  <a:pt x="18701" y="10316"/>
                  <a:pt x="18717" y="10443"/>
                  <a:pt x="18728" y="10567"/>
                </a:cubicBezTo>
                <a:cubicBezTo>
                  <a:pt x="18737" y="10668"/>
                  <a:pt x="18766" y="10765"/>
                  <a:pt x="18777" y="10864"/>
                </a:cubicBezTo>
                <a:cubicBezTo>
                  <a:pt x="18786" y="10944"/>
                  <a:pt x="18808" y="10989"/>
                  <a:pt x="18827" y="11063"/>
                </a:cubicBezTo>
                <a:cubicBezTo>
                  <a:pt x="18840" y="11115"/>
                  <a:pt x="18852" y="11017"/>
                  <a:pt x="18852" y="10964"/>
                </a:cubicBezTo>
              </a:path>
              <a:path w="8956" h="2854">
                <a:moveTo>
                  <a:pt x="19100" y="10046"/>
                </a:moveTo>
                <a:cubicBezTo>
                  <a:pt x="19147" y="9913"/>
                  <a:pt x="19147" y="9963"/>
                  <a:pt x="19248" y="9897"/>
                </a:cubicBezTo>
                <a:cubicBezTo>
                  <a:pt x="19353" y="9828"/>
                  <a:pt x="19311" y="9843"/>
                  <a:pt x="19422" y="9897"/>
                </a:cubicBezTo>
                <a:cubicBezTo>
                  <a:pt x="19532" y="9950"/>
                  <a:pt x="19567" y="10031"/>
                  <a:pt x="19621" y="10145"/>
                </a:cubicBezTo>
                <a:cubicBezTo>
                  <a:pt x="19670" y="10247"/>
                  <a:pt x="19645" y="10380"/>
                  <a:pt x="19645" y="10492"/>
                </a:cubicBezTo>
                <a:cubicBezTo>
                  <a:pt x="19645" y="10591"/>
                  <a:pt x="19626" y="10698"/>
                  <a:pt x="19596" y="10790"/>
                </a:cubicBezTo>
                <a:cubicBezTo>
                  <a:pt x="19567" y="10879"/>
                  <a:pt x="19527" y="10966"/>
                  <a:pt x="19447" y="11013"/>
                </a:cubicBezTo>
                <a:cubicBezTo>
                  <a:pt x="19402" y="11040"/>
                  <a:pt x="19326" y="11091"/>
                  <a:pt x="19273" y="11088"/>
                </a:cubicBezTo>
                <a:cubicBezTo>
                  <a:pt x="19216" y="11084"/>
                  <a:pt x="19162" y="10994"/>
                  <a:pt x="19174" y="10939"/>
                </a:cubicBezTo>
                <a:cubicBezTo>
                  <a:pt x="19186" y="10884"/>
                  <a:pt x="19235" y="10805"/>
                  <a:pt x="19273" y="10765"/>
                </a:cubicBezTo>
                <a:cubicBezTo>
                  <a:pt x="19350" y="10684"/>
                  <a:pt x="19355" y="10649"/>
                  <a:pt x="19447" y="10592"/>
                </a:cubicBezTo>
                <a:cubicBezTo>
                  <a:pt x="19504" y="10557"/>
                  <a:pt x="19556" y="10567"/>
                  <a:pt x="19621" y="10567"/>
                </a:cubicBezTo>
                <a:cubicBezTo>
                  <a:pt x="19726" y="10567"/>
                  <a:pt x="19719" y="10646"/>
                  <a:pt x="19769" y="10716"/>
                </a:cubicBezTo>
                <a:cubicBezTo>
                  <a:pt x="19824" y="10793"/>
                  <a:pt x="19841" y="10828"/>
                  <a:pt x="19869" y="10914"/>
                </a:cubicBezTo>
                <a:cubicBezTo>
                  <a:pt x="19890" y="10978"/>
                  <a:pt x="19890" y="11057"/>
                  <a:pt x="19918" y="11112"/>
                </a:cubicBezTo>
                <a:cubicBezTo>
                  <a:pt x="19947" y="11169"/>
                  <a:pt x="19926" y="11112"/>
                  <a:pt x="19943" y="11112"/>
                </a:cubicBezTo>
              </a:path>
              <a:path w="8956" h="2854">
                <a:moveTo>
                  <a:pt x="20042" y="9897"/>
                </a:moveTo>
                <a:cubicBezTo>
                  <a:pt x="20042" y="10002"/>
                  <a:pt x="20030" y="10097"/>
                  <a:pt x="20017" y="10195"/>
                </a:cubicBezTo>
                <a:cubicBezTo>
                  <a:pt x="20008" y="10259"/>
                  <a:pt x="19973" y="10390"/>
                  <a:pt x="19968" y="10418"/>
                </a:cubicBezTo>
                <a:cubicBezTo>
                  <a:pt x="19958" y="10479"/>
                  <a:pt x="19970" y="10535"/>
                  <a:pt x="20017" y="10567"/>
                </a:cubicBezTo>
                <a:cubicBezTo>
                  <a:pt x="20092" y="10618"/>
                  <a:pt x="20255" y="10530"/>
                  <a:pt x="20290" y="10517"/>
                </a:cubicBezTo>
                <a:cubicBezTo>
                  <a:pt x="20353" y="10493"/>
                  <a:pt x="20443" y="10492"/>
                  <a:pt x="20513" y="10492"/>
                </a:cubicBezTo>
                <a:cubicBezTo>
                  <a:pt x="20588" y="10492"/>
                  <a:pt x="20662" y="10492"/>
                  <a:pt x="20737" y="10492"/>
                </a:cubicBezTo>
              </a:path>
              <a:path w="8956" h="2854">
                <a:moveTo>
                  <a:pt x="20563" y="9971"/>
                </a:moveTo>
                <a:cubicBezTo>
                  <a:pt x="20542" y="10105"/>
                  <a:pt x="20539" y="10148"/>
                  <a:pt x="20563" y="10269"/>
                </a:cubicBezTo>
                <a:cubicBezTo>
                  <a:pt x="20592" y="10418"/>
                  <a:pt x="20588" y="10564"/>
                  <a:pt x="20588" y="10716"/>
                </a:cubicBezTo>
                <a:cubicBezTo>
                  <a:pt x="20588" y="10845"/>
                  <a:pt x="20584" y="10966"/>
                  <a:pt x="20563" y="11088"/>
                </a:cubicBezTo>
                <a:cubicBezTo>
                  <a:pt x="20562" y="11093"/>
                  <a:pt x="20552" y="11246"/>
                  <a:pt x="20588" y="11162"/>
                </a:cubicBezTo>
                <a:cubicBezTo>
                  <a:pt x="20588" y="11154"/>
                  <a:pt x="20588" y="11145"/>
                  <a:pt x="20588" y="11137"/>
                </a:cubicBezTo>
              </a:path>
              <a:path w="8956" h="2854">
                <a:moveTo>
                  <a:pt x="16520" y="11485"/>
                </a:moveTo>
                <a:cubicBezTo>
                  <a:pt x="16537" y="11481"/>
                  <a:pt x="16641" y="11467"/>
                  <a:pt x="16694" y="11460"/>
                </a:cubicBezTo>
                <a:cubicBezTo>
                  <a:pt x="16786" y="11448"/>
                  <a:pt x="16895" y="11450"/>
                  <a:pt x="16991" y="11435"/>
                </a:cubicBezTo>
                <a:cubicBezTo>
                  <a:pt x="17142" y="11412"/>
                  <a:pt x="17284" y="11410"/>
                  <a:pt x="17438" y="11410"/>
                </a:cubicBezTo>
                <a:cubicBezTo>
                  <a:pt x="18100" y="11410"/>
                  <a:pt x="18761" y="11407"/>
                  <a:pt x="19422" y="11435"/>
                </a:cubicBezTo>
                <a:cubicBezTo>
                  <a:pt x="19605" y="11443"/>
                  <a:pt x="19787" y="11436"/>
                  <a:pt x="19968" y="11460"/>
                </a:cubicBezTo>
                <a:cubicBezTo>
                  <a:pt x="20097" y="11477"/>
                  <a:pt x="20239" y="11482"/>
                  <a:pt x="20365" y="11509"/>
                </a:cubicBezTo>
                <a:cubicBezTo>
                  <a:pt x="20425" y="11522"/>
                  <a:pt x="20513" y="11535"/>
                  <a:pt x="20563" y="11559"/>
                </a:cubicBezTo>
                <a:cubicBezTo>
                  <a:pt x="20571" y="11567"/>
                  <a:pt x="20580" y="11576"/>
                  <a:pt x="20588" y="11584"/>
                </a:cubicBezTo>
              </a:path>
              <a:path w="8956" h="2854">
                <a:moveTo>
                  <a:pt x="18331" y="11733"/>
                </a:moveTo>
                <a:cubicBezTo>
                  <a:pt x="18344" y="11718"/>
                  <a:pt x="18382" y="11781"/>
                  <a:pt x="18405" y="11832"/>
                </a:cubicBezTo>
                <a:cubicBezTo>
                  <a:pt x="18444" y="11919"/>
                  <a:pt x="18494" y="11989"/>
                  <a:pt x="18529" y="12080"/>
                </a:cubicBezTo>
                <a:cubicBezTo>
                  <a:pt x="18569" y="12186"/>
                  <a:pt x="18624" y="12280"/>
                  <a:pt x="18678" y="12378"/>
                </a:cubicBezTo>
                <a:cubicBezTo>
                  <a:pt x="18720" y="12455"/>
                  <a:pt x="18781" y="12515"/>
                  <a:pt x="18827" y="12576"/>
                </a:cubicBezTo>
                <a:cubicBezTo>
                  <a:pt x="18846" y="12601"/>
                  <a:pt x="18938" y="12718"/>
                  <a:pt x="18951" y="12700"/>
                </a:cubicBezTo>
                <a:cubicBezTo>
                  <a:pt x="18951" y="12665"/>
                  <a:pt x="18946" y="12648"/>
                  <a:pt x="18926" y="12626"/>
                </a:cubicBezTo>
              </a:path>
              <a:path w="8956" h="2854">
                <a:moveTo>
                  <a:pt x="18876" y="11658"/>
                </a:moveTo>
                <a:cubicBezTo>
                  <a:pt x="18866" y="11709"/>
                  <a:pt x="18836" y="11766"/>
                  <a:pt x="18802" y="11807"/>
                </a:cubicBezTo>
                <a:cubicBezTo>
                  <a:pt x="18731" y="11893"/>
                  <a:pt x="18657" y="11956"/>
                  <a:pt x="18579" y="12030"/>
                </a:cubicBezTo>
                <a:cubicBezTo>
                  <a:pt x="18505" y="12100"/>
                  <a:pt x="18432" y="12163"/>
                  <a:pt x="18355" y="12229"/>
                </a:cubicBezTo>
                <a:cubicBezTo>
                  <a:pt x="18292" y="12283"/>
                  <a:pt x="18272" y="12314"/>
                  <a:pt x="18207" y="12353"/>
                </a:cubicBezTo>
                <a:cubicBezTo>
                  <a:pt x="18166" y="12378"/>
                  <a:pt x="18158" y="12378"/>
                  <a:pt x="18107" y="123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87880" y="3537000"/>
            <a:ext cx="1312920" cy="490320"/>
          </a:xfrm>
          <a:custGeom>
            <a:avLst/>
            <a:gdLst/>
            <a:ahLst/>
            <a:rect l="l" t="t" r="r" b="b"/>
            <a:pathLst>
              <a:path w="3648" h="1365">
                <a:moveTo>
                  <a:pt x="12154" y="10145"/>
                </a:moveTo>
                <a:cubicBezTo>
                  <a:pt x="12187" y="10090"/>
                  <a:pt x="12189" y="10056"/>
                  <a:pt x="12154" y="9996"/>
                </a:cubicBezTo>
                <a:cubicBezTo>
                  <a:pt x="12131" y="9956"/>
                  <a:pt x="12100" y="9935"/>
                  <a:pt x="12055" y="9922"/>
                </a:cubicBezTo>
                <a:cubicBezTo>
                  <a:pt x="11976" y="9899"/>
                  <a:pt x="11921" y="9938"/>
                  <a:pt x="11857" y="9971"/>
                </a:cubicBezTo>
                <a:cubicBezTo>
                  <a:pt x="11814" y="9994"/>
                  <a:pt x="11734" y="10038"/>
                  <a:pt x="11708" y="10071"/>
                </a:cubicBezTo>
                <a:cubicBezTo>
                  <a:pt x="11654" y="10141"/>
                  <a:pt x="11708" y="10211"/>
                  <a:pt x="11757" y="10269"/>
                </a:cubicBezTo>
                <a:cubicBezTo>
                  <a:pt x="11798" y="10318"/>
                  <a:pt x="11875" y="10394"/>
                  <a:pt x="11931" y="10443"/>
                </a:cubicBezTo>
                <a:cubicBezTo>
                  <a:pt x="12002" y="10506"/>
                  <a:pt x="12069" y="10603"/>
                  <a:pt x="12105" y="10691"/>
                </a:cubicBezTo>
                <a:cubicBezTo>
                  <a:pt x="12135" y="10764"/>
                  <a:pt x="12192" y="10844"/>
                  <a:pt x="12154" y="10914"/>
                </a:cubicBezTo>
                <a:cubicBezTo>
                  <a:pt x="12114" y="10987"/>
                  <a:pt x="12078" y="11016"/>
                  <a:pt x="12005" y="11038"/>
                </a:cubicBezTo>
                <a:cubicBezTo>
                  <a:pt x="11933" y="11060"/>
                  <a:pt x="11834" y="11083"/>
                  <a:pt x="11757" y="11063"/>
                </a:cubicBezTo>
                <a:cubicBezTo>
                  <a:pt x="11693" y="11046"/>
                  <a:pt x="11608" y="10994"/>
                  <a:pt x="11633" y="10914"/>
                </a:cubicBezTo>
                <a:cubicBezTo>
                  <a:pt x="11676" y="10871"/>
                  <a:pt x="11695" y="10840"/>
                  <a:pt x="11708" y="10790"/>
                </a:cubicBezTo>
              </a:path>
              <a:path w="3648" h="1365">
                <a:moveTo>
                  <a:pt x="12502" y="10145"/>
                </a:moveTo>
                <a:cubicBezTo>
                  <a:pt x="12512" y="10240"/>
                  <a:pt x="12545" y="10326"/>
                  <a:pt x="12576" y="10418"/>
                </a:cubicBezTo>
                <a:cubicBezTo>
                  <a:pt x="12608" y="10513"/>
                  <a:pt x="12603" y="10600"/>
                  <a:pt x="12626" y="10691"/>
                </a:cubicBezTo>
                <a:cubicBezTo>
                  <a:pt x="12642" y="10752"/>
                  <a:pt x="12668" y="10821"/>
                  <a:pt x="12650" y="10889"/>
                </a:cubicBezTo>
                <a:cubicBezTo>
                  <a:pt x="12636" y="10942"/>
                  <a:pt x="12626" y="10959"/>
                  <a:pt x="12626" y="11013"/>
                </a:cubicBezTo>
                <a:cubicBezTo>
                  <a:pt x="12596" y="10963"/>
                  <a:pt x="12601" y="10926"/>
                  <a:pt x="12601" y="10864"/>
                </a:cubicBezTo>
              </a:path>
              <a:path w="3648" h="1365">
                <a:moveTo>
                  <a:pt x="12626" y="9971"/>
                </a:moveTo>
                <a:cubicBezTo>
                  <a:pt x="12634" y="9971"/>
                  <a:pt x="12642" y="9971"/>
                  <a:pt x="12650" y="9971"/>
                </a:cubicBezTo>
              </a:path>
              <a:path w="3648" h="1365">
                <a:moveTo>
                  <a:pt x="12849" y="10145"/>
                </a:moveTo>
                <a:cubicBezTo>
                  <a:pt x="12858" y="10222"/>
                  <a:pt x="12887" y="10292"/>
                  <a:pt x="12898" y="10368"/>
                </a:cubicBezTo>
                <a:cubicBezTo>
                  <a:pt x="12911" y="10459"/>
                  <a:pt x="12937" y="10554"/>
                  <a:pt x="12948" y="10641"/>
                </a:cubicBezTo>
                <a:cubicBezTo>
                  <a:pt x="12955" y="10699"/>
                  <a:pt x="12952" y="10786"/>
                  <a:pt x="12973" y="10840"/>
                </a:cubicBezTo>
                <a:cubicBezTo>
                  <a:pt x="12981" y="10848"/>
                  <a:pt x="12990" y="10856"/>
                  <a:pt x="12998" y="10864"/>
                </a:cubicBezTo>
                <a:cubicBezTo>
                  <a:pt x="12998" y="10785"/>
                  <a:pt x="13013" y="10715"/>
                  <a:pt x="13022" y="10641"/>
                </a:cubicBezTo>
                <a:cubicBezTo>
                  <a:pt x="13033" y="10551"/>
                  <a:pt x="13036" y="10454"/>
                  <a:pt x="13047" y="10368"/>
                </a:cubicBezTo>
                <a:cubicBezTo>
                  <a:pt x="13058" y="10283"/>
                  <a:pt x="13075" y="10251"/>
                  <a:pt x="13122" y="10195"/>
                </a:cubicBezTo>
                <a:cubicBezTo>
                  <a:pt x="13168" y="10140"/>
                  <a:pt x="13261" y="10078"/>
                  <a:pt x="13320" y="10071"/>
                </a:cubicBezTo>
                <a:cubicBezTo>
                  <a:pt x="13406" y="10061"/>
                  <a:pt x="13432" y="10151"/>
                  <a:pt x="13494" y="10195"/>
                </a:cubicBezTo>
                <a:cubicBezTo>
                  <a:pt x="13579" y="10256"/>
                  <a:pt x="13639" y="10338"/>
                  <a:pt x="13667" y="10443"/>
                </a:cubicBezTo>
                <a:cubicBezTo>
                  <a:pt x="13695" y="10549"/>
                  <a:pt x="13716" y="10661"/>
                  <a:pt x="13742" y="10765"/>
                </a:cubicBezTo>
                <a:cubicBezTo>
                  <a:pt x="13761" y="10840"/>
                  <a:pt x="13777" y="10914"/>
                  <a:pt x="13791" y="10988"/>
                </a:cubicBezTo>
                <a:cubicBezTo>
                  <a:pt x="13791" y="10980"/>
                  <a:pt x="13791" y="10972"/>
                  <a:pt x="13791" y="10964"/>
                </a:cubicBezTo>
              </a:path>
              <a:path w="3648" h="1365">
                <a:moveTo>
                  <a:pt x="13965" y="10120"/>
                </a:moveTo>
                <a:cubicBezTo>
                  <a:pt x="13955" y="10077"/>
                  <a:pt x="13939" y="10072"/>
                  <a:pt x="13965" y="9996"/>
                </a:cubicBezTo>
                <a:cubicBezTo>
                  <a:pt x="13982" y="9945"/>
                  <a:pt x="14005" y="9893"/>
                  <a:pt x="14039" y="9847"/>
                </a:cubicBezTo>
                <a:cubicBezTo>
                  <a:pt x="14076" y="9798"/>
                  <a:pt x="14181" y="9823"/>
                  <a:pt x="14238" y="9823"/>
                </a:cubicBezTo>
                <a:cubicBezTo>
                  <a:pt x="14344" y="9823"/>
                  <a:pt x="14380" y="9889"/>
                  <a:pt x="14436" y="9971"/>
                </a:cubicBezTo>
                <a:cubicBezTo>
                  <a:pt x="14496" y="10059"/>
                  <a:pt x="14526" y="10118"/>
                  <a:pt x="14560" y="10220"/>
                </a:cubicBezTo>
                <a:cubicBezTo>
                  <a:pt x="14599" y="10338"/>
                  <a:pt x="14594" y="10450"/>
                  <a:pt x="14560" y="10567"/>
                </a:cubicBezTo>
                <a:cubicBezTo>
                  <a:pt x="14533" y="10658"/>
                  <a:pt x="14514" y="10784"/>
                  <a:pt x="14461" y="10864"/>
                </a:cubicBezTo>
                <a:cubicBezTo>
                  <a:pt x="14431" y="10909"/>
                  <a:pt x="14293" y="11001"/>
                  <a:pt x="14238" y="11013"/>
                </a:cubicBezTo>
                <a:cubicBezTo>
                  <a:pt x="14175" y="11027"/>
                  <a:pt x="14070" y="11021"/>
                  <a:pt x="14015" y="10988"/>
                </a:cubicBezTo>
                <a:cubicBezTo>
                  <a:pt x="13938" y="10942"/>
                  <a:pt x="13939" y="10864"/>
                  <a:pt x="13965" y="10790"/>
                </a:cubicBezTo>
                <a:cubicBezTo>
                  <a:pt x="13999" y="10694"/>
                  <a:pt x="14114" y="10591"/>
                  <a:pt x="14213" y="10567"/>
                </a:cubicBezTo>
                <a:cubicBezTo>
                  <a:pt x="14298" y="10547"/>
                  <a:pt x="14461" y="10551"/>
                  <a:pt x="14536" y="10592"/>
                </a:cubicBezTo>
                <a:cubicBezTo>
                  <a:pt x="14651" y="10654"/>
                  <a:pt x="14646" y="10717"/>
                  <a:pt x="14709" y="10815"/>
                </a:cubicBezTo>
                <a:cubicBezTo>
                  <a:pt x="14744" y="10869"/>
                  <a:pt x="14773" y="10923"/>
                  <a:pt x="14784" y="10988"/>
                </a:cubicBezTo>
                <a:cubicBezTo>
                  <a:pt x="14792" y="11033"/>
                  <a:pt x="14794" y="11050"/>
                  <a:pt x="14808" y="11088"/>
                </a:cubicBezTo>
              </a:path>
              <a:path w="3648" h="1365">
                <a:moveTo>
                  <a:pt x="15280" y="10344"/>
                </a:moveTo>
                <a:cubicBezTo>
                  <a:pt x="15280" y="10261"/>
                  <a:pt x="15269" y="10188"/>
                  <a:pt x="15255" y="10120"/>
                </a:cubicBezTo>
                <a:cubicBezTo>
                  <a:pt x="15240" y="10048"/>
                  <a:pt x="15213" y="10028"/>
                  <a:pt x="15156" y="9971"/>
                </a:cubicBezTo>
                <a:cubicBezTo>
                  <a:pt x="15098" y="9914"/>
                  <a:pt x="15035" y="9869"/>
                  <a:pt x="14957" y="9847"/>
                </a:cubicBezTo>
                <a:cubicBezTo>
                  <a:pt x="14862" y="9820"/>
                  <a:pt x="14813" y="9874"/>
                  <a:pt x="14734" y="9897"/>
                </a:cubicBezTo>
                <a:cubicBezTo>
                  <a:pt x="14636" y="9925"/>
                  <a:pt x="14642" y="9889"/>
                  <a:pt x="14560" y="9971"/>
                </a:cubicBezTo>
                <a:cubicBezTo>
                  <a:pt x="14532" y="9999"/>
                  <a:pt x="14522" y="10079"/>
                  <a:pt x="14536" y="10120"/>
                </a:cubicBezTo>
                <a:cubicBezTo>
                  <a:pt x="14565" y="10205"/>
                  <a:pt x="14668" y="10356"/>
                  <a:pt x="14734" y="10418"/>
                </a:cubicBezTo>
                <a:cubicBezTo>
                  <a:pt x="14798" y="10478"/>
                  <a:pt x="14889" y="10558"/>
                  <a:pt x="14932" y="10641"/>
                </a:cubicBezTo>
                <a:cubicBezTo>
                  <a:pt x="15016" y="10803"/>
                  <a:pt x="15056" y="10876"/>
                  <a:pt x="15056" y="11038"/>
                </a:cubicBezTo>
                <a:cubicBezTo>
                  <a:pt x="15056" y="11121"/>
                  <a:pt x="15016" y="11117"/>
                  <a:pt x="14957" y="11162"/>
                </a:cubicBezTo>
                <a:cubicBezTo>
                  <a:pt x="14887" y="11215"/>
                  <a:pt x="14877" y="11145"/>
                  <a:pt x="14833" y="11112"/>
                </a:cubicBezTo>
                <a:cubicBezTo>
                  <a:pt x="14780" y="11073"/>
                  <a:pt x="14745" y="10995"/>
                  <a:pt x="14759" y="10914"/>
                </a:cubicBezTo>
                <a:cubicBezTo>
                  <a:pt x="14780" y="10788"/>
                  <a:pt x="14860" y="10596"/>
                  <a:pt x="14932" y="10492"/>
                </a:cubicBezTo>
                <a:cubicBezTo>
                  <a:pt x="14987" y="10413"/>
                  <a:pt x="15074" y="10349"/>
                  <a:pt x="15131" y="10269"/>
                </a:cubicBezTo>
                <a:cubicBezTo>
                  <a:pt x="15147" y="10244"/>
                  <a:pt x="15164" y="10220"/>
                  <a:pt x="15180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7200" y="3643200"/>
            <a:ext cx="6224760" cy="1805040"/>
          </a:xfrm>
          <a:custGeom>
            <a:avLst/>
            <a:gdLst/>
            <a:ahLst/>
            <a:rect l="l" t="t" r="r" b="b"/>
            <a:pathLst>
              <a:path w="17290" h="5012">
                <a:moveTo>
                  <a:pt x="3770" y="10195"/>
                </a:moveTo>
                <a:cubicBezTo>
                  <a:pt x="3738" y="10219"/>
                  <a:pt x="3710" y="10236"/>
                  <a:pt x="3671" y="10269"/>
                </a:cubicBezTo>
                <a:cubicBezTo>
                  <a:pt x="3647" y="10290"/>
                  <a:pt x="3605" y="10314"/>
                  <a:pt x="3572" y="10344"/>
                </a:cubicBezTo>
                <a:cubicBezTo>
                  <a:pt x="3529" y="10382"/>
                  <a:pt x="3446" y="10404"/>
                  <a:pt x="3398" y="10443"/>
                </a:cubicBezTo>
                <a:cubicBezTo>
                  <a:pt x="3335" y="10494"/>
                  <a:pt x="3304" y="10576"/>
                  <a:pt x="3249" y="10641"/>
                </a:cubicBezTo>
                <a:cubicBezTo>
                  <a:pt x="3127" y="10786"/>
                  <a:pt x="2981" y="10925"/>
                  <a:pt x="2853" y="11063"/>
                </a:cubicBezTo>
                <a:cubicBezTo>
                  <a:pt x="2648" y="11283"/>
                  <a:pt x="2436" y="11522"/>
                  <a:pt x="2232" y="11733"/>
                </a:cubicBezTo>
                <a:cubicBezTo>
                  <a:pt x="2132" y="11836"/>
                  <a:pt x="1996" y="11941"/>
                  <a:pt x="1910" y="12055"/>
                </a:cubicBezTo>
                <a:cubicBezTo>
                  <a:pt x="1784" y="12223"/>
                  <a:pt x="1656" y="12397"/>
                  <a:pt x="1513" y="12551"/>
                </a:cubicBezTo>
                <a:cubicBezTo>
                  <a:pt x="1432" y="12639"/>
                  <a:pt x="1344" y="12712"/>
                  <a:pt x="1265" y="12799"/>
                </a:cubicBezTo>
                <a:cubicBezTo>
                  <a:pt x="1204" y="12866"/>
                  <a:pt x="1150" y="12937"/>
                  <a:pt x="1091" y="12998"/>
                </a:cubicBezTo>
                <a:cubicBezTo>
                  <a:pt x="1053" y="13037"/>
                  <a:pt x="1023" y="13083"/>
                  <a:pt x="992" y="13122"/>
                </a:cubicBezTo>
                <a:cubicBezTo>
                  <a:pt x="961" y="13161"/>
                  <a:pt x="897" y="13246"/>
                  <a:pt x="868" y="13271"/>
                </a:cubicBezTo>
                <a:cubicBezTo>
                  <a:pt x="860" y="13271"/>
                  <a:pt x="851" y="13271"/>
                  <a:pt x="843" y="13271"/>
                </a:cubicBezTo>
              </a:path>
              <a:path w="17290" h="5012">
                <a:moveTo>
                  <a:pt x="3944" y="10120"/>
                </a:moveTo>
                <a:cubicBezTo>
                  <a:pt x="3965" y="10139"/>
                  <a:pt x="3985" y="10168"/>
                  <a:pt x="4018" y="10195"/>
                </a:cubicBezTo>
                <a:cubicBezTo>
                  <a:pt x="4031" y="10206"/>
                  <a:pt x="4102" y="10258"/>
                  <a:pt x="4118" y="10269"/>
                </a:cubicBezTo>
                <a:cubicBezTo>
                  <a:pt x="4161" y="10298"/>
                  <a:pt x="4188" y="10296"/>
                  <a:pt x="4242" y="10344"/>
                </a:cubicBezTo>
                <a:cubicBezTo>
                  <a:pt x="4349" y="10439"/>
                  <a:pt x="4448" y="10533"/>
                  <a:pt x="4539" y="10641"/>
                </a:cubicBezTo>
                <a:cubicBezTo>
                  <a:pt x="4652" y="10775"/>
                  <a:pt x="4767" y="10910"/>
                  <a:pt x="4887" y="11038"/>
                </a:cubicBezTo>
                <a:cubicBezTo>
                  <a:pt x="5013" y="11171"/>
                  <a:pt x="5139" y="11298"/>
                  <a:pt x="5259" y="11435"/>
                </a:cubicBezTo>
                <a:cubicBezTo>
                  <a:pt x="5359" y="11549"/>
                  <a:pt x="5454" y="11670"/>
                  <a:pt x="5556" y="11782"/>
                </a:cubicBezTo>
                <a:cubicBezTo>
                  <a:pt x="5668" y="11904"/>
                  <a:pt x="5801" y="12024"/>
                  <a:pt x="5904" y="12154"/>
                </a:cubicBezTo>
                <a:cubicBezTo>
                  <a:pt x="6000" y="12274"/>
                  <a:pt x="6086" y="12405"/>
                  <a:pt x="6176" y="12526"/>
                </a:cubicBezTo>
                <a:cubicBezTo>
                  <a:pt x="6271" y="12654"/>
                  <a:pt x="6382" y="12768"/>
                  <a:pt x="6474" y="12898"/>
                </a:cubicBezTo>
                <a:cubicBezTo>
                  <a:pt x="6565" y="13027"/>
                  <a:pt x="6652" y="13145"/>
                  <a:pt x="6747" y="13271"/>
                </a:cubicBezTo>
                <a:cubicBezTo>
                  <a:pt x="6828" y="13379"/>
                  <a:pt x="6908" y="13487"/>
                  <a:pt x="6995" y="13593"/>
                </a:cubicBezTo>
                <a:cubicBezTo>
                  <a:pt x="7073" y="13688"/>
                  <a:pt x="7135" y="13794"/>
                  <a:pt x="7218" y="13891"/>
                </a:cubicBezTo>
                <a:cubicBezTo>
                  <a:pt x="7296" y="13982"/>
                  <a:pt x="7404" y="14073"/>
                  <a:pt x="7491" y="14163"/>
                </a:cubicBezTo>
                <a:cubicBezTo>
                  <a:pt x="7562" y="14236"/>
                  <a:pt x="7649" y="14283"/>
                  <a:pt x="7714" y="14362"/>
                </a:cubicBezTo>
                <a:cubicBezTo>
                  <a:pt x="7750" y="14405"/>
                  <a:pt x="7775" y="14473"/>
                  <a:pt x="7813" y="14511"/>
                </a:cubicBezTo>
                <a:cubicBezTo>
                  <a:pt x="7840" y="14537"/>
                  <a:pt x="7888" y="14577"/>
                  <a:pt x="7913" y="14610"/>
                </a:cubicBezTo>
                <a:cubicBezTo>
                  <a:pt x="7932" y="14635"/>
                  <a:pt x="7982" y="14675"/>
                  <a:pt x="7987" y="14684"/>
                </a:cubicBezTo>
                <a:cubicBezTo>
                  <a:pt x="8010" y="14727"/>
                  <a:pt x="7962" y="14635"/>
                  <a:pt x="7962" y="14684"/>
                </a:cubicBezTo>
              </a:path>
              <a:path w="17290" h="5012">
                <a:moveTo>
                  <a:pt x="1116" y="13196"/>
                </a:moveTo>
                <a:cubicBezTo>
                  <a:pt x="1088" y="13214"/>
                  <a:pt x="1066" y="13198"/>
                  <a:pt x="1042" y="13221"/>
                </a:cubicBezTo>
                <a:cubicBezTo>
                  <a:pt x="1002" y="13259"/>
                  <a:pt x="1002" y="13252"/>
                  <a:pt x="967" y="13295"/>
                </a:cubicBezTo>
                <a:cubicBezTo>
                  <a:pt x="947" y="13319"/>
                  <a:pt x="942" y="13366"/>
                  <a:pt x="918" y="13395"/>
                </a:cubicBezTo>
                <a:cubicBezTo>
                  <a:pt x="884" y="13437"/>
                  <a:pt x="852" y="13477"/>
                  <a:pt x="819" y="13519"/>
                </a:cubicBezTo>
                <a:cubicBezTo>
                  <a:pt x="762" y="13592"/>
                  <a:pt x="698" y="13667"/>
                  <a:pt x="645" y="13742"/>
                </a:cubicBezTo>
                <a:cubicBezTo>
                  <a:pt x="609" y="13794"/>
                  <a:pt x="577" y="13840"/>
                  <a:pt x="546" y="13891"/>
                </a:cubicBezTo>
                <a:cubicBezTo>
                  <a:pt x="530" y="13918"/>
                  <a:pt x="537" y="13913"/>
                  <a:pt x="521" y="13940"/>
                </a:cubicBezTo>
                <a:cubicBezTo>
                  <a:pt x="541" y="13951"/>
                  <a:pt x="539" y="13977"/>
                  <a:pt x="571" y="13990"/>
                </a:cubicBezTo>
                <a:cubicBezTo>
                  <a:pt x="603" y="14003"/>
                  <a:pt x="637" y="14003"/>
                  <a:pt x="670" y="14015"/>
                </a:cubicBezTo>
                <a:cubicBezTo>
                  <a:pt x="706" y="14028"/>
                  <a:pt x="730" y="14031"/>
                  <a:pt x="769" y="14039"/>
                </a:cubicBezTo>
                <a:cubicBezTo>
                  <a:pt x="806" y="14047"/>
                  <a:pt x="828" y="14057"/>
                  <a:pt x="868" y="14064"/>
                </a:cubicBezTo>
                <a:cubicBezTo>
                  <a:pt x="918" y="14073"/>
                  <a:pt x="943" y="14081"/>
                  <a:pt x="992" y="14089"/>
                </a:cubicBezTo>
                <a:cubicBezTo>
                  <a:pt x="1054" y="14099"/>
                  <a:pt x="1100" y="14104"/>
                  <a:pt x="1166" y="14114"/>
                </a:cubicBezTo>
                <a:cubicBezTo>
                  <a:pt x="1226" y="14123"/>
                  <a:pt x="1280" y="14130"/>
                  <a:pt x="1339" y="14139"/>
                </a:cubicBezTo>
                <a:cubicBezTo>
                  <a:pt x="1415" y="14150"/>
                  <a:pt x="1489" y="14154"/>
                  <a:pt x="1563" y="14163"/>
                </a:cubicBezTo>
                <a:cubicBezTo>
                  <a:pt x="1661" y="14176"/>
                  <a:pt x="1762" y="14174"/>
                  <a:pt x="1860" y="14188"/>
                </a:cubicBezTo>
                <a:cubicBezTo>
                  <a:pt x="1969" y="14203"/>
                  <a:pt x="2076" y="14221"/>
                  <a:pt x="2183" y="14238"/>
                </a:cubicBezTo>
                <a:cubicBezTo>
                  <a:pt x="2250" y="14249"/>
                  <a:pt x="2313" y="14253"/>
                  <a:pt x="2381" y="14263"/>
                </a:cubicBezTo>
                <a:cubicBezTo>
                  <a:pt x="2454" y="14274"/>
                  <a:pt x="2526" y="14281"/>
                  <a:pt x="2604" y="14288"/>
                </a:cubicBezTo>
                <a:cubicBezTo>
                  <a:pt x="2676" y="14295"/>
                  <a:pt x="2749" y="14311"/>
                  <a:pt x="2828" y="14312"/>
                </a:cubicBezTo>
                <a:cubicBezTo>
                  <a:pt x="2933" y="14314"/>
                  <a:pt x="3026" y="14332"/>
                  <a:pt x="3125" y="14337"/>
                </a:cubicBezTo>
                <a:cubicBezTo>
                  <a:pt x="3898" y="14377"/>
                  <a:pt x="4687" y="14362"/>
                  <a:pt x="5457" y="14362"/>
                </a:cubicBezTo>
                <a:cubicBezTo>
                  <a:pt x="5779" y="14362"/>
                  <a:pt x="6105" y="14352"/>
                  <a:pt x="6424" y="14387"/>
                </a:cubicBezTo>
                <a:cubicBezTo>
                  <a:pt x="6563" y="14402"/>
                  <a:pt x="6706" y="14418"/>
                  <a:pt x="6846" y="14436"/>
                </a:cubicBezTo>
                <a:cubicBezTo>
                  <a:pt x="6961" y="14451"/>
                  <a:pt x="7078" y="14469"/>
                  <a:pt x="7193" y="14486"/>
                </a:cubicBezTo>
                <a:cubicBezTo>
                  <a:pt x="7311" y="14503"/>
                  <a:pt x="7423" y="14536"/>
                  <a:pt x="7541" y="14560"/>
                </a:cubicBezTo>
                <a:cubicBezTo>
                  <a:pt x="7662" y="14585"/>
                  <a:pt x="7789" y="14611"/>
                  <a:pt x="7913" y="14635"/>
                </a:cubicBezTo>
                <a:cubicBezTo>
                  <a:pt x="7995" y="14651"/>
                  <a:pt x="8077" y="14654"/>
                  <a:pt x="8161" y="14660"/>
                </a:cubicBezTo>
                <a:cubicBezTo>
                  <a:pt x="8271" y="14668"/>
                  <a:pt x="8325" y="14699"/>
                  <a:pt x="8434" y="14684"/>
                </a:cubicBezTo>
                <a:cubicBezTo>
                  <a:pt x="8426" y="14676"/>
                  <a:pt x="8417" y="14668"/>
                  <a:pt x="8409" y="14660"/>
                </a:cubicBezTo>
              </a:path>
              <a:path w="17290" h="5012">
                <a:moveTo>
                  <a:pt x="11410" y="15032"/>
                </a:moveTo>
                <a:cubicBezTo>
                  <a:pt x="11471" y="15020"/>
                  <a:pt x="11520" y="15015"/>
                  <a:pt x="11584" y="15007"/>
                </a:cubicBezTo>
                <a:cubicBezTo>
                  <a:pt x="11733" y="14988"/>
                  <a:pt x="11846" y="14960"/>
                  <a:pt x="12005" y="14957"/>
                </a:cubicBezTo>
                <a:cubicBezTo>
                  <a:pt x="12172" y="14954"/>
                  <a:pt x="12335" y="14918"/>
                  <a:pt x="12502" y="14908"/>
                </a:cubicBezTo>
                <a:cubicBezTo>
                  <a:pt x="12708" y="14896"/>
                  <a:pt x="12916" y="14887"/>
                  <a:pt x="13122" y="14883"/>
                </a:cubicBezTo>
                <a:cubicBezTo>
                  <a:pt x="13652" y="14874"/>
                  <a:pt x="14182" y="14885"/>
                  <a:pt x="14709" y="14908"/>
                </a:cubicBezTo>
                <a:cubicBezTo>
                  <a:pt x="15280" y="14933"/>
                  <a:pt x="15850" y="14925"/>
                  <a:pt x="16421" y="14957"/>
                </a:cubicBezTo>
                <a:cubicBezTo>
                  <a:pt x="16645" y="14970"/>
                  <a:pt x="16869" y="14971"/>
                  <a:pt x="17090" y="15007"/>
                </a:cubicBezTo>
                <a:cubicBezTo>
                  <a:pt x="17307" y="15042"/>
                  <a:pt x="17518" y="15057"/>
                  <a:pt x="17735" y="15106"/>
                </a:cubicBezTo>
                <a:cubicBezTo>
                  <a:pt x="17776" y="15126"/>
                  <a:pt x="17782" y="15135"/>
                  <a:pt x="17810" y="151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52960" y="4813200"/>
            <a:ext cx="4241880" cy="1197000"/>
          </a:xfrm>
          <a:custGeom>
            <a:avLst/>
            <a:gdLst/>
            <a:ahLst/>
            <a:rect l="l" t="t" r="r" b="b"/>
            <a:pathLst>
              <a:path w="11783" h="3325">
                <a:moveTo>
                  <a:pt x="12229" y="13742"/>
                </a:moveTo>
                <a:cubicBezTo>
                  <a:pt x="12247" y="13695"/>
                  <a:pt x="12269" y="13647"/>
                  <a:pt x="12254" y="13593"/>
                </a:cubicBezTo>
                <a:cubicBezTo>
                  <a:pt x="12233" y="13518"/>
                  <a:pt x="12211" y="13491"/>
                  <a:pt x="12154" y="13444"/>
                </a:cubicBezTo>
                <a:cubicBezTo>
                  <a:pt x="12100" y="13399"/>
                  <a:pt x="12051" y="13373"/>
                  <a:pt x="11981" y="13370"/>
                </a:cubicBezTo>
                <a:cubicBezTo>
                  <a:pt x="11897" y="13366"/>
                  <a:pt x="11813" y="13376"/>
                  <a:pt x="11733" y="13395"/>
                </a:cubicBezTo>
                <a:cubicBezTo>
                  <a:pt x="11643" y="13417"/>
                  <a:pt x="11613" y="13455"/>
                  <a:pt x="11559" y="13519"/>
                </a:cubicBezTo>
                <a:cubicBezTo>
                  <a:pt x="11514" y="13572"/>
                  <a:pt x="11534" y="13609"/>
                  <a:pt x="11559" y="13667"/>
                </a:cubicBezTo>
                <a:cubicBezTo>
                  <a:pt x="11587" y="13732"/>
                  <a:pt x="11653" y="13821"/>
                  <a:pt x="11708" y="13866"/>
                </a:cubicBezTo>
                <a:cubicBezTo>
                  <a:pt x="11800" y="13941"/>
                  <a:pt x="11853" y="14024"/>
                  <a:pt x="11931" y="14114"/>
                </a:cubicBezTo>
                <a:cubicBezTo>
                  <a:pt x="12003" y="14197"/>
                  <a:pt x="12037" y="14262"/>
                  <a:pt x="12080" y="14362"/>
                </a:cubicBezTo>
                <a:cubicBezTo>
                  <a:pt x="12115" y="14442"/>
                  <a:pt x="12123" y="14529"/>
                  <a:pt x="12080" y="14610"/>
                </a:cubicBezTo>
                <a:cubicBezTo>
                  <a:pt x="12065" y="14638"/>
                  <a:pt x="11986" y="14670"/>
                  <a:pt x="11956" y="14660"/>
                </a:cubicBezTo>
                <a:cubicBezTo>
                  <a:pt x="11884" y="14636"/>
                  <a:pt x="11877" y="14592"/>
                  <a:pt x="11857" y="14536"/>
                </a:cubicBezTo>
                <a:cubicBezTo>
                  <a:pt x="11827" y="14452"/>
                  <a:pt x="11838" y="14377"/>
                  <a:pt x="11857" y="14288"/>
                </a:cubicBezTo>
                <a:cubicBezTo>
                  <a:pt x="11883" y="14167"/>
                  <a:pt x="12014" y="13984"/>
                  <a:pt x="12080" y="13891"/>
                </a:cubicBezTo>
                <a:cubicBezTo>
                  <a:pt x="12096" y="13874"/>
                  <a:pt x="12113" y="13858"/>
                  <a:pt x="12129" y="13841"/>
                </a:cubicBezTo>
              </a:path>
              <a:path w="11783" h="3325">
                <a:moveTo>
                  <a:pt x="12402" y="13469"/>
                </a:moveTo>
                <a:cubicBezTo>
                  <a:pt x="12389" y="13496"/>
                  <a:pt x="12390" y="13513"/>
                  <a:pt x="12378" y="13568"/>
                </a:cubicBezTo>
                <a:cubicBezTo>
                  <a:pt x="12353" y="13682"/>
                  <a:pt x="12332" y="13798"/>
                  <a:pt x="12328" y="13915"/>
                </a:cubicBezTo>
                <a:cubicBezTo>
                  <a:pt x="12325" y="14005"/>
                  <a:pt x="12334" y="14102"/>
                  <a:pt x="12353" y="14188"/>
                </a:cubicBezTo>
                <a:cubicBezTo>
                  <a:pt x="12369" y="14259"/>
                  <a:pt x="12409" y="14378"/>
                  <a:pt x="12452" y="14436"/>
                </a:cubicBezTo>
                <a:cubicBezTo>
                  <a:pt x="12498" y="14498"/>
                  <a:pt x="12568" y="14517"/>
                  <a:pt x="12626" y="14560"/>
                </a:cubicBezTo>
                <a:cubicBezTo>
                  <a:pt x="12672" y="14595"/>
                  <a:pt x="12746" y="14584"/>
                  <a:pt x="12799" y="14560"/>
                </a:cubicBezTo>
                <a:cubicBezTo>
                  <a:pt x="12869" y="14529"/>
                  <a:pt x="12958" y="14412"/>
                  <a:pt x="12973" y="14337"/>
                </a:cubicBezTo>
                <a:cubicBezTo>
                  <a:pt x="12993" y="14234"/>
                  <a:pt x="13011" y="14119"/>
                  <a:pt x="13022" y="14015"/>
                </a:cubicBezTo>
                <a:cubicBezTo>
                  <a:pt x="13032" y="13922"/>
                  <a:pt x="13002" y="13780"/>
                  <a:pt x="12973" y="13692"/>
                </a:cubicBezTo>
                <a:cubicBezTo>
                  <a:pt x="12951" y="13623"/>
                  <a:pt x="12878" y="13529"/>
                  <a:pt x="12824" y="13494"/>
                </a:cubicBezTo>
                <a:cubicBezTo>
                  <a:pt x="12759" y="13452"/>
                  <a:pt x="12699" y="13448"/>
                  <a:pt x="12626" y="13444"/>
                </a:cubicBezTo>
                <a:cubicBezTo>
                  <a:pt x="12559" y="13441"/>
                  <a:pt x="12564" y="13448"/>
                  <a:pt x="12502" y="13469"/>
                </a:cubicBezTo>
              </a:path>
              <a:path w="11783" h="3325">
                <a:moveTo>
                  <a:pt x="13345" y="13940"/>
                </a:moveTo>
                <a:cubicBezTo>
                  <a:pt x="13297" y="13940"/>
                  <a:pt x="13320" y="13957"/>
                  <a:pt x="13345" y="13965"/>
                </a:cubicBezTo>
              </a:path>
              <a:path w="11783" h="3325">
                <a:moveTo>
                  <a:pt x="14089" y="13816"/>
                </a:moveTo>
                <a:cubicBezTo>
                  <a:pt x="14079" y="13760"/>
                  <a:pt x="14078" y="13762"/>
                  <a:pt x="14039" y="13717"/>
                </a:cubicBezTo>
                <a:cubicBezTo>
                  <a:pt x="14015" y="13690"/>
                  <a:pt x="13951" y="13655"/>
                  <a:pt x="13915" y="13643"/>
                </a:cubicBezTo>
                <a:cubicBezTo>
                  <a:pt x="13872" y="13629"/>
                  <a:pt x="13832" y="13663"/>
                  <a:pt x="13791" y="13667"/>
                </a:cubicBezTo>
                <a:cubicBezTo>
                  <a:pt x="13739" y="13672"/>
                  <a:pt x="13742" y="13697"/>
                  <a:pt x="13742" y="13742"/>
                </a:cubicBezTo>
                <a:cubicBezTo>
                  <a:pt x="13742" y="13788"/>
                  <a:pt x="13793" y="13827"/>
                  <a:pt x="13816" y="13866"/>
                </a:cubicBezTo>
                <a:cubicBezTo>
                  <a:pt x="13872" y="13959"/>
                  <a:pt x="13923" y="14052"/>
                  <a:pt x="13990" y="14139"/>
                </a:cubicBezTo>
                <a:cubicBezTo>
                  <a:pt x="14045" y="14210"/>
                  <a:pt x="14095" y="14282"/>
                  <a:pt x="14139" y="14362"/>
                </a:cubicBezTo>
                <a:cubicBezTo>
                  <a:pt x="14167" y="14413"/>
                  <a:pt x="14188" y="14453"/>
                  <a:pt x="14188" y="14511"/>
                </a:cubicBezTo>
                <a:cubicBezTo>
                  <a:pt x="14188" y="14568"/>
                  <a:pt x="14159" y="14581"/>
                  <a:pt x="14114" y="14585"/>
                </a:cubicBezTo>
                <a:cubicBezTo>
                  <a:pt x="14057" y="14590"/>
                  <a:pt x="14017" y="14583"/>
                  <a:pt x="13965" y="14560"/>
                </a:cubicBezTo>
                <a:cubicBezTo>
                  <a:pt x="13932" y="14546"/>
                  <a:pt x="13828" y="14495"/>
                  <a:pt x="13816" y="14461"/>
                </a:cubicBezTo>
                <a:cubicBezTo>
                  <a:pt x="13816" y="14412"/>
                  <a:pt x="13816" y="14395"/>
                  <a:pt x="13816" y="14362"/>
                </a:cubicBezTo>
              </a:path>
              <a:path w="11783" h="3325">
                <a:moveTo>
                  <a:pt x="14436" y="13816"/>
                </a:moveTo>
                <a:cubicBezTo>
                  <a:pt x="14450" y="13871"/>
                  <a:pt x="14446" y="13929"/>
                  <a:pt x="14461" y="13990"/>
                </a:cubicBezTo>
                <a:cubicBezTo>
                  <a:pt x="14479" y="14064"/>
                  <a:pt x="14508" y="14135"/>
                  <a:pt x="14511" y="14213"/>
                </a:cubicBezTo>
                <a:cubicBezTo>
                  <a:pt x="14515" y="14294"/>
                  <a:pt x="14536" y="14354"/>
                  <a:pt x="14536" y="14436"/>
                </a:cubicBezTo>
                <a:cubicBezTo>
                  <a:pt x="14536" y="14485"/>
                  <a:pt x="14520" y="14547"/>
                  <a:pt x="14560" y="14560"/>
                </a:cubicBezTo>
              </a:path>
              <a:path w="11783" h="3325">
                <a:moveTo>
                  <a:pt x="14511" y="13667"/>
                </a:moveTo>
                <a:cubicBezTo>
                  <a:pt x="14511" y="13675"/>
                  <a:pt x="14511" y="13684"/>
                  <a:pt x="14511" y="13692"/>
                </a:cubicBezTo>
              </a:path>
              <a:path w="11783" h="3325">
                <a:moveTo>
                  <a:pt x="14833" y="13791"/>
                </a:moveTo>
                <a:cubicBezTo>
                  <a:pt x="14793" y="13793"/>
                  <a:pt x="14829" y="13852"/>
                  <a:pt x="14833" y="13965"/>
                </a:cubicBezTo>
                <a:cubicBezTo>
                  <a:pt x="14838" y="14110"/>
                  <a:pt x="14839" y="14246"/>
                  <a:pt x="14858" y="14387"/>
                </a:cubicBezTo>
                <a:cubicBezTo>
                  <a:pt x="14869" y="14466"/>
                  <a:pt x="14858" y="14554"/>
                  <a:pt x="14858" y="14635"/>
                </a:cubicBezTo>
                <a:cubicBezTo>
                  <a:pt x="14839" y="14584"/>
                  <a:pt x="14833" y="14548"/>
                  <a:pt x="14833" y="14486"/>
                </a:cubicBezTo>
                <a:cubicBezTo>
                  <a:pt x="14833" y="14411"/>
                  <a:pt x="14817" y="14355"/>
                  <a:pt x="14808" y="14288"/>
                </a:cubicBezTo>
                <a:cubicBezTo>
                  <a:pt x="14795" y="14189"/>
                  <a:pt x="14820" y="14108"/>
                  <a:pt x="14833" y="14015"/>
                </a:cubicBezTo>
                <a:cubicBezTo>
                  <a:pt x="14842" y="13951"/>
                  <a:pt x="14865" y="13895"/>
                  <a:pt x="14908" y="13841"/>
                </a:cubicBezTo>
                <a:cubicBezTo>
                  <a:pt x="14932" y="13811"/>
                  <a:pt x="15017" y="13802"/>
                  <a:pt x="15056" y="13816"/>
                </a:cubicBezTo>
                <a:cubicBezTo>
                  <a:pt x="15126" y="13841"/>
                  <a:pt x="15171" y="13881"/>
                  <a:pt x="15230" y="13940"/>
                </a:cubicBezTo>
                <a:cubicBezTo>
                  <a:pt x="15310" y="14019"/>
                  <a:pt x="15364" y="14081"/>
                  <a:pt x="15404" y="14188"/>
                </a:cubicBezTo>
                <a:cubicBezTo>
                  <a:pt x="15443" y="14292"/>
                  <a:pt x="15474" y="14402"/>
                  <a:pt x="15478" y="14511"/>
                </a:cubicBezTo>
                <a:cubicBezTo>
                  <a:pt x="15482" y="14626"/>
                  <a:pt x="15478" y="14743"/>
                  <a:pt x="15478" y="14858"/>
                </a:cubicBezTo>
              </a:path>
              <a:path w="11783" h="3325">
                <a:moveTo>
                  <a:pt x="15677" y="13469"/>
                </a:moveTo>
                <a:cubicBezTo>
                  <a:pt x="15677" y="13590"/>
                  <a:pt x="15690" y="13700"/>
                  <a:pt x="15701" y="13816"/>
                </a:cubicBezTo>
                <a:cubicBezTo>
                  <a:pt x="15713" y="13949"/>
                  <a:pt x="15704" y="14082"/>
                  <a:pt x="15726" y="14213"/>
                </a:cubicBezTo>
                <a:cubicBezTo>
                  <a:pt x="15745" y="14328"/>
                  <a:pt x="15751" y="14448"/>
                  <a:pt x="15776" y="14560"/>
                </a:cubicBezTo>
                <a:cubicBezTo>
                  <a:pt x="15788" y="14612"/>
                  <a:pt x="15798" y="14714"/>
                  <a:pt x="15825" y="14759"/>
                </a:cubicBezTo>
                <a:cubicBezTo>
                  <a:pt x="15845" y="14793"/>
                  <a:pt x="15858" y="14817"/>
                  <a:pt x="15875" y="14784"/>
                </a:cubicBezTo>
                <a:cubicBezTo>
                  <a:pt x="15875" y="14749"/>
                  <a:pt x="15880" y="14731"/>
                  <a:pt x="15900" y="14709"/>
                </a:cubicBezTo>
              </a:path>
              <a:path w="11783" h="3325">
                <a:moveTo>
                  <a:pt x="16024" y="13692"/>
                </a:moveTo>
                <a:cubicBezTo>
                  <a:pt x="16056" y="13612"/>
                  <a:pt x="16073" y="13563"/>
                  <a:pt x="16148" y="13519"/>
                </a:cubicBezTo>
                <a:cubicBezTo>
                  <a:pt x="16188" y="13496"/>
                  <a:pt x="16301" y="13470"/>
                  <a:pt x="16346" y="13494"/>
                </a:cubicBezTo>
                <a:cubicBezTo>
                  <a:pt x="16510" y="13580"/>
                  <a:pt x="16519" y="13634"/>
                  <a:pt x="16570" y="13791"/>
                </a:cubicBezTo>
                <a:cubicBezTo>
                  <a:pt x="16618" y="13937"/>
                  <a:pt x="16587" y="14070"/>
                  <a:pt x="16545" y="14213"/>
                </a:cubicBezTo>
                <a:cubicBezTo>
                  <a:pt x="16517" y="14310"/>
                  <a:pt x="16462" y="14413"/>
                  <a:pt x="16396" y="14486"/>
                </a:cubicBezTo>
                <a:cubicBezTo>
                  <a:pt x="16347" y="14541"/>
                  <a:pt x="16275" y="14621"/>
                  <a:pt x="16197" y="14635"/>
                </a:cubicBezTo>
                <a:cubicBezTo>
                  <a:pt x="16163" y="14641"/>
                  <a:pt x="16091" y="14649"/>
                  <a:pt x="16073" y="14610"/>
                </a:cubicBezTo>
                <a:cubicBezTo>
                  <a:pt x="16044" y="14547"/>
                  <a:pt x="16073" y="14393"/>
                  <a:pt x="16098" y="14337"/>
                </a:cubicBezTo>
                <a:cubicBezTo>
                  <a:pt x="16132" y="14262"/>
                  <a:pt x="16204" y="14206"/>
                  <a:pt x="16272" y="14163"/>
                </a:cubicBezTo>
                <a:cubicBezTo>
                  <a:pt x="16342" y="14119"/>
                  <a:pt x="16406" y="14143"/>
                  <a:pt x="16470" y="14188"/>
                </a:cubicBezTo>
                <a:cubicBezTo>
                  <a:pt x="16546" y="14241"/>
                  <a:pt x="16582" y="14309"/>
                  <a:pt x="16619" y="14387"/>
                </a:cubicBezTo>
                <a:cubicBezTo>
                  <a:pt x="16655" y="14462"/>
                  <a:pt x="16685" y="14510"/>
                  <a:pt x="16718" y="14585"/>
                </a:cubicBezTo>
                <a:cubicBezTo>
                  <a:pt x="16740" y="14635"/>
                  <a:pt x="16742" y="14692"/>
                  <a:pt x="16768" y="14734"/>
                </a:cubicBezTo>
                <a:cubicBezTo>
                  <a:pt x="16785" y="14762"/>
                  <a:pt x="16793" y="14746"/>
                  <a:pt x="16818" y="14734"/>
                </a:cubicBezTo>
              </a:path>
              <a:path w="11783" h="3325">
                <a:moveTo>
                  <a:pt x="16768" y="13519"/>
                </a:moveTo>
                <a:cubicBezTo>
                  <a:pt x="16782" y="13599"/>
                  <a:pt x="16793" y="13659"/>
                  <a:pt x="16793" y="13742"/>
                </a:cubicBezTo>
                <a:cubicBezTo>
                  <a:pt x="16793" y="13848"/>
                  <a:pt x="16802" y="13941"/>
                  <a:pt x="16818" y="14039"/>
                </a:cubicBezTo>
                <a:cubicBezTo>
                  <a:pt x="16832" y="14125"/>
                  <a:pt x="16853" y="14150"/>
                  <a:pt x="16917" y="14213"/>
                </a:cubicBezTo>
                <a:cubicBezTo>
                  <a:pt x="16959" y="14255"/>
                  <a:pt x="17055" y="14260"/>
                  <a:pt x="17115" y="14263"/>
                </a:cubicBezTo>
                <a:cubicBezTo>
                  <a:pt x="17213" y="14268"/>
                  <a:pt x="17305" y="14255"/>
                  <a:pt x="17388" y="14238"/>
                </a:cubicBezTo>
                <a:cubicBezTo>
                  <a:pt x="17455" y="14225"/>
                  <a:pt x="17437" y="14251"/>
                  <a:pt x="17487" y="14213"/>
                </a:cubicBezTo>
              </a:path>
              <a:path w="11783" h="3325">
                <a:moveTo>
                  <a:pt x="17314" y="13519"/>
                </a:moveTo>
                <a:cubicBezTo>
                  <a:pt x="17321" y="13598"/>
                  <a:pt x="17323" y="13688"/>
                  <a:pt x="17338" y="13767"/>
                </a:cubicBezTo>
                <a:cubicBezTo>
                  <a:pt x="17361" y="13884"/>
                  <a:pt x="17346" y="13997"/>
                  <a:pt x="17363" y="14114"/>
                </a:cubicBezTo>
                <a:cubicBezTo>
                  <a:pt x="17381" y="14241"/>
                  <a:pt x="17388" y="14356"/>
                  <a:pt x="17388" y="14486"/>
                </a:cubicBezTo>
                <a:cubicBezTo>
                  <a:pt x="17388" y="14592"/>
                  <a:pt x="17408" y="14682"/>
                  <a:pt x="17413" y="14784"/>
                </a:cubicBezTo>
                <a:cubicBezTo>
                  <a:pt x="17414" y="14796"/>
                  <a:pt x="17421" y="14911"/>
                  <a:pt x="17438" y="14908"/>
                </a:cubicBezTo>
                <a:cubicBezTo>
                  <a:pt x="17446" y="14900"/>
                  <a:pt x="17454" y="14891"/>
                  <a:pt x="17462" y="14883"/>
                </a:cubicBezTo>
              </a:path>
              <a:path w="11783" h="3325">
                <a:moveTo>
                  <a:pt x="17661" y="14114"/>
                </a:moveTo>
                <a:cubicBezTo>
                  <a:pt x="17692" y="14091"/>
                  <a:pt x="17721" y="14068"/>
                  <a:pt x="17760" y="14064"/>
                </a:cubicBezTo>
                <a:cubicBezTo>
                  <a:pt x="17802" y="14059"/>
                  <a:pt x="17821" y="14043"/>
                  <a:pt x="17859" y="14039"/>
                </a:cubicBezTo>
                <a:cubicBezTo>
                  <a:pt x="17884" y="14039"/>
                  <a:pt x="17892" y="14039"/>
                  <a:pt x="17909" y="14039"/>
                </a:cubicBezTo>
              </a:path>
              <a:path w="11783" h="3325">
                <a:moveTo>
                  <a:pt x="17735" y="14436"/>
                </a:moveTo>
                <a:cubicBezTo>
                  <a:pt x="17794" y="14436"/>
                  <a:pt x="17836" y="14421"/>
                  <a:pt x="17884" y="14412"/>
                </a:cubicBezTo>
                <a:cubicBezTo>
                  <a:pt x="17937" y="14402"/>
                  <a:pt x="17985" y="14372"/>
                  <a:pt x="18033" y="14362"/>
                </a:cubicBezTo>
                <a:cubicBezTo>
                  <a:pt x="18050" y="14362"/>
                  <a:pt x="18066" y="14362"/>
                  <a:pt x="18083" y="14362"/>
                </a:cubicBezTo>
              </a:path>
              <a:path w="11783" h="3325">
                <a:moveTo>
                  <a:pt x="18479" y="13667"/>
                </a:moveTo>
                <a:cubicBezTo>
                  <a:pt x="18515" y="13711"/>
                  <a:pt x="18557" y="13762"/>
                  <a:pt x="18579" y="13816"/>
                </a:cubicBezTo>
                <a:cubicBezTo>
                  <a:pt x="18621" y="13918"/>
                  <a:pt x="18690" y="14013"/>
                  <a:pt x="18728" y="14114"/>
                </a:cubicBezTo>
                <a:cubicBezTo>
                  <a:pt x="18770" y="14227"/>
                  <a:pt x="18821" y="14326"/>
                  <a:pt x="18876" y="14436"/>
                </a:cubicBezTo>
                <a:cubicBezTo>
                  <a:pt x="18927" y="14538"/>
                  <a:pt x="18992" y="14617"/>
                  <a:pt x="19050" y="14709"/>
                </a:cubicBezTo>
                <a:cubicBezTo>
                  <a:pt x="19085" y="14765"/>
                  <a:pt x="19086" y="14814"/>
                  <a:pt x="19149" y="14833"/>
                </a:cubicBezTo>
                <a:cubicBezTo>
                  <a:pt x="19166" y="14833"/>
                  <a:pt x="19182" y="14833"/>
                  <a:pt x="19199" y="14833"/>
                </a:cubicBezTo>
              </a:path>
              <a:path w="11783" h="3325">
                <a:moveTo>
                  <a:pt x="19100" y="13643"/>
                </a:moveTo>
                <a:cubicBezTo>
                  <a:pt x="19075" y="13651"/>
                  <a:pt x="19055" y="13702"/>
                  <a:pt x="19050" y="13742"/>
                </a:cubicBezTo>
                <a:cubicBezTo>
                  <a:pt x="19037" y="13840"/>
                  <a:pt x="19012" y="13942"/>
                  <a:pt x="19000" y="14039"/>
                </a:cubicBezTo>
                <a:cubicBezTo>
                  <a:pt x="18981" y="14195"/>
                  <a:pt x="18951" y="14333"/>
                  <a:pt x="18901" y="14486"/>
                </a:cubicBezTo>
                <a:cubicBezTo>
                  <a:pt x="18877" y="14559"/>
                  <a:pt x="18847" y="14645"/>
                  <a:pt x="18802" y="14709"/>
                </a:cubicBezTo>
                <a:cubicBezTo>
                  <a:pt x="18779" y="14741"/>
                  <a:pt x="18752" y="14798"/>
                  <a:pt x="18752" y="14759"/>
                </a:cubicBezTo>
              </a:path>
              <a:path w="11783" h="3325">
                <a:moveTo>
                  <a:pt x="19298" y="14139"/>
                </a:moveTo>
                <a:cubicBezTo>
                  <a:pt x="19306" y="14147"/>
                  <a:pt x="19315" y="14155"/>
                  <a:pt x="19323" y="14163"/>
                </a:cubicBezTo>
              </a:path>
              <a:path w="11783" h="3325">
                <a:moveTo>
                  <a:pt x="19968" y="13965"/>
                </a:moveTo>
                <a:cubicBezTo>
                  <a:pt x="19968" y="13907"/>
                  <a:pt x="19981" y="13859"/>
                  <a:pt x="19943" y="13816"/>
                </a:cubicBezTo>
                <a:cubicBezTo>
                  <a:pt x="19899" y="13766"/>
                  <a:pt x="19885" y="13767"/>
                  <a:pt x="19819" y="13767"/>
                </a:cubicBezTo>
                <a:cubicBezTo>
                  <a:pt x="19758" y="13767"/>
                  <a:pt x="19698" y="13755"/>
                  <a:pt x="19645" y="13791"/>
                </a:cubicBezTo>
                <a:cubicBezTo>
                  <a:pt x="19614" y="13812"/>
                  <a:pt x="19581" y="13851"/>
                  <a:pt x="19596" y="13891"/>
                </a:cubicBezTo>
                <a:cubicBezTo>
                  <a:pt x="19652" y="14045"/>
                  <a:pt x="19794" y="14139"/>
                  <a:pt x="19893" y="14263"/>
                </a:cubicBezTo>
                <a:cubicBezTo>
                  <a:pt x="19945" y="14327"/>
                  <a:pt x="20003" y="14395"/>
                  <a:pt x="20042" y="14461"/>
                </a:cubicBezTo>
                <a:cubicBezTo>
                  <a:pt x="20073" y="14513"/>
                  <a:pt x="20080" y="14542"/>
                  <a:pt x="20042" y="14585"/>
                </a:cubicBezTo>
                <a:cubicBezTo>
                  <a:pt x="20015" y="14616"/>
                  <a:pt x="19959" y="14632"/>
                  <a:pt x="19918" y="14635"/>
                </a:cubicBezTo>
                <a:cubicBezTo>
                  <a:pt x="19863" y="14639"/>
                  <a:pt x="19790" y="14633"/>
                  <a:pt x="19745" y="14610"/>
                </a:cubicBezTo>
                <a:cubicBezTo>
                  <a:pt x="19703" y="14589"/>
                  <a:pt x="19687" y="14576"/>
                  <a:pt x="19670" y="14536"/>
                </a:cubicBezTo>
                <a:cubicBezTo>
                  <a:pt x="19634" y="14453"/>
                  <a:pt x="19670" y="14440"/>
                  <a:pt x="19720" y="14362"/>
                </a:cubicBezTo>
              </a:path>
              <a:path w="11783" h="3325">
                <a:moveTo>
                  <a:pt x="20315" y="14039"/>
                </a:moveTo>
                <a:cubicBezTo>
                  <a:pt x="20320" y="14128"/>
                  <a:pt x="20316" y="14250"/>
                  <a:pt x="20340" y="14337"/>
                </a:cubicBezTo>
                <a:cubicBezTo>
                  <a:pt x="20355" y="14392"/>
                  <a:pt x="20348" y="14459"/>
                  <a:pt x="20365" y="14511"/>
                </a:cubicBezTo>
                <a:cubicBezTo>
                  <a:pt x="20379" y="14553"/>
                  <a:pt x="20406" y="14594"/>
                  <a:pt x="20414" y="14610"/>
                </a:cubicBezTo>
                <a:cubicBezTo>
                  <a:pt x="20414" y="14635"/>
                  <a:pt x="20414" y="14643"/>
                  <a:pt x="20414" y="14610"/>
                </a:cubicBezTo>
              </a:path>
              <a:path w="11783" h="3325">
                <a:moveTo>
                  <a:pt x="20340" y="13643"/>
                </a:moveTo>
                <a:cubicBezTo>
                  <a:pt x="20365" y="13686"/>
                  <a:pt x="20380" y="13707"/>
                  <a:pt x="20414" y="13742"/>
                </a:cubicBezTo>
              </a:path>
              <a:path w="11783" h="3325">
                <a:moveTo>
                  <a:pt x="20712" y="14139"/>
                </a:moveTo>
                <a:cubicBezTo>
                  <a:pt x="20712" y="14223"/>
                  <a:pt x="20733" y="14283"/>
                  <a:pt x="20737" y="14362"/>
                </a:cubicBezTo>
                <a:cubicBezTo>
                  <a:pt x="20741" y="14437"/>
                  <a:pt x="20725" y="14500"/>
                  <a:pt x="20762" y="14560"/>
                </a:cubicBezTo>
                <a:cubicBezTo>
                  <a:pt x="20762" y="14367"/>
                  <a:pt x="20761" y="14178"/>
                  <a:pt x="20786" y="13990"/>
                </a:cubicBezTo>
                <a:cubicBezTo>
                  <a:pt x="20794" y="13932"/>
                  <a:pt x="20798" y="13859"/>
                  <a:pt x="20836" y="13816"/>
                </a:cubicBezTo>
                <a:cubicBezTo>
                  <a:pt x="20898" y="13745"/>
                  <a:pt x="20940" y="13746"/>
                  <a:pt x="21034" y="13742"/>
                </a:cubicBezTo>
                <a:cubicBezTo>
                  <a:pt x="21180" y="13736"/>
                  <a:pt x="21239" y="13851"/>
                  <a:pt x="21307" y="13940"/>
                </a:cubicBezTo>
                <a:cubicBezTo>
                  <a:pt x="21378" y="14032"/>
                  <a:pt x="21398" y="14108"/>
                  <a:pt x="21431" y="14213"/>
                </a:cubicBezTo>
                <a:cubicBezTo>
                  <a:pt x="21458" y="14297"/>
                  <a:pt x="21456" y="14371"/>
                  <a:pt x="21456" y="14461"/>
                </a:cubicBezTo>
                <a:cubicBezTo>
                  <a:pt x="21456" y="14524"/>
                  <a:pt x="21453" y="14578"/>
                  <a:pt x="21431" y="14635"/>
                </a:cubicBezTo>
                <a:cubicBezTo>
                  <a:pt x="21421" y="14661"/>
                  <a:pt x="21431" y="14656"/>
                  <a:pt x="21431" y="14684"/>
                </a:cubicBezTo>
              </a:path>
              <a:path w="11783" h="3325">
                <a:moveTo>
                  <a:pt x="21630" y="13593"/>
                </a:moveTo>
                <a:cubicBezTo>
                  <a:pt x="21725" y="13498"/>
                  <a:pt x="21661" y="13535"/>
                  <a:pt x="21779" y="13519"/>
                </a:cubicBezTo>
                <a:cubicBezTo>
                  <a:pt x="21853" y="13509"/>
                  <a:pt x="21927" y="13548"/>
                  <a:pt x="21977" y="13593"/>
                </a:cubicBezTo>
                <a:cubicBezTo>
                  <a:pt x="22042" y="13651"/>
                  <a:pt x="22110" y="13755"/>
                  <a:pt x="22126" y="13841"/>
                </a:cubicBezTo>
                <a:cubicBezTo>
                  <a:pt x="22146" y="13947"/>
                  <a:pt x="22131" y="14088"/>
                  <a:pt x="22101" y="14188"/>
                </a:cubicBezTo>
                <a:cubicBezTo>
                  <a:pt x="22066" y="14306"/>
                  <a:pt x="22020" y="14342"/>
                  <a:pt x="21952" y="14436"/>
                </a:cubicBezTo>
                <a:cubicBezTo>
                  <a:pt x="21901" y="14507"/>
                  <a:pt x="21891" y="14541"/>
                  <a:pt x="21779" y="14536"/>
                </a:cubicBezTo>
                <a:cubicBezTo>
                  <a:pt x="21722" y="14533"/>
                  <a:pt x="21690" y="14417"/>
                  <a:pt x="21679" y="14387"/>
                </a:cubicBezTo>
                <a:cubicBezTo>
                  <a:pt x="21655" y="14320"/>
                  <a:pt x="21651" y="14306"/>
                  <a:pt x="21679" y="14238"/>
                </a:cubicBezTo>
                <a:cubicBezTo>
                  <a:pt x="21703" y="14181"/>
                  <a:pt x="21777" y="14166"/>
                  <a:pt x="21828" y="14163"/>
                </a:cubicBezTo>
                <a:cubicBezTo>
                  <a:pt x="21900" y="14159"/>
                  <a:pt x="21968" y="14166"/>
                  <a:pt x="22027" y="14213"/>
                </a:cubicBezTo>
                <a:cubicBezTo>
                  <a:pt x="22093" y="14265"/>
                  <a:pt x="22153" y="14317"/>
                  <a:pt x="22200" y="14387"/>
                </a:cubicBezTo>
                <a:cubicBezTo>
                  <a:pt x="22239" y="14446"/>
                  <a:pt x="22255" y="14502"/>
                  <a:pt x="22275" y="14560"/>
                </a:cubicBezTo>
                <a:cubicBezTo>
                  <a:pt x="22292" y="14609"/>
                  <a:pt x="22299" y="14644"/>
                  <a:pt x="22324" y="14684"/>
                </a:cubicBezTo>
              </a:path>
              <a:path w="11783" h="3325">
                <a:moveTo>
                  <a:pt x="22771" y="13841"/>
                </a:moveTo>
                <a:cubicBezTo>
                  <a:pt x="22771" y="13750"/>
                  <a:pt x="22787" y="13644"/>
                  <a:pt x="22746" y="13568"/>
                </a:cubicBezTo>
                <a:cubicBezTo>
                  <a:pt x="22711" y="13504"/>
                  <a:pt x="22696" y="13472"/>
                  <a:pt x="22622" y="13469"/>
                </a:cubicBezTo>
                <a:cubicBezTo>
                  <a:pt x="22563" y="13466"/>
                  <a:pt x="22525" y="13464"/>
                  <a:pt x="22473" y="13494"/>
                </a:cubicBezTo>
                <a:cubicBezTo>
                  <a:pt x="22408" y="13531"/>
                  <a:pt x="22402" y="13631"/>
                  <a:pt x="22399" y="13692"/>
                </a:cubicBezTo>
                <a:cubicBezTo>
                  <a:pt x="22392" y="13839"/>
                  <a:pt x="22492" y="13985"/>
                  <a:pt x="22547" y="14114"/>
                </a:cubicBezTo>
                <a:cubicBezTo>
                  <a:pt x="22590" y="14214"/>
                  <a:pt x="22672" y="14310"/>
                  <a:pt x="22696" y="14412"/>
                </a:cubicBezTo>
                <a:cubicBezTo>
                  <a:pt x="22709" y="14468"/>
                  <a:pt x="22733" y="14549"/>
                  <a:pt x="22721" y="14610"/>
                </a:cubicBezTo>
                <a:cubicBezTo>
                  <a:pt x="22712" y="14653"/>
                  <a:pt x="22678" y="14702"/>
                  <a:pt x="22622" y="14684"/>
                </a:cubicBezTo>
                <a:cubicBezTo>
                  <a:pt x="22586" y="14672"/>
                  <a:pt x="22536" y="14602"/>
                  <a:pt x="22523" y="14585"/>
                </a:cubicBezTo>
                <a:cubicBezTo>
                  <a:pt x="22474" y="14521"/>
                  <a:pt x="22455" y="14444"/>
                  <a:pt x="22473" y="14362"/>
                </a:cubicBezTo>
                <a:cubicBezTo>
                  <a:pt x="22493" y="14273"/>
                  <a:pt x="22549" y="14190"/>
                  <a:pt x="22597" y="14114"/>
                </a:cubicBezTo>
                <a:cubicBezTo>
                  <a:pt x="22652" y="14026"/>
                  <a:pt x="22737" y="13973"/>
                  <a:pt x="22796" y="13891"/>
                </a:cubicBezTo>
                <a:cubicBezTo>
                  <a:pt x="22828" y="13846"/>
                  <a:pt x="22897" y="13789"/>
                  <a:pt x="22920" y="13742"/>
                </a:cubicBezTo>
                <a:cubicBezTo>
                  <a:pt x="22920" y="13734"/>
                  <a:pt x="22920" y="13725"/>
                  <a:pt x="22920" y="13717"/>
                </a:cubicBezTo>
              </a:path>
              <a:path w="11783" h="3325">
                <a:moveTo>
                  <a:pt x="18951" y="15304"/>
                </a:moveTo>
                <a:cubicBezTo>
                  <a:pt x="19259" y="15304"/>
                  <a:pt x="19563" y="15262"/>
                  <a:pt x="19869" y="15255"/>
                </a:cubicBezTo>
                <a:cubicBezTo>
                  <a:pt x="20051" y="15251"/>
                  <a:pt x="20233" y="15251"/>
                  <a:pt x="20414" y="15230"/>
                </a:cubicBezTo>
                <a:cubicBezTo>
                  <a:pt x="20622" y="15205"/>
                  <a:pt x="20825" y="15167"/>
                  <a:pt x="21034" y="15156"/>
                </a:cubicBezTo>
                <a:cubicBezTo>
                  <a:pt x="21306" y="15142"/>
                  <a:pt x="21582" y="15113"/>
                  <a:pt x="21853" y="15081"/>
                </a:cubicBezTo>
                <a:cubicBezTo>
                  <a:pt x="22043" y="15058"/>
                  <a:pt x="22232" y="15036"/>
                  <a:pt x="22423" y="15032"/>
                </a:cubicBezTo>
                <a:cubicBezTo>
                  <a:pt x="22567" y="15029"/>
                  <a:pt x="22704" y="15012"/>
                  <a:pt x="22845" y="15007"/>
                </a:cubicBezTo>
                <a:cubicBezTo>
                  <a:pt x="22891" y="15005"/>
                  <a:pt x="23151" y="15027"/>
                  <a:pt x="23143" y="15032"/>
                </a:cubicBezTo>
                <a:cubicBezTo>
                  <a:pt x="23092" y="15032"/>
                  <a:pt x="23059" y="15038"/>
                  <a:pt x="23019" y="15056"/>
                </a:cubicBezTo>
              </a:path>
              <a:path w="11783" h="3325">
                <a:moveTo>
                  <a:pt x="20662" y="15751"/>
                </a:moveTo>
                <a:cubicBezTo>
                  <a:pt x="20687" y="15663"/>
                  <a:pt x="20715" y="15623"/>
                  <a:pt x="20687" y="15553"/>
                </a:cubicBezTo>
                <a:cubicBezTo>
                  <a:pt x="20653" y="15465"/>
                  <a:pt x="20610" y="15441"/>
                  <a:pt x="20513" y="15453"/>
                </a:cubicBezTo>
                <a:cubicBezTo>
                  <a:pt x="20417" y="15465"/>
                  <a:pt x="20399" y="15484"/>
                  <a:pt x="20340" y="15528"/>
                </a:cubicBezTo>
                <a:cubicBezTo>
                  <a:pt x="20271" y="15579"/>
                  <a:pt x="20246" y="15582"/>
                  <a:pt x="20241" y="15677"/>
                </a:cubicBezTo>
                <a:cubicBezTo>
                  <a:pt x="20236" y="15770"/>
                  <a:pt x="20286" y="15853"/>
                  <a:pt x="20340" y="15925"/>
                </a:cubicBezTo>
                <a:cubicBezTo>
                  <a:pt x="20424" y="16037"/>
                  <a:pt x="20489" y="16118"/>
                  <a:pt x="20538" y="16247"/>
                </a:cubicBezTo>
                <a:cubicBezTo>
                  <a:pt x="20558" y="16300"/>
                  <a:pt x="20586" y="16412"/>
                  <a:pt x="20563" y="16470"/>
                </a:cubicBezTo>
                <a:cubicBezTo>
                  <a:pt x="20553" y="16496"/>
                  <a:pt x="20497" y="16585"/>
                  <a:pt x="20464" y="16594"/>
                </a:cubicBezTo>
                <a:cubicBezTo>
                  <a:pt x="20414" y="16608"/>
                  <a:pt x="20327" y="16602"/>
                  <a:pt x="20290" y="16570"/>
                </a:cubicBezTo>
                <a:cubicBezTo>
                  <a:pt x="20245" y="16530"/>
                  <a:pt x="20207" y="16486"/>
                  <a:pt x="20216" y="16421"/>
                </a:cubicBezTo>
                <a:cubicBezTo>
                  <a:pt x="20237" y="16338"/>
                  <a:pt x="20245" y="16323"/>
                  <a:pt x="20241" y="16272"/>
                </a:cubicBezTo>
              </a:path>
              <a:path w="11783" h="3325">
                <a:moveTo>
                  <a:pt x="21084" y="15900"/>
                </a:moveTo>
                <a:cubicBezTo>
                  <a:pt x="21115" y="15985"/>
                  <a:pt x="21119" y="16038"/>
                  <a:pt x="21134" y="16123"/>
                </a:cubicBezTo>
                <a:cubicBezTo>
                  <a:pt x="21150" y="16215"/>
                  <a:pt x="21179" y="16304"/>
                  <a:pt x="21183" y="16396"/>
                </a:cubicBezTo>
                <a:cubicBezTo>
                  <a:pt x="21183" y="16454"/>
                  <a:pt x="21183" y="16462"/>
                  <a:pt x="21183" y="16495"/>
                </a:cubicBezTo>
              </a:path>
              <a:path w="11783" h="3325">
                <a:moveTo>
                  <a:pt x="21134" y="15429"/>
                </a:moveTo>
                <a:cubicBezTo>
                  <a:pt x="21156" y="15505"/>
                  <a:pt x="21155" y="15526"/>
                  <a:pt x="21208" y="15577"/>
                </a:cubicBezTo>
              </a:path>
              <a:path w="11783" h="3325">
                <a:moveTo>
                  <a:pt x="21456" y="15751"/>
                </a:moveTo>
                <a:cubicBezTo>
                  <a:pt x="21482" y="15823"/>
                  <a:pt x="21518" y="15901"/>
                  <a:pt x="21530" y="15974"/>
                </a:cubicBezTo>
                <a:cubicBezTo>
                  <a:pt x="21556" y="16138"/>
                  <a:pt x="21530" y="16328"/>
                  <a:pt x="21530" y="16495"/>
                </a:cubicBezTo>
                <a:cubicBezTo>
                  <a:pt x="21530" y="16593"/>
                  <a:pt x="21530" y="16497"/>
                  <a:pt x="21530" y="16446"/>
                </a:cubicBezTo>
                <a:cubicBezTo>
                  <a:pt x="21530" y="16308"/>
                  <a:pt x="21534" y="16179"/>
                  <a:pt x="21555" y="16049"/>
                </a:cubicBezTo>
                <a:cubicBezTo>
                  <a:pt x="21566" y="15979"/>
                  <a:pt x="21587" y="15933"/>
                  <a:pt x="21630" y="15875"/>
                </a:cubicBezTo>
                <a:cubicBezTo>
                  <a:pt x="21660" y="15834"/>
                  <a:pt x="21715" y="15818"/>
                  <a:pt x="21754" y="15801"/>
                </a:cubicBezTo>
                <a:cubicBezTo>
                  <a:pt x="21811" y="15776"/>
                  <a:pt x="21871" y="15788"/>
                  <a:pt x="21927" y="15825"/>
                </a:cubicBezTo>
                <a:cubicBezTo>
                  <a:pt x="21959" y="15846"/>
                  <a:pt x="22028" y="15942"/>
                  <a:pt x="22051" y="15974"/>
                </a:cubicBezTo>
                <a:cubicBezTo>
                  <a:pt x="22101" y="16045"/>
                  <a:pt x="22136" y="16221"/>
                  <a:pt x="22151" y="16297"/>
                </a:cubicBezTo>
                <a:cubicBezTo>
                  <a:pt x="22164" y="16359"/>
                  <a:pt x="22165" y="16434"/>
                  <a:pt x="22175" y="16495"/>
                </a:cubicBezTo>
                <a:cubicBezTo>
                  <a:pt x="22181" y="16530"/>
                  <a:pt x="22175" y="16583"/>
                  <a:pt x="22175" y="16619"/>
                </a:cubicBezTo>
              </a:path>
              <a:path w="11783" h="3325">
                <a:moveTo>
                  <a:pt x="22250" y="15577"/>
                </a:moveTo>
                <a:cubicBezTo>
                  <a:pt x="22339" y="15561"/>
                  <a:pt x="22367" y="15564"/>
                  <a:pt x="22448" y="15602"/>
                </a:cubicBezTo>
                <a:cubicBezTo>
                  <a:pt x="22542" y="15646"/>
                  <a:pt x="22538" y="15676"/>
                  <a:pt x="22597" y="15751"/>
                </a:cubicBezTo>
                <a:cubicBezTo>
                  <a:pt x="22665" y="15838"/>
                  <a:pt x="22692" y="15883"/>
                  <a:pt x="22696" y="15999"/>
                </a:cubicBezTo>
                <a:cubicBezTo>
                  <a:pt x="22700" y="16103"/>
                  <a:pt x="22655" y="16199"/>
                  <a:pt x="22622" y="16297"/>
                </a:cubicBezTo>
                <a:cubicBezTo>
                  <a:pt x="22585" y="16408"/>
                  <a:pt x="22515" y="16418"/>
                  <a:pt x="22448" y="16495"/>
                </a:cubicBezTo>
                <a:cubicBezTo>
                  <a:pt x="22389" y="16563"/>
                  <a:pt x="22375" y="16577"/>
                  <a:pt x="22299" y="16545"/>
                </a:cubicBezTo>
                <a:cubicBezTo>
                  <a:pt x="22263" y="16530"/>
                  <a:pt x="22212" y="16491"/>
                  <a:pt x="22200" y="16446"/>
                </a:cubicBezTo>
                <a:cubicBezTo>
                  <a:pt x="22184" y="16388"/>
                  <a:pt x="22196" y="16297"/>
                  <a:pt x="22225" y="16247"/>
                </a:cubicBezTo>
                <a:cubicBezTo>
                  <a:pt x="22244" y="16214"/>
                  <a:pt x="22286" y="16169"/>
                  <a:pt x="22324" y="16173"/>
                </a:cubicBezTo>
                <a:cubicBezTo>
                  <a:pt x="22391" y="16179"/>
                  <a:pt x="22491" y="16207"/>
                  <a:pt x="22547" y="16247"/>
                </a:cubicBezTo>
                <a:cubicBezTo>
                  <a:pt x="22621" y="16299"/>
                  <a:pt x="22665" y="16354"/>
                  <a:pt x="22721" y="16421"/>
                </a:cubicBezTo>
                <a:cubicBezTo>
                  <a:pt x="22777" y="16487"/>
                  <a:pt x="22787" y="16529"/>
                  <a:pt x="22820" y="16594"/>
                </a:cubicBezTo>
                <a:cubicBezTo>
                  <a:pt x="22836" y="16627"/>
                  <a:pt x="22873" y="16666"/>
                  <a:pt x="22895" y="16694"/>
                </a:cubicBezTo>
              </a:path>
              <a:path w="11783" h="3325">
                <a:moveTo>
                  <a:pt x="23217" y="16024"/>
                </a:moveTo>
                <a:cubicBezTo>
                  <a:pt x="23233" y="15952"/>
                  <a:pt x="23269" y="15826"/>
                  <a:pt x="23242" y="15751"/>
                </a:cubicBezTo>
                <a:cubicBezTo>
                  <a:pt x="23208" y="15656"/>
                  <a:pt x="23168" y="15608"/>
                  <a:pt x="23093" y="15553"/>
                </a:cubicBezTo>
                <a:cubicBezTo>
                  <a:pt x="23050" y="15521"/>
                  <a:pt x="22992" y="15529"/>
                  <a:pt x="22944" y="15553"/>
                </a:cubicBezTo>
                <a:cubicBezTo>
                  <a:pt x="22905" y="15572"/>
                  <a:pt x="22866" y="15665"/>
                  <a:pt x="22870" y="15701"/>
                </a:cubicBezTo>
                <a:cubicBezTo>
                  <a:pt x="22879" y="15780"/>
                  <a:pt x="22900" y="15895"/>
                  <a:pt x="22920" y="15974"/>
                </a:cubicBezTo>
                <a:cubicBezTo>
                  <a:pt x="22953" y="16102"/>
                  <a:pt x="23023" y="16199"/>
                  <a:pt x="23068" y="16321"/>
                </a:cubicBezTo>
                <a:cubicBezTo>
                  <a:pt x="23089" y="16378"/>
                  <a:pt x="23114" y="16461"/>
                  <a:pt x="23118" y="16520"/>
                </a:cubicBezTo>
                <a:cubicBezTo>
                  <a:pt x="23118" y="16537"/>
                  <a:pt x="23118" y="16553"/>
                  <a:pt x="23118" y="16570"/>
                </a:cubicBezTo>
                <a:cubicBezTo>
                  <a:pt x="23076" y="16580"/>
                  <a:pt x="23059" y="16597"/>
                  <a:pt x="23019" y="16570"/>
                </a:cubicBezTo>
                <a:cubicBezTo>
                  <a:pt x="22964" y="16533"/>
                  <a:pt x="22961" y="16471"/>
                  <a:pt x="22944" y="16421"/>
                </a:cubicBezTo>
                <a:cubicBezTo>
                  <a:pt x="22918" y="16344"/>
                  <a:pt x="22871" y="16285"/>
                  <a:pt x="22895" y="16197"/>
                </a:cubicBezTo>
                <a:cubicBezTo>
                  <a:pt x="22922" y="16095"/>
                  <a:pt x="22952" y="15986"/>
                  <a:pt x="23019" y="15900"/>
                </a:cubicBezTo>
                <a:cubicBezTo>
                  <a:pt x="23073" y="15831"/>
                  <a:pt x="23164" y="15787"/>
                  <a:pt x="23217" y="15726"/>
                </a:cubicBezTo>
                <a:cubicBezTo>
                  <a:pt x="23255" y="15682"/>
                  <a:pt x="23283" y="15650"/>
                  <a:pt x="23316" y="15602"/>
                </a:cubicBezTo>
              </a:path>
              <a:path w="11783" h="3325">
                <a:moveTo>
                  <a:pt x="20365" y="16421"/>
                </a:moveTo>
                <a:cubicBezTo>
                  <a:pt x="20433" y="16416"/>
                  <a:pt x="20473" y="16424"/>
                  <a:pt x="20538" y="16396"/>
                </a:cubicBezTo>
                <a:cubicBezTo>
                  <a:pt x="20694" y="16328"/>
                  <a:pt x="20834" y="16227"/>
                  <a:pt x="20985" y="16148"/>
                </a:cubicBezTo>
                <a:cubicBezTo>
                  <a:pt x="21141" y="16066"/>
                  <a:pt x="21295" y="15975"/>
                  <a:pt x="21456" y="15900"/>
                </a:cubicBezTo>
                <a:cubicBezTo>
                  <a:pt x="21621" y="15823"/>
                  <a:pt x="21805" y="15763"/>
                  <a:pt x="21977" y="15701"/>
                </a:cubicBezTo>
                <a:cubicBezTo>
                  <a:pt x="22150" y="15639"/>
                  <a:pt x="22319" y="15568"/>
                  <a:pt x="22498" y="15528"/>
                </a:cubicBezTo>
                <a:cubicBezTo>
                  <a:pt x="22614" y="15502"/>
                  <a:pt x="22792" y="15467"/>
                  <a:pt x="22895" y="15404"/>
                </a:cubicBezTo>
                <a:cubicBezTo>
                  <a:pt x="22971" y="15357"/>
                  <a:pt x="22942" y="15339"/>
                  <a:pt x="22969" y="15280"/>
                </a:cubicBezTo>
              </a:path>
              <a:path w="11783" h="3325">
                <a:moveTo>
                  <a:pt x="20439" y="14635"/>
                </a:moveTo>
                <a:cubicBezTo>
                  <a:pt x="20446" y="14599"/>
                  <a:pt x="20419" y="14619"/>
                  <a:pt x="20464" y="14560"/>
                </a:cubicBezTo>
                <a:cubicBezTo>
                  <a:pt x="20524" y="14482"/>
                  <a:pt x="20609" y="14420"/>
                  <a:pt x="20687" y="14362"/>
                </a:cubicBezTo>
                <a:cubicBezTo>
                  <a:pt x="20813" y="14268"/>
                  <a:pt x="20949" y="14193"/>
                  <a:pt x="21084" y="14114"/>
                </a:cubicBezTo>
                <a:cubicBezTo>
                  <a:pt x="21384" y="13937"/>
                  <a:pt x="21706" y="13842"/>
                  <a:pt x="22027" y="13717"/>
                </a:cubicBezTo>
                <a:cubicBezTo>
                  <a:pt x="22144" y="13671"/>
                  <a:pt x="22258" y="13615"/>
                  <a:pt x="22374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13200" y="5456160"/>
            <a:ext cx="1258920" cy="490680"/>
          </a:xfrm>
          <a:custGeom>
            <a:avLst/>
            <a:gdLst/>
            <a:ahLst/>
            <a:rect l="l" t="t" r="r" b="b"/>
            <a:pathLst>
              <a:path w="3498" h="1365">
                <a:moveTo>
                  <a:pt x="13915" y="15329"/>
                </a:moveTo>
                <a:cubicBezTo>
                  <a:pt x="13909" y="15283"/>
                  <a:pt x="13912" y="15260"/>
                  <a:pt x="13866" y="15230"/>
                </a:cubicBezTo>
                <a:cubicBezTo>
                  <a:pt x="13795" y="15184"/>
                  <a:pt x="13763" y="15206"/>
                  <a:pt x="13692" y="15180"/>
                </a:cubicBezTo>
                <a:cubicBezTo>
                  <a:pt x="13626" y="15156"/>
                  <a:pt x="13541" y="15173"/>
                  <a:pt x="13469" y="15205"/>
                </a:cubicBezTo>
                <a:cubicBezTo>
                  <a:pt x="13418" y="15228"/>
                  <a:pt x="13382" y="15253"/>
                  <a:pt x="13370" y="15304"/>
                </a:cubicBezTo>
                <a:cubicBezTo>
                  <a:pt x="13352" y="15379"/>
                  <a:pt x="13396" y="15405"/>
                  <a:pt x="13444" y="15453"/>
                </a:cubicBezTo>
                <a:cubicBezTo>
                  <a:pt x="13517" y="15525"/>
                  <a:pt x="13612" y="15558"/>
                  <a:pt x="13692" y="15627"/>
                </a:cubicBezTo>
                <a:cubicBezTo>
                  <a:pt x="13808" y="15727"/>
                  <a:pt x="13965" y="15865"/>
                  <a:pt x="14039" y="15999"/>
                </a:cubicBezTo>
                <a:cubicBezTo>
                  <a:pt x="14075" y="16065"/>
                  <a:pt x="14076" y="16117"/>
                  <a:pt x="14039" y="16173"/>
                </a:cubicBezTo>
                <a:cubicBezTo>
                  <a:pt x="14000" y="16232"/>
                  <a:pt x="13955" y="16222"/>
                  <a:pt x="13891" y="16222"/>
                </a:cubicBezTo>
                <a:cubicBezTo>
                  <a:pt x="13838" y="16222"/>
                  <a:pt x="13753" y="16219"/>
                  <a:pt x="13717" y="16173"/>
                </a:cubicBezTo>
                <a:cubicBezTo>
                  <a:pt x="13660" y="16101"/>
                  <a:pt x="13667" y="16039"/>
                  <a:pt x="13667" y="15949"/>
                </a:cubicBezTo>
              </a:path>
              <a:path w="3498" h="1365">
                <a:moveTo>
                  <a:pt x="14337" y="15453"/>
                </a:moveTo>
                <a:cubicBezTo>
                  <a:pt x="14356" y="15523"/>
                  <a:pt x="14378" y="15608"/>
                  <a:pt x="14387" y="15677"/>
                </a:cubicBezTo>
                <a:cubicBezTo>
                  <a:pt x="14400" y="15775"/>
                  <a:pt x="14377" y="16270"/>
                  <a:pt x="14412" y="16247"/>
                </a:cubicBezTo>
              </a:path>
              <a:path w="3498" h="1365">
                <a:moveTo>
                  <a:pt x="14436" y="15280"/>
                </a:moveTo>
                <a:cubicBezTo>
                  <a:pt x="14469" y="15312"/>
                  <a:pt x="14481" y="15344"/>
                  <a:pt x="14511" y="15354"/>
                </a:cubicBezTo>
              </a:path>
              <a:path w="3498" h="1365">
                <a:moveTo>
                  <a:pt x="14734" y="15379"/>
                </a:moveTo>
                <a:cubicBezTo>
                  <a:pt x="14741" y="15458"/>
                  <a:pt x="14769" y="15527"/>
                  <a:pt x="14784" y="15602"/>
                </a:cubicBezTo>
                <a:cubicBezTo>
                  <a:pt x="14800" y="15682"/>
                  <a:pt x="14821" y="15769"/>
                  <a:pt x="14833" y="15850"/>
                </a:cubicBezTo>
                <a:cubicBezTo>
                  <a:pt x="14844" y="15924"/>
                  <a:pt x="14854" y="16001"/>
                  <a:pt x="14858" y="16073"/>
                </a:cubicBezTo>
                <a:cubicBezTo>
                  <a:pt x="14858" y="16123"/>
                  <a:pt x="14858" y="16140"/>
                  <a:pt x="14858" y="16173"/>
                </a:cubicBezTo>
                <a:cubicBezTo>
                  <a:pt x="14858" y="16140"/>
                  <a:pt x="14858" y="16156"/>
                  <a:pt x="14858" y="16123"/>
                </a:cubicBezTo>
                <a:cubicBezTo>
                  <a:pt x="14858" y="16041"/>
                  <a:pt x="14837" y="15980"/>
                  <a:pt x="14833" y="15900"/>
                </a:cubicBezTo>
                <a:cubicBezTo>
                  <a:pt x="14829" y="15818"/>
                  <a:pt x="14854" y="15754"/>
                  <a:pt x="14858" y="15677"/>
                </a:cubicBezTo>
                <a:cubicBezTo>
                  <a:pt x="14863" y="15584"/>
                  <a:pt x="14896" y="15513"/>
                  <a:pt x="14957" y="15453"/>
                </a:cubicBezTo>
                <a:cubicBezTo>
                  <a:pt x="15010" y="15401"/>
                  <a:pt x="15031" y="15404"/>
                  <a:pt x="15106" y="15404"/>
                </a:cubicBezTo>
                <a:cubicBezTo>
                  <a:pt x="15169" y="15404"/>
                  <a:pt x="15227" y="15412"/>
                  <a:pt x="15280" y="15453"/>
                </a:cubicBezTo>
                <a:cubicBezTo>
                  <a:pt x="15351" y="15508"/>
                  <a:pt x="15393" y="15600"/>
                  <a:pt x="15429" y="15677"/>
                </a:cubicBezTo>
                <a:cubicBezTo>
                  <a:pt x="15465" y="15754"/>
                  <a:pt x="15491" y="15842"/>
                  <a:pt x="15503" y="15925"/>
                </a:cubicBezTo>
                <a:cubicBezTo>
                  <a:pt x="15517" y="16020"/>
                  <a:pt x="15467" y="16171"/>
                  <a:pt x="15528" y="16247"/>
                </a:cubicBezTo>
                <a:cubicBezTo>
                  <a:pt x="15557" y="16283"/>
                  <a:pt x="15524" y="16274"/>
                  <a:pt x="15577" y="16247"/>
                </a:cubicBezTo>
              </a:path>
              <a:path w="3498" h="1365">
                <a:moveTo>
                  <a:pt x="15652" y="15304"/>
                </a:moveTo>
                <a:cubicBezTo>
                  <a:pt x="15696" y="15261"/>
                  <a:pt x="15740" y="15240"/>
                  <a:pt x="15801" y="15230"/>
                </a:cubicBezTo>
                <a:cubicBezTo>
                  <a:pt x="15849" y="15222"/>
                  <a:pt x="15936" y="15274"/>
                  <a:pt x="15974" y="15304"/>
                </a:cubicBezTo>
                <a:cubicBezTo>
                  <a:pt x="16055" y="15367"/>
                  <a:pt x="16105" y="15502"/>
                  <a:pt x="16123" y="15602"/>
                </a:cubicBezTo>
                <a:cubicBezTo>
                  <a:pt x="16136" y="15676"/>
                  <a:pt x="16095" y="15782"/>
                  <a:pt x="16073" y="15850"/>
                </a:cubicBezTo>
                <a:cubicBezTo>
                  <a:pt x="16036" y="15965"/>
                  <a:pt x="15966" y="16006"/>
                  <a:pt x="15900" y="16098"/>
                </a:cubicBezTo>
                <a:cubicBezTo>
                  <a:pt x="15852" y="16165"/>
                  <a:pt x="15814" y="16194"/>
                  <a:pt x="15726" y="16197"/>
                </a:cubicBezTo>
                <a:cubicBezTo>
                  <a:pt x="15607" y="16201"/>
                  <a:pt x="15634" y="16201"/>
                  <a:pt x="15602" y="16123"/>
                </a:cubicBezTo>
                <a:cubicBezTo>
                  <a:pt x="15580" y="16069"/>
                  <a:pt x="15653" y="16014"/>
                  <a:pt x="15677" y="15974"/>
                </a:cubicBezTo>
                <a:cubicBezTo>
                  <a:pt x="15724" y="15896"/>
                  <a:pt x="15775" y="15935"/>
                  <a:pt x="15850" y="15900"/>
                </a:cubicBezTo>
                <a:cubicBezTo>
                  <a:pt x="15911" y="15872"/>
                  <a:pt x="16000" y="15916"/>
                  <a:pt x="16073" y="15949"/>
                </a:cubicBezTo>
                <a:cubicBezTo>
                  <a:pt x="16146" y="15982"/>
                  <a:pt x="16150" y="16041"/>
                  <a:pt x="16197" y="16098"/>
                </a:cubicBezTo>
                <a:cubicBezTo>
                  <a:pt x="16254" y="16168"/>
                  <a:pt x="16237" y="16203"/>
                  <a:pt x="16272" y="16272"/>
                </a:cubicBezTo>
                <a:cubicBezTo>
                  <a:pt x="16294" y="16294"/>
                  <a:pt x="16303" y="16299"/>
                  <a:pt x="16297" y="16321"/>
                </a:cubicBezTo>
              </a:path>
              <a:path w="3498" h="1365">
                <a:moveTo>
                  <a:pt x="16842" y="15652"/>
                </a:moveTo>
                <a:cubicBezTo>
                  <a:pt x="16801" y="15587"/>
                  <a:pt x="16768" y="15509"/>
                  <a:pt x="16718" y="15453"/>
                </a:cubicBezTo>
                <a:cubicBezTo>
                  <a:pt x="16678" y="15408"/>
                  <a:pt x="16626" y="15382"/>
                  <a:pt x="16570" y="15379"/>
                </a:cubicBezTo>
                <a:cubicBezTo>
                  <a:pt x="16517" y="15376"/>
                  <a:pt x="16459" y="15385"/>
                  <a:pt x="16421" y="15429"/>
                </a:cubicBezTo>
                <a:cubicBezTo>
                  <a:pt x="16381" y="15476"/>
                  <a:pt x="16396" y="15546"/>
                  <a:pt x="16396" y="15602"/>
                </a:cubicBezTo>
                <a:cubicBezTo>
                  <a:pt x="16396" y="15688"/>
                  <a:pt x="16426" y="15774"/>
                  <a:pt x="16470" y="15850"/>
                </a:cubicBezTo>
                <a:cubicBezTo>
                  <a:pt x="16549" y="15986"/>
                  <a:pt x="16591" y="16125"/>
                  <a:pt x="16644" y="16272"/>
                </a:cubicBezTo>
                <a:cubicBezTo>
                  <a:pt x="16670" y="16345"/>
                  <a:pt x="16680" y="16379"/>
                  <a:pt x="16644" y="16446"/>
                </a:cubicBezTo>
                <a:cubicBezTo>
                  <a:pt x="16620" y="16490"/>
                  <a:pt x="16596" y="16514"/>
                  <a:pt x="16545" y="16520"/>
                </a:cubicBezTo>
                <a:cubicBezTo>
                  <a:pt x="16493" y="16526"/>
                  <a:pt x="16481" y="16505"/>
                  <a:pt x="16446" y="16470"/>
                </a:cubicBezTo>
                <a:cubicBezTo>
                  <a:pt x="16403" y="16427"/>
                  <a:pt x="16422" y="16398"/>
                  <a:pt x="16446" y="16346"/>
                </a:cubicBezTo>
                <a:cubicBezTo>
                  <a:pt x="16488" y="16255"/>
                  <a:pt x="16525" y="16170"/>
                  <a:pt x="16594" y="16098"/>
                </a:cubicBezTo>
                <a:cubicBezTo>
                  <a:pt x="16655" y="16034"/>
                  <a:pt x="16720" y="15973"/>
                  <a:pt x="16768" y="15900"/>
                </a:cubicBezTo>
                <a:cubicBezTo>
                  <a:pt x="16804" y="15846"/>
                  <a:pt x="16819" y="15824"/>
                  <a:pt x="16867" y="157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46760" y="5867280"/>
            <a:ext cx="2367000" cy="982800"/>
          </a:xfrm>
          <a:custGeom>
            <a:avLst/>
            <a:gdLst/>
            <a:ahLst/>
            <a:rect l="l" t="t" r="r" b="b"/>
            <a:pathLst>
              <a:path w="6574" h="2729">
                <a:moveTo>
                  <a:pt x="14684" y="16942"/>
                </a:moveTo>
                <a:cubicBezTo>
                  <a:pt x="14691" y="17000"/>
                  <a:pt x="14690" y="17038"/>
                  <a:pt x="14709" y="17090"/>
                </a:cubicBezTo>
                <a:cubicBezTo>
                  <a:pt x="14740" y="17178"/>
                  <a:pt x="14760" y="17273"/>
                  <a:pt x="14784" y="17363"/>
                </a:cubicBezTo>
                <a:cubicBezTo>
                  <a:pt x="14808" y="17456"/>
                  <a:pt x="14846" y="17566"/>
                  <a:pt x="14858" y="17661"/>
                </a:cubicBezTo>
                <a:cubicBezTo>
                  <a:pt x="14872" y="17768"/>
                  <a:pt x="14896" y="17877"/>
                  <a:pt x="14908" y="17983"/>
                </a:cubicBezTo>
                <a:cubicBezTo>
                  <a:pt x="14917" y="18067"/>
                  <a:pt x="14910" y="18175"/>
                  <a:pt x="14932" y="18256"/>
                </a:cubicBezTo>
                <a:cubicBezTo>
                  <a:pt x="14943" y="18297"/>
                  <a:pt x="15003" y="18399"/>
                  <a:pt x="14932" y="18306"/>
                </a:cubicBezTo>
              </a:path>
              <a:path w="6574" h="2729">
                <a:moveTo>
                  <a:pt x="15205" y="17016"/>
                </a:moveTo>
                <a:cubicBezTo>
                  <a:pt x="15178" y="17060"/>
                  <a:pt x="15165" y="17135"/>
                  <a:pt x="15156" y="17190"/>
                </a:cubicBezTo>
                <a:cubicBezTo>
                  <a:pt x="15141" y="17280"/>
                  <a:pt x="15120" y="17376"/>
                  <a:pt x="15106" y="17462"/>
                </a:cubicBezTo>
                <a:cubicBezTo>
                  <a:pt x="15098" y="17513"/>
                  <a:pt x="15088" y="17562"/>
                  <a:pt x="15081" y="17611"/>
                </a:cubicBezTo>
                <a:cubicBezTo>
                  <a:pt x="15077" y="17639"/>
                  <a:pt x="15094" y="17683"/>
                  <a:pt x="15106" y="17686"/>
                </a:cubicBezTo>
                <a:cubicBezTo>
                  <a:pt x="15167" y="17703"/>
                  <a:pt x="15202" y="17669"/>
                  <a:pt x="15255" y="17661"/>
                </a:cubicBezTo>
                <a:cubicBezTo>
                  <a:pt x="15335" y="17648"/>
                  <a:pt x="15422" y="17639"/>
                  <a:pt x="15503" y="17636"/>
                </a:cubicBezTo>
                <a:cubicBezTo>
                  <a:pt x="15602" y="17632"/>
                  <a:pt x="15699" y="17592"/>
                  <a:pt x="15801" y="17611"/>
                </a:cubicBezTo>
                <a:cubicBezTo>
                  <a:pt x="15889" y="17627"/>
                  <a:pt x="15957" y="17636"/>
                  <a:pt x="16049" y="17636"/>
                </a:cubicBezTo>
                <a:cubicBezTo>
                  <a:pt x="16107" y="17636"/>
                  <a:pt x="16137" y="17664"/>
                  <a:pt x="16173" y="17636"/>
                </a:cubicBezTo>
                <a:cubicBezTo>
                  <a:pt x="16197" y="17636"/>
                  <a:pt x="16205" y="17636"/>
                  <a:pt x="16197" y="17611"/>
                </a:cubicBezTo>
              </a:path>
              <a:path w="6574" h="2729">
                <a:moveTo>
                  <a:pt x="15801" y="16942"/>
                </a:moveTo>
                <a:cubicBezTo>
                  <a:pt x="15819" y="16992"/>
                  <a:pt x="15813" y="17034"/>
                  <a:pt x="15825" y="17090"/>
                </a:cubicBezTo>
                <a:cubicBezTo>
                  <a:pt x="15851" y="17208"/>
                  <a:pt x="15850" y="17316"/>
                  <a:pt x="15850" y="17438"/>
                </a:cubicBezTo>
                <a:cubicBezTo>
                  <a:pt x="15850" y="17567"/>
                  <a:pt x="15864" y="17685"/>
                  <a:pt x="15875" y="17810"/>
                </a:cubicBezTo>
                <a:cubicBezTo>
                  <a:pt x="15885" y="17926"/>
                  <a:pt x="15896" y="18043"/>
                  <a:pt x="15900" y="18157"/>
                </a:cubicBezTo>
                <a:cubicBezTo>
                  <a:pt x="15902" y="18221"/>
                  <a:pt x="15916" y="18282"/>
                  <a:pt x="15949" y="18331"/>
                </a:cubicBezTo>
                <a:cubicBezTo>
                  <a:pt x="15974" y="18355"/>
                  <a:pt x="15982" y="18363"/>
                  <a:pt x="15999" y="18331"/>
                </a:cubicBezTo>
              </a:path>
              <a:path w="6574" h="2729">
                <a:moveTo>
                  <a:pt x="16346" y="17066"/>
                </a:moveTo>
                <a:cubicBezTo>
                  <a:pt x="16361" y="17111"/>
                  <a:pt x="16358" y="17095"/>
                  <a:pt x="16371" y="17165"/>
                </a:cubicBezTo>
                <a:cubicBezTo>
                  <a:pt x="16392" y="17277"/>
                  <a:pt x="16396" y="17373"/>
                  <a:pt x="16396" y="17487"/>
                </a:cubicBezTo>
                <a:cubicBezTo>
                  <a:pt x="16396" y="17607"/>
                  <a:pt x="16375" y="17716"/>
                  <a:pt x="16371" y="17835"/>
                </a:cubicBezTo>
                <a:cubicBezTo>
                  <a:pt x="16366" y="17996"/>
                  <a:pt x="16378" y="18154"/>
                  <a:pt x="16396" y="18306"/>
                </a:cubicBezTo>
                <a:cubicBezTo>
                  <a:pt x="16403" y="18364"/>
                  <a:pt x="16390" y="18427"/>
                  <a:pt x="16421" y="18479"/>
                </a:cubicBezTo>
                <a:cubicBezTo>
                  <a:pt x="16429" y="18487"/>
                  <a:pt x="16438" y="18496"/>
                  <a:pt x="16446" y="18504"/>
                </a:cubicBezTo>
              </a:path>
              <a:path w="6574" h="2729">
                <a:moveTo>
                  <a:pt x="16966" y="18231"/>
                </a:moveTo>
                <a:cubicBezTo>
                  <a:pt x="17013" y="18247"/>
                  <a:pt x="16969" y="18263"/>
                  <a:pt x="17016" y="18231"/>
                </a:cubicBezTo>
              </a:path>
              <a:path w="6574" h="2729">
                <a:moveTo>
                  <a:pt x="17140" y="17190"/>
                </a:moveTo>
                <a:cubicBezTo>
                  <a:pt x="17192" y="17153"/>
                  <a:pt x="17271" y="17077"/>
                  <a:pt x="17338" y="17066"/>
                </a:cubicBezTo>
                <a:cubicBezTo>
                  <a:pt x="17432" y="17050"/>
                  <a:pt x="17496" y="17036"/>
                  <a:pt x="17587" y="17066"/>
                </a:cubicBezTo>
                <a:cubicBezTo>
                  <a:pt x="17690" y="17100"/>
                  <a:pt x="17750" y="17121"/>
                  <a:pt x="17810" y="17214"/>
                </a:cubicBezTo>
                <a:cubicBezTo>
                  <a:pt x="17846" y="17270"/>
                  <a:pt x="17833" y="17307"/>
                  <a:pt x="17810" y="17363"/>
                </a:cubicBezTo>
                <a:cubicBezTo>
                  <a:pt x="17781" y="17433"/>
                  <a:pt x="17714" y="17443"/>
                  <a:pt x="17661" y="17462"/>
                </a:cubicBezTo>
                <a:cubicBezTo>
                  <a:pt x="17599" y="17484"/>
                  <a:pt x="17551" y="17525"/>
                  <a:pt x="17487" y="17537"/>
                </a:cubicBezTo>
                <a:cubicBezTo>
                  <a:pt x="17462" y="17537"/>
                  <a:pt x="17454" y="17537"/>
                  <a:pt x="17438" y="17537"/>
                </a:cubicBezTo>
                <a:cubicBezTo>
                  <a:pt x="17519" y="17537"/>
                  <a:pt x="17583" y="17551"/>
                  <a:pt x="17661" y="17562"/>
                </a:cubicBezTo>
                <a:cubicBezTo>
                  <a:pt x="17755" y="17575"/>
                  <a:pt x="17819" y="17569"/>
                  <a:pt x="17909" y="17611"/>
                </a:cubicBezTo>
                <a:cubicBezTo>
                  <a:pt x="17986" y="17647"/>
                  <a:pt x="18043" y="17711"/>
                  <a:pt x="18083" y="17785"/>
                </a:cubicBezTo>
                <a:cubicBezTo>
                  <a:pt x="18126" y="17865"/>
                  <a:pt x="18144" y="17899"/>
                  <a:pt x="18107" y="17983"/>
                </a:cubicBezTo>
                <a:cubicBezTo>
                  <a:pt x="18070" y="18068"/>
                  <a:pt x="17978" y="18104"/>
                  <a:pt x="17909" y="18157"/>
                </a:cubicBezTo>
                <a:cubicBezTo>
                  <a:pt x="17857" y="18197"/>
                  <a:pt x="17803" y="18217"/>
                  <a:pt x="17735" y="18207"/>
                </a:cubicBezTo>
                <a:cubicBezTo>
                  <a:pt x="17687" y="18200"/>
                  <a:pt x="17639" y="18176"/>
                  <a:pt x="17611" y="18132"/>
                </a:cubicBezTo>
                <a:cubicBezTo>
                  <a:pt x="17593" y="18104"/>
                  <a:pt x="17592" y="18069"/>
                  <a:pt x="17587" y="18033"/>
                </a:cubicBezTo>
              </a:path>
              <a:path w="6574" h="2729">
                <a:moveTo>
                  <a:pt x="18306" y="17537"/>
                </a:moveTo>
                <a:cubicBezTo>
                  <a:pt x="18326" y="17497"/>
                  <a:pt x="18378" y="17475"/>
                  <a:pt x="18430" y="17462"/>
                </a:cubicBezTo>
                <a:cubicBezTo>
                  <a:pt x="18473" y="17451"/>
                  <a:pt x="18508" y="17438"/>
                  <a:pt x="18554" y="17438"/>
                </a:cubicBezTo>
                <a:cubicBezTo>
                  <a:pt x="18603" y="17438"/>
                  <a:pt x="18633" y="17422"/>
                  <a:pt x="18678" y="17413"/>
                </a:cubicBezTo>
              </a:path>
              <a:path w="6574" h="2729">
                <a:moveTo>
                  <a:pt x="18380" y="17760"/>
                </a:moveTo>
                <a:cubicBezTo>
                  <a:pt x="18486" y="17792"/>
                  <a:pt x="18460" y="17783"/>
                  <a:pt x="18554" y="17760"/>
                </a:cubicBezTo>
                <a:cubicBezTo>
                  <a:pt x="18602" y="17748"/>
                  <a:pt x="18661" y="17719"/>
                  <a:pt x="18703" y="17711"/>
                </a:cubicBezTo>
                <a:cubicBezTo>
                  <a:pt x="18719" y="17711"/>
                  <a:pt x="18736" y="17711"/>
                  <a:pt x="18752" y="17711"/>
                </a:cubicBezTo>
              </a:path>
              <a:path w="6574" h="2729">
                <a:moveTo>
                  <a:pt x="19000" y="17190"/>
                </a:moveTo>
                <a:cubicBezTo>
                  <a:pt x="19067" y="17255"/>
                  <a:pt x="19069" y="17263"/>
                  <a:pt x="19100" y="17363"/>
                </a:cubicBezTo>
                <a:cubicBezTo>
                  <a:pt x="19129" y="17456"/>
                  <a:pt x="19172" y="17542"/>
                  <a:pt x="19199" y="17636"/>
                </a:cubicBezTo>
                <a:cubicBezTo>
                  <a:pt x="19228" y="17738"/>
                  <a:pt x="19250" y="17836"/>
                  <a:pt x="19273" y="17934"/>
                </a:cubicBezTo>
                <a:cubicBezTo>
                  <a:pt x="19293" y="18020"/>
                  <a:pt x="19354" y="18098"/>
                  <a:pt x="19372" y="18182"/>
                </a:cubicBezTo>
                <a:cubicBezTo>
                  <a:pt x="19387" y="18252"/>
                  <a:pt x="19399" y="18277"/>
                  <a:pt x="19472" y="18306"/>
                </a:cubicBezTo>
              </a:path>
              <a:path w="6574" h="2729">
                <a:moveTo>
                  <a:pt x="19695" y="17239"/>
                </a:moveTo>
                <a:cubicBezTo>
                  <a:pt x="19688" y="17296"/>
                  <a:pt x="19677" y="17335"/>
                  <a:pt x="19645" y="17388"/>
                </a:cubicBezTo>
                <a:cubicBezTo>
                  <a:pt x="19591" y="17478"/>
                  <a:pt x="19515" y="17581"/>
                  <a:pt x="19447" y="17661"/>
                </a:cubicBezTo>
                <a:cubicBezTo>
                  <a:pt x="19370" y="17750"/>
                  <a:pt x="19300" y="17845"/>
                  <a:pt x="19224" y="17934"/>
                </a:cubicBezTo>
                <a:cubicBezTo>
                  <a:pt x="19165" y="18002"/>
                  <a:pt x="19104" y="18062"/>
                  <a:pt x="19050" y="18132"/>
                </a:cubicBezTo>
                <a:cubicBezTo>
                  <a:pt x="19029" y="18159"/>
                  <a:pt x="19000" y="18183"/>
                  <a:pt x="18976" y="18207"/>
                </a:cubicBezTo>
              </a:path>
              <a:path w="6574" h="2729">
                <a:moveTo>
                  <a:pt x="14064" y="17239"/>
                </a:moveTo>
                <a:cubicBezTo>
                  <a:pt x="14089" y="17193"/>
                  <a:pt x="14109" y="17139"/>
                  <a:pt x="14139" y="17090"/>
                </a:cubicBezTo>
                <a:cubicBezTo>
                  <a:pt x="14178" y="17025"/>
                  <a:pt x="14209" y="16944"/>
                  <a:pt x="14263" y="16892"/>
                </a:cubicBezTo>
                <a:cubicBezTo>
                  <a:pt x="14313" y="16843"/>
                  <a:pt x="14394" y="16796"/>
                  <a:pt x="14461" y="16768"/>
                </a:cubicBezTo>
                <a:cubicBezTo>
                  <a:pt x="14559" y="16727"/>
                  <a:pt x="14665" y="16735"/>
                  <a:pt x="14759" y="16768"/>
                </a:cubicBezTo>
                <a:cubicBezTo>
                  <a:pt x="14819" y="16789"/>
                  <a:pt x="14833" y="16811"/>
                  <a:pt x="14883" y="16842"/>
                </a:cubicBezTo>
                <a:cubicBezTo>
                  <a:pt x="14904" y="16855"/>
                  <a:pt x="14838" y="16826"/>
                  <a:pt x="14858" y="16842"/>
                </a:cubicBezTo>
                <a:cubicBezTo>
                  <a:pt x="14875" y="16814"/>
                  <a:pt x="14864" y="16743"/>
                  <a:pt x="14883" y="16718"/>
                </a:cubicBezTo>
                <a:cubicBezTo>
                  <a:pt x="14941" y="16640"/>
                  <a:pt x="15001" y="16614"/>
                  <a:pt x="15081" y="16570"/>
                </a:cubicBezTo>
                <a:cubicBezTo>
                  <a:pt x="15200" y="16505"/>
                  <a:pt x="15316" y="16477"/>
                  <a:pt x="15453" y="16495"/>
                </a:cubicBezTo>
                <a:cubicBezTo>
                  <a:pt x="15533" y="16506"/>
                  <a:pt x="15601" y="16536"/>
                  <a:pt x="15677" y="16570"/>
                </a:cubicBezTo>
                <a:cubicBezTo>
                  <a:pt x="15692" y="16577"/>
                  <a:pt x="15791" y="16645"/>
                  <a:pt x="15801" y="16644"/>
                </a:cubicBezTo>
                <a:cubicBezTo>
                  <a:pt x="15860" y="16640"/>
                  <a:pt x="15851" y="16618"/>
                  <a:pt x="15900" y="16594"/>
                </a:cubicBezTo>
                <a:cubicBezTo>
                  <a:pt x="15977" y="16556"/>
                  <a:pt x="16038" y="16486"/>
                  <a:pt x="16123" y="16446"/>
                </a:cubicBezTo>
                <a:cubicBezTo>
                  <a:pt x="16280" y="16371"/>
                  <a:pt x="16472" y="16352"/>
                  <a:pt x="16644" y="16371"/>
                </a:cubicBezTo>
                <a:cubicBezTo>
                  <a:pt x="16875" y="16396"/>
                  <a:pt x="16944" y="16435"/>
                  <a:pt x="17115" y="16520"/>
                </a:cubicBezTo>
                <a:cubicBezTo>
                  <a:pt x="17148" y="16536"/>
                  <a:pt x="17257" y="16627"/>
                  <a:pt x="17289" y="16619"/>
                </a:cubicBezTo>
                <a:cubicBezTo>
                  <a:pt x="17343" y="16605"/>
                  <a:pt x="17356" y="16519"/>
                  <a:pt x="17413" y="16495"/>
                </a:cubicBezTo>
                <a:cubicBezTo>
                  <a:pt x="17502" y="16457"/>
                  <a:pt x="17595" y="16428"/>
                  <a:pt x="17686" y="16396"/>
                </a:cubicBezTo>
                <a:cubicBezTo>
                  <a:pt x="17808" y="16354"/>
                  <a:pt x="17955" y="16297"/>
                  <a:pt x="18083" y="16297"/>
                </a:cubicBezTo>
                <a:cubicBezTo>
                  <a:pt x="18177" y="16297"/>
                  <a:pt x="18287" y="16306"/>
                  <a:pt x="18380" y="16321"/>
                </a:cubicBezTo>
                <a:cubicBezTo>
                  <a:pt x="18465" y="16335"/>
                  <a:pt x="18541" y="16365"/>
                  <a:pt x="18628" y="16371"/>
                </a:cubicBezTo>
                <a:cubicBezTo>
                  <a:pt x="18734" y="16378"/>
                  <a:pt x="18806" y="16330"/>
                  <a:pt x="18901" y="16321"/>
                </a:cubicBezTo>
                <a:cubicBezTo>
                  <a:pt x="19141" y="16299"/>
                  <a:pt x="19356" y="16340"/>
                  <a:pt x="19571" y="16446"/>
                </a:cubicBezTo>
                <a:cubicBezTo>
                  <a:pt x="19680" y="16499"/>
                  <a:pt x="19799" y="16562"/>
                  <a:pt x="19893" y="16644"/>
                </a:cubicBezTo>
                <a:cubicBezTo>
                  <a:pt x="20005" y="16742"/>
                  <a:pt x="20140" y="16862"/>
                  <a:pt x="20216" y="16991"/>
                </a:cubicBezTo>
                <a:cubicBezTo>
                  <a:pt x="20257" y="17060"/>
                  <a:pt x="20318" y="17205"/>
                  <a:pt x="20315" y="17289"/>
                </a:cubicBezTo>
                <a:cubicBezTo>
                  <a:pt x="20313" y="17341"/>
                  <a:pt x="20251" y="17500"/>
                  <a:pt x="20216" y="17537"/>
                </a:cubicBezTo>
                <a:cubicBezTo>
                  <a:pt x="20168" y="17589"/>
                  <a:pt x="20053" y="17621"/>
                  <a:pt x="19993" y="17636"/>
                </a:cubicBezTo>
                <a:cubicBezTo>
                  <a:pt x="19953" y="17646"/>
                  <a:pt x="19884" y="17570"/>
                  <a:pt x="19893" y="17611"/>
                </a:cubicBezTo>
                <a:cubicBezTo>
                  <a:pt x="19903" y="17654"/>
                  <a:pt x="19969" y="17650"/>
                  <a:pt x="19993" y="17686"/>
                </a:cubicBezTo>
                <a:cubicBezTo>
                  <a:pt x="20035" y="17748"/>
                  <a:pt x="20086" y="17816"/>
                  <a:pt x="20117" y="17884"/>
                </a:cubicBezTo>
                <a:cubicBezTo>
                  <a:pt x="20163" y="17985"/>
                  <a:pt x="20182" y="18089"/>
                  <a:pt x="20166" y="18207"/>
                </a:cubicBezTo>
                <a:cubicBezTo>
                  <a:pt x="20153" y="18301"/>
                  <a:pt x="20118" y="18329"/>
                  <a:pt x="20067" y="18405"/>
                </a:cubicBezTo>
                <a:cubicBezTo>
                  <a:pt x="20012" y="18486"/>
                  <a:pt x="19956" y="18555"/>
                  <a:pt x="19869" y="18604"/>
                </a:cubicBezTo>
                <a:cubicBezTo>
                  <a:pt x="19799" y="18643"/>
                  <a:pt x="19723" y="18665"/>
                  <a:pt x="19645" y="18678"/>
                </a:cubicBezTo>
                <a:cubicBezTo>
                  <a:pt x="19568" y="18690"/>
                  <a:pt x="19491" y="18673"/>
                  <a:pt x="19422" y="18653"/>
                </a:cubicBezTo>
                <a:cubicBezTo>
                  <a:pt x="19363" y="18636"/>
                  <a:pt x="19331" y="18596"/>
                  <a:pt x="19273" y="18579"/>
                </a:cubicBezTo>
                <a:cubicBezTo>
                  <a:pt x="19237" y="18568"/>
                  <a:pt x="19188" y="18566"/>
                  <a:pt x="19149" y="18554"/>
                </a:cubicBezTo>
                <a:cubicBezTo>
                  <a:pt x="19125" y="18610"/>
                  <a:pt x="19106" y="18670"/>
                  <a:pt x="19075" y="18728"/>
                </a:cubicBezTo>
                <a:cubicBezTo>
                  <a:pt x="19038" y="18799"/>
                  <a:pt x="19011" y="18846"/>
                  <a:pt x="18951" y="18901"/>
                </a:cubicBezTo>
                <a:cubicBezTo>
                  <a:pt x="18681" y="19152"/>
                  <a:pt x="17965" y="19033"/>
                  <a:pt x="17785" y="19025"/>
                </a:cubicBezTo>
                <a:cubicBezTo>
                  <a:pt x="17680" y="19020"/>
                  <a:pt x="17511" y="18967"/>
                  <a:pt x="17413" y="18926"/>
                </a:cubicBezTo>
                <a:cubicBezTo>
                  <a:pt x="17330" y="18891"/>
                  <a:pt x="17247" y="18821"/>
                  <a:pt x="17190" y="18752"/>
                </a:cubicBezTo>
                <a:cubicBezTo>
                  <a:pt x="17143" y="18695"/>
                  <a:pt x="17106" y="18601"/>
                  <a:pt x="17041" y="18579"/>
                </a:cubicBezTo>
                <a:cubicBezTo>
                  <a:pt x="16976" y="18557"/>
                  <a:pt x="17007" y="18553"/>
                  <a:pt x="16942" y="18579"/>
                </a:cubicBezTo>
                <a:cubicBezTo>
                  <a:pt x="16867" y="18608"/>
                  <a:pt x="16834" y="18755"/>
                  <a:pt x="16793" y="18802"/>
                </a:cubicBezTo>
                <a:cubicBezTo>
                  <a:pt x="16481" y="19160"/>
                  <a:pt x="16308" y="19090"/>
                  <a:pt x="15677" y="19025"/>
                </a:cubicBezTo>
                <a:cubicBezTo>
                  <a:pt x="15529" y="19010"/>
                  <a:pt x="15391" y="18883"/>
                  <a:pt x="15280" y="18802"/>
                </a:cubicBezTo>
                <a:cubicBezTo>
                  <a:pt x="15174" y="18724"/>
                  <a:pt x="15116" y="18665"/>
                  <a:pt x="15056" y="18554"/>
                </a:cubicBezTo>
                <a:cubicBezTo>
                  <a:pt x="15004" y="18458"/>
                  <a:pt x="14999" y="18383"/>
                  <a:pt x="14982" y="18281"/>
                </a:cubicBezTo>
                <a:cubicBezTo>
                  <a:pt x="14982" y="18264"/>
                  <a:pt x="14982" y="18248"/>
                  <a:pt x="14982" y="18231"/>
                </a:cubicBezTo>
                <a:cubicBezTo>
                  <a:pt x="14966" y="18260"/>
                  <a:pt x="15021" y="18177"/>
                  <a:pt x="15007" y="18207"/>
                </a:cubicBezTo>
                <a:cubicBezTo>
                  <a:pt x="14978" y="18269"/>
                  <a:pt x="14942" y="18323"/>
                  <a:pt x="14883" y="18355"/>
                </a:cubicBezTo>
                <a:cubicBezTo>
                  <a:pt x="14797" y="18401"/>
                  <a:pt x="14707" y="18429"/>
                  <a:pt x="14610" y="18430"/>
                </a:cubicBezTo>
                <a:cubicBezTo>
                  <a:pt x="14486" y="18432"/>
                  <a:pt x="14353" y="18404"/>
                  <a:pt x="14238" y="18355"/>
                </a:cubicBezTo>
                <a:cubicBezTo>
                  <a:pt x="14074" y="18286"/>
                  <a:pt x="13989" y="18205"/>
                  <a:pt x="13891" y="18058"/>
                </a:cubicBezTo>
                <a:cubicBezTo>
                  <a:pt x="13824" y="17957"/>
                  <a:pt x="13761" y="17832"/>
                  <a:pt x="13742" y="17711"/>
                </a:cubicBezTo>
                <a:cubicBezTo>
                  <a:pt x="13703" y="17464"/>
                  <a:pt x="13785" y="17329"/>
                  <a:pt x="13965" y="17165"/>
                </a:cubicBezTo>
                <a:cubicBezTo>
                  <a:pt x="13998" y="17148"/>
                  <a:pt x="14031" y="17132"/>
                  <a:pt x="14064" y="171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7040" y="3867120"/>
            <a:ext cx="285840" cy="347760"/>
          </a:xfrm>
          <a:custGeom>
            <a:avLst/>
            <a:gdLst/>
            <a:ahLst/>
            <a:rect l="l" t="t" r="r" b="b"/>
            <a:pathLst>
              <a:path w="795" h="969">
                <a:moveTo>
                  <a:pt x="1885" y="10964"/>
                </a:moveTo>
                <a:cubicBezTo>
                  <a:pt x="1810" y="10964"/>
                  <a:pt x="1729" y="10950"/>
                  <a:pt x="1662" y="10988"/>
                </a:cubicBezTo>
                <a:cubicBezTo>
                  <a:pt x="1622" y="11011"/>
                  <a:pt x="1573" y="11057"/>
                  <a:pt x="1538" y="11088"/>
                </a:cubicBezTo>
                <a:cubicBezTo>
                  <a:pt x="1503" y="11119"/>
                  <a:pt x="1473" y="11144"/>
                  <a:pt x="1463" y="11187"/>
                </a:cubicBezTo>
                <a:cubicBezTo>
                  <a:pt x="1454" y="11226"/>
                  <a:pt x="1476" y="11269"/>
                  <a:pt x="1513" y="11286"/>
                </a:cubicBezTo>
                <a:cubicBezTo>
                  <a:pt x="1591" y="11323"/>
                  <a:pt x="1640" y="11363"/>
                  <a:pt x="1712" y="11410"/>
                </a:cubicBezTo>
                <a:cubicBezTo>
                  <a:pt x="1796" y="11465"/>
                  <a:pt x="1875" y="11505"/>
                  <a:pt x="1910" y="11609"/>
                </a:cubicBezTo>
                <a:cubicBezTo>
                  <a:pt x="1921" y="11643"/>
                  <a:pt x="1895" y="11698"/>
                  <a:pt x="1860" y="11708"/>
                </a:cubicBezTo>
                <a:cubicBezTo>
                  <a:pt x="1807" y="11723"/>
                  <a:pt x="1733" y="11709"/>
                  <a:pt x="1687" y="11683"/>
                </a:cubicBezTo>
                <a:cubicBezTo>
                  <a:pt x="1630" y="11650"/>
                  <a:pt x="1640" y="11588"/>
                  <a:pt x="1637" y="11534"/>
                </a:cubicBezTo>
                <a:cubicBezTo>
                  <a:pt x="1633" y="11450"/>
                  <a:pt x="1649" y="11387"/>
                  <a:pt x="1662" y="11311"/>
                </a:cubicBezTo>
                <a:cubicBezTo>
                  <a:pt x="1674" y="11238"/>
                  <a:pt x="1690" y="11157"/>
                  <a:pt x="1712" y="11088"/>
                </a:cubicBezTo>
                <a:cubicBezTo>
                  <a:pt x="1732" y="11028"/>
                  <a:pt x="1769" y="10960"/>
                  <a:pt x="1811" y="10914"/>
                </a:cubicBezTo>
                <a:cubicBezTo>
                  <a:pt x="1838" y="10884"/>
                  <a:pt x="1857" y="10880"/>
                  <a:pt x="1885" y="10864"/>
                </a:cubicBezTo>
                <a:cubicBezTo>
                  <a:pt x="1904" y="10896"/>
                  <a:pt x="1908" y="10908"/>
                  <a:pt x="1910" y="10964"/>
                </a:cubicBezTo>
                <a:cubicBezTo>
                  <a:pt x="1913" y="11035"/>
                  <a:pt x="1922" y="11124"/>
                  <a:pt x="1960" y="11187"/>
                </a:cubicBezTo>
                <a:cubicBezTo>
                  <a:pt x="1984" y="11227"/>
                  <a:pt x="2039" y="11292"/>
                  <a:pt x="2084" y="11286"/>
                </a:cubicBezTo>
                <a:cubicBezTo>
                  <a:pt x="2106" y="11283"/>
                  <a:pt x="2192" y="11255"/>
                  <a:pt x="2208" y="11237"/>
                </a:cubicBezTo>
                <a:cubicBezTo>
                  <a:pt x="2236" y="11207"/>
                  <a:pt x="2266" y="11077"/>
                  <a:pt x="2257" y="11038"/>
                </a:cubicBezTo>
                <a:cubicBezTo>
                  <a:pt x="2236" y="10942"/>
                  <a:pt x="2159" y="10880"/>
                  <a:pt x="2108" y="10815"/>
                </a:cubicBezTo>
                <a:cubicBezTo>
                  <a:pt x="2065" y="10761"/>
                  <a:pt x="2034" y="10744"/>
                  <a:pt x="1960" y="10740"/>
                </a:cubicBezTo>
                <a:cubicBezTo>
                  <a:pt x="1915" y="10737"/>
                  <a:pt x="1921" y="10743"/>
                  <a:pt x="1885" y="107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03200" y="3625920"/>
            <a:ext cx="393840" cy="446040"/>
          </a:xfrm>
          <a:custGeom>
            <a:avLst/>
            <a:gdLst/>
            <a:ahLst/>
            <a:rect l="l" t="t" r="r" b="b"/>
            <a:pathLst>
              <a:path w="1093" h="1241">
                <a:moveTo>
                  <a:pt x="3696" y="10145"/>
                </a:moveTo>
                <a:cubicBezTo>
                  <a:pt x="3696" y="10199"/>
                  <a:pt x="3685" y="10255"/>
                  <a:pt x="3746" y="10269"/>
                </a:cubicBezTo>
                <a:cubicBezTo>
                  <a:pt x="3815" y="10284"/>
                  <a:pt x="3796" y="10222"/>
                  <a:pt x="3845" y="10195"/>
                </a:cubicBezTo>
                <a:cubicBezTo>
                  <a:pt x="3878" y="10195"/>
                  <a:pt x="3887" y="10187"/>
                  <a:pt x="3870" y="10145"/>
                </a:cubicBezTo>
                <a:cubicBezTo>
                  <a:pt x="3790" y="10145"/>
                  <a:pt x="3822" y="10157"/>
                  <a:pt x="3746" y="10195"/>
                </a:cubicBezTo>
                <a:cubicBezTo>
                  <a:pt x="3685" y="10226"/>
                  <a:pt x="3685" y="10175"/>
                  <a:pt x="3671" y="10269"/>
                </a:cubicBezTo>
                <a:cubicBezTo>
                  <a:pt x="3730" y="10269"/>
                  <a:pt x="3777" y="10261"/>
                  <a:pt x="3795" y="10195"/>
                </a:cubicBezTo>
                <a:cubicBezTo>
                  <a:pt x="3822" y="10092"/>
                  <a:pt x="3784" y="10103"/>
                  <a:pt x="3746" y="10120"/>
                </a:cubicBezTo>
                <a:cubicBezTo>
                  <a:pt x="3687" y="10146"/>
                  <a:pt x="3656" y="10112"/>
                  <a:pt x="3621" y="10195"/>
                </a:cubicBezTo>
                <a:cubicBezTo>
                  <a:pt x="3603" y="10237"/>
                  <a:pt x="3624" y="10255"/>
                  <a:pt x="3646" y="10269"/>
                </a:cubicBezTo>
                <a:cubicBezTo>
                  <a:pt x="3707" y="10269"/>
                  <a:pt x="3746" y="10288"/>
                  <a:pt x="3770" y="10220"/>
                </a:cubicBezTo>
                <a:cubicBezTo>
                  <a:pt x="3786" y="10174"/>
                  <a:pt x="3786" y="10183"/>
                  <a:pt x="3770" y="10145"/>
                </a:cubicBezTo>
                <a:cubicBezTo>
                  <a:pt x="3770" y="10137"/>
                  <a:pt x="3770" y="10128"/>
                  <a:pt x="3770" y="10120"/>
                </a:cubicBezTo>
                <a:cubicBezTo>
                  <a:pt x="3734" y="10148"/>
                  <a:pt x="3691" y="10186"/>
                  <a:pt x="3646" y="10195"/>
                </a:cubicBezTo>
                <a:cubicBezTo>
                  <a:pt x="3621" y="10195"/>
                  <a:pt x="3613" y="10195"/>
                  <a:pt x="3621" y="10220"/>
                </a:cubicBezTo>
              </a:path>
              <a:path w="1093" h="1241">
                <a:moveTo>
                  <a:pt x="3696" y="10716"/>
                </a:moveTo>
                <a:cubicBezTo>
                  <a:pt x="3696" y="10775"/>
                  <a:pt x="3677" y="10809"/>
                  <a:pt x="3671" y="10864"/>
                </a:cubicBezTo>
                <a:cubicBezTo>
                  <a:pt x="3660" y="10973"/>
                  <a:pt x="3665" y="11140"/>
                  <a:pt x="3696" y="11212"/>
                </a:cubicBezTo>
                <a:cubicBezTo>
                  <a:pt x="3715" y="11256"/>
                  <a:pt x="3674" y="11274"/>
                  <a:pt x="3721" y="11212"/>
                </a:cubicBezTo>
              </a:path>
              <a:path w="1093" h="1241">
                <a:moveTo>
                  <a:pt x="3919" y="10716"/>
                </a:moveTo>
                <a:cubicBezTo>
                  <a:pt x="3980" y="10716"/>
                  <a:pt x="4046" y="10703"/>
                  <a:pt x="4093" y="10740"/>
                </a:cubicBezTo>
                <a:cubicBezTo>
                  <a:pt x="4126" y="10766"/>
                  <a:pt x="4162" y="10800"/>
                  <a:pt x="4167" y="10840"/>
                </a:cubicBezTo>
                <a:cubicBezTo>
                  <a:pt x="4173" y="10890"/>
                  <a:pt x="4155" y="10900"/>
                  <a:pt x="4142" y="10939"/>
                </a:cubicBezTo>
                <a:cubicBezTo>
                  <a:pt x="4129" y="10977"/>
                  <a:pt x="4121" y="11006"/>
                  <a:pt x="4093" y="11038"/>
                </a:cubicBezTo>
                <a:cubicBezTo>
                  <a:pt x="4056" y="11080"/>
                  <a:pt x="4064" y="11099"/>
                  <a:pt x="4043" y="11137"/>
                </a:cubicBezTo>
                <a:cubicBezTo>
                  <a:pt x="4009" y="11198"/>
                  <a:pt x="4018" y="11179"/>
                  <a:pt x="4068" y="11212"/>
                </a:cubicBezTo>
                <a:cubicBezTo>
                  <a:pt x="4119" y="11246"/>
                  <a:pt x="4154" y="11225"/>
                  <a:pt x="4217" y="11187"/>
                </a:cubicBezTo>
                <a:cubicBezTo>
                  <a:pt x="4242" y="11162"/>
                  <a:pt x="4250" y="11154"/>
                  <a:pt x="4266" y="11137"/>
                </a:cubicBezTo>
              </a:path>
              <a:path w="1093" h="1241">
                <a:moveTo>
                  <a:pt x="4390" y="10765"/>
                </a:moveTo>
                <a:cubicBezTo>
                  <a:pt x="4412" y="10817"/>
                  <a:pt x="4415" y="10835"/>
                  <a:pt x="4415" y="10889"/>
                </a:cubicBezTo>
                <a:cubicBezTo>
                  <a:pt x="4415" y="10943"/>
                  <a:pt x="4428" y="10972"/>
                  <a:pt x="4465" y="11013"/>
                </a:cubicBezTo>
                <a:cubicBezTo>
                  <a:pt x="4476" y="11026"/>
                  <a:pt x="4545" y="11062"/>
                  <a:pt x="4564" y="11038"/>
                </a:cubicBezTo>
                <a:cubicBezTo>
                  <a:pt x="4564" y="11030"/>
                  <a:pt x="4564" y="11021"/>
                  <a:pt x="4564" y="11013"/>
                </a:cubicBezTo>
              </a:path>
              <a:path w="1093" h="1241">
                <a:moveTo>
                  <a:pt x="4663" y="10691"/>
                </a:moveTo>
                <a:cubicBezTo>
                  <a:pt x="4663" y="10861"/>
                  <a:pt x="4642" y="11059"/>
                  <a:pt x="4688" y="11212"/>
                </a:cubicBezTo>
                <a:cubicBezTo>
                  <a:pt x="4699" y="11250"/>
                  <a:pt x="4705" y="11270"/>
                  <a:pt x="4713" y="11286"/>
                </a:cubicBezTo>
                <a:cubicBezTo>
                  <a:pt x="4713" y="11294"/>
                  <a:pt x="4713" y="11303"/>
                  <a:pt x="4713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5800" y="4044960"/>
            <a:ext cx="320400" cy="233280"/>
          </a:xfrm>
          <a:custGeom>
            <a:avLst/>
            <a:gdLst/>
            <a:ahLst/>
            <a:rect l="l" t="t" r="r" b="b"/>
            <a:pathLst>
              <a:path w="893" h="645">
                <a:moveTo>
                  <a:pt x="6201" y="11311"/>
                </a:moveTo>
                <a:cubicBezTo>
                  <a:pt x="6193" y="11278"/>
                  <a:pt x="6164" y="11245"/>
                  <a:pt x="6127" y="11237"/>
                </a:cubicBezTo>
                <a:cubicBezTo>
                  <a:pt x="6070" y="11225"/>
                  <a:pt x="5977" y="11229"/>
                  <a:pt x="5928" y="11261"/>
                </a:cubicBezTo>
                <a:cubicBezTo>
                  <a:pt x="5897" y="11282"/>
                  <a:pt x="5894" y="11351"/>
                  <a:pt x="5904" y="11385"/>
                </a:cubicBezTo>
                <a:cubicBezTo>
                  <a:pt x="5930" y="11476"/>
                  <a:pt x="5983" y="11576"/>
                  <a:pt x="6028" y="11658"/>
                </a:cubicBezTo>
                <a:cubicBezTo>
                  <a:pt x="6091" y="11775"/>
                  <a:pt x="6102" y="11774"/>
                  <a:pt x="6102" y="11881"/>
                </a:cubicBezTo>
                <a:cubicBezTo>
                  <a:pt x="6053" y="11881"/>
                  <a:pt x="6043" y="11870"/>
                  <a:pt x="6003" y="11857"/>
                </a:cubicBezTo>
                <a:cubicBezTo>
                  <a:pt x="5955" y="11842"/>
                  <a:pt x="5942" y="11813"/>
                  <a:pt x="5928" y="11757"/>
                </a:cubicBezTo>
                <a:cubicBezTo>
                  <a:pt x="5922" y="11733"/>
                  <a:pt x="5989" y="11652"/>
                  <a:pt x="6003" y="11633"/>
                </a:cubicBezTo>
                <a:cubicBezTo>
                  <a:pt x="6036" y="11589"/>
                  <a:pt x="6147" y="11555"/>
                  <a:pt x="6201" y="11534"/>
                </a:cubicBezTo>
                <a:cubicBezTo>
                  <a:pt x="6260" y="11511"/>
                  <a:pt x="6348" y="11517"/>
                  <a:pt x="6400" y="11485"/>
                </a:cubicBezTo>
                <a:cubicBezTo>
                  <a:pt x="6438" y="11462"/>
                  <a:pt x="6428" y="11460"/>
                  <a:pt x="6474" y="11460"/>
                </a:cubicBezTo>
                <a:cubicBezTo>
                  <a:pt x="6456" y="11469"/>
                  <a:pt x="6360" y="11563"/>
                  <a:pt x="6350" y="11584"/>
                </a:cubicBezTo>
                <a:cubicBezTo>
                  <a:pt x="6330" y="11626"/>
                  <a:pt x="6352" y="11729"/>
                  <a:pt x="6375" y="11757"/>
                </a:cubicBezTo>
                <a:cubicBezTo>
                  <a:pt x="6410" y="11800"/>
                  <a:pt x="6469" y="11845"/>
                  <a:pt x="6524" y="11857"/>
                </a:cubicBezTo>
                <a:cubicBezTo>
                  <a:pt x="6625" y="11880"/>
                  <a:pt x="6717" y="11768"/>
                  <a:pt x="6772" y="11708"/>
                </a:cubicBezTo>
                <a:cubicBezTo>
                  <a:pt x="6802" y="11675"/>
                  <a:pt x="6813" y="11579"/>
                  <a:pt x="6796" y="11534"/>
                </a:cubicBezTo>
                <a:cubicBezTo>
                  <a:pt x="6778" y="11485"/>
                  <a:pt x="6674" y="11419"/>
                  <a:pt x="6623" y="11410"/>
                </a:cubicBezTo>
                <a:cubicBezTo>
                  <a:pt x="6523" y="11410"/>
                  <a:pt x="6473" y="11406"/>
                  <a:pt x="6400" y="113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120" y="4687920"/>
            <a:ext cx="347760" cy="322200"/>
          </a:xfrm>
          <a:custGeom>
            <a:avLst/>
            <a:gdLst/>
            <a:ahLst/>
            <a:rect l="l" t="t" r="r" b="b"/>
            <a:pathLst>
              <a:path w="968" h="894">
                <a:moveTo>
                  <a:pt x="1141" y="13444"/>
                </a:moveTo>
                <a:cubicBezTo>
                  <a:pt x="1147" y="13426"/>
                  <a:pt x="1185" y="13383"/>
                  <a:pt x="1215" y="13370"/>
                </a:cubicBezTo>
                <a:cubicBezTo>
                  <a:pt x="1253" y="13353"/>
                  <a:pt x="1313" y="13372"/>
                  <a:pt x="1339" y="13395"/>
                </a:cubicBezTo>
                <a:cubicBezTo>
                  <a:pt x="1360" y="13413"/>
                  <a:pt x="1381" y="13464"/>
                  <a:pt x="1364" y="13494"/>
                </a:cubicBezTo>
                <a:cubicBezTo>
                  <a:pt x="1338" y="13541"/>
                  <a:pt x="1321" y="13571"/>
                  <a:pt x="1290" y="13618"/>
                </a:cubicBezTo>
                <a:cubicBezTo>
                  <a:pt x="1262" y="13661"/>
                  <a:pt x="1227" y="13760"/>
                  <a:pt x="1191" y="13791"/>
                </a:cubicBezTo>
                <a:cubicBezTo>
                  <a:pt x="1170" y="13810"/>
                  <a:pt x="1146" y="13819"/>
                  <a:pt x="1141" y="13866"/>
                </a:cubicBezTo>
                <a:cubicBezTo>
                  <a:pt x="1141" y="13891"/>
                  <a:pt x="1141" y="13899"/>
                  <a:pt x="1141" y="13915"/>
                </a:cubicBezTo>
                <a:cubicBezTo>
                  <a:pt x="1194" y="13915"/>
                  <a:pt x="1223" y="13900"/>
                  <a:pt x="1265" y="13891"/>
                </a:cubicBezTo>
                <a:cubicBezTo>
                  <a:pt x="1310" y="13891"/>
                  <a:pt x="1323" y="13895"/>
                  <a:pt x="1339" y="13866"/>
                </a:cubicBezTo>
              </a:path>
              <a:path w="968" h="894">
                <a:moveTo>
                  <a:pt x="1588" y="13370"/>
                </a:moveTo>
                <a:cubicBezTo>
                  <a:pt x="1588" y="13401"/>
                  <a:pt x="1565" y="13569"/>
                  <a:pt x="1612" y="13593"/>
                </a:cubicBezTo>
                <a:cubicBezTo>
                  <a:pt x="1645" y="13610"/>
                  <a:pt x="1690" y="13588"/>
                  <a:pt x="1712" y="13568"/>
                </a:cubicBezTo>
                <a:cubicBezTo>
                  <a:pt x="1778" y="13508"/>
                  <a:pt x="1726" y="13553"/>
                  <a:pt x="1761" y="13469"/>
                </a:cubicBezTo>
                <a:cubicBezTo>
                  <a:pt x="1789" y="13403"/>
                  <a:pt x="1783" y="13435"/>
                  <a:pt x="1761" y="13370"/>
                </a:cubicBezTo>
                <a:cubicBezTo>
                  <a:pt x="1740" y="13306"/>
                  <a:pt x="1732" y="13345"/>
                  <a:pt x="1687" y="13320"/>
                </a:cubicBezTo>
                <a:cubicBezTo>
                  <a:pt x="1642" y="13295"/>
                  <a:pt x="1662" y="13307"/>
                  <a:pt x="1612" y="13320"/>
                </a:cubicBezTo>
              </a:path>
              <a:path w="968" h="894">
                <a:moveTo>
                  <a:pt x="1662" y="13519"/>
                </a:moveTo>
                <a:cubicBezTo>
                  <a:pt x="1662" y="13581"/>
                  <a:pt x="1652" y="13616"/>
                  <a:pt x="1637" y="13667"/>
                </a:cubicBezTo>
                <a:cubicBezTo>
                  <a:pt x="1618" y="13729"/>
                  <a:pt x="1617" y="13710"/>
                  <a:pt x="1637" y="13767"/>
                </a:cubicBezTo>
                <a:cubicBezTo>
                  <a:pt x="1637" y="13791"/>
                  <a:pt x="1637" y="13800"/>
                  <a:pt x="1637" y="13816"/>
                </a:cubicBezTo>
                <a:cubicBezTo>
                  <a:pt x="1715" y="13816"/>
                  <a:pt x="1770" y="13811"/>
                  <a:pt x="1836" y="13791"/>
                </a:cubicBezTo>
                <a:cubicBezTo>
                  <a:pt x="1886" y="13776"/>
                  <a:pt x="1904" y="13750"/>
                  <a:pt x="1910" y="13692"/>
                </a:cubicBezTo>
                <a:cubicBezTo>
                  <a:pt x="1916" y="13633"/>
                  <a:pt x="1896" y="13615"/>
                  <a:pt x="1885" y="13593"/>
                </a:cubicBezTo>
                <a:cubicBezTo>
                  <a:pt x="1881" y="13586"/>
                  <a:pt x="1831" y="13539"/>
                  <a:pt x="1811" y="13543"/>
                </a:cubicBezTo>
                <a:cubicBezTo>
                  <a:pt x="1803" y="13551"/>
                  <a:pt x="1794" y="13560"/>
                  <a:pt x="1786" y="13568"/>
                </a:cubicBezTo>
              </a:path>
              <a:path w="968" h="894">
                <a:moveTo>
                  <a:pt x="2059" y="13022"/>
                </a:moveTo>
                <a:cubicBezTo>
                  <a:pt x="2022" y="13031"/>
                  <a:pt x="1997" y="13059"/>
                  <a:pt x="1984" y="13097"/>
                </a:cubicBezTo>
                <a:cubicBezTo>
                  <a:pt x="1972" y="13132"/>
                  <a:pt x="1990" y="13146"/>
                  <a:pt x="2009" y="13171"/>
                </a:cubicBezTo>
                <a:cubicBezTo>
                  <a:pt x="2041" y="13163"/>
                  <a:pt x="2092" y="13134"/>
                  <a:pt x="2108" y="13097"/>
                </a:cubicBezTo>
                <a:cubicBezTo>
                  <a:pt x="2108" y="13089"/>
                  <a:pt x="2108" y="13080"/>
                  <a:pt x="2108" y="13072"/>
                </a:cubicBezTo>
                <a:cubicBezTo>
                  <a:pt x="2072" y="13045"/>
                  <a:pt x="2049" y="13028"/>
                  <a:pt x="2034" y="130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2.  From fire tower A, a fire with bearings N70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E is sighted.  The same fire is seen from tower B at N46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W.  Tower B is 75 miles east of A.  How far from tower A is the fire?</a:t>
            </a:r>
            <a:endParaRPr b="0" lang="en-US" sz="3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11240" y="3803760"/>
            <a:ext cx="366840" cy="420480"/>
          </a:xfrm>
          <a:custGeom>
            <a:avLst/>
            <a:gdLst/>
            <a:ahLst/>
            <a:rect l="l" t="t" r="r" b="b"/>
            <a:pathLst>
              <a:path w="1018" h="1167">
                <a:moveTo>
                  <a:pt x="5333" y="10889"/>
                </a:moveTo>
                <a:cubicBezTo>
                  <a:pt x="5333" y="10864"/>
                  <a:pt x="5333" y="10856"/>
                  <a:pt x="5308" y="10864"/>
                </a:cubicBezTo>
                <a:cubicBezTo>
                  <a:pt x="5338" y="10874"/>
                  <a:pt x="5351" y="10906"/>
                  <a:pt x="5383" y="10939"/>
                </a:cubicBezTo>
                <a:cubicBezTo>
                  <a:pt x="5414" y="10971"/>
                  <a:pt x="5464" y="10991"/>
                  <a:pt x="5507" y="11013"/>
                </a:cubicBezTo>
                <a:cubicBezTo>
                  <a:pt x="5606" y="11064"/>
                  <a:pt x="5676" y="11086"/>
                  <a:pt x="5779" y="11112"/>
                </a:cubicBezTo>
                <a:cubicBezTo>
                  <a:pt x="5893" y="11141"/>
                  <a:pt x="6015" y="11169"/>
                  <a:pt x="6127" y="11187"/>
                </a:cubicBezTo>
                <a:cubicBezTo>
                  <a:pt x="6194" y="11198"/>
                  <a:pt x="6239" y="11168"/>
                  <a:pt x="6300" y="11162"/>
                </a:cubicBezTo>
                <a:cubicBezTo>
                  <a:pt x="6325" y="11162"/>
                  <a:pt x="6333" y="11162"/>
                  <a:pt x="6325" y="11137"/>
                </a:cubicBezTo>
              </a:path>
              <a:path w="1018" h="1167">
                <a:moveTo>
                  <a:pt x="5829" y="10641"/>
                </a:moveTo>
                <a:cubicBezTo>
                  <a:pt x="5829" y="10616"/>
                  <a:pt x="5829" y="10592"/>
                  <a:pt x="5829" y="10567"/>
                </a:cubicBezTo>
                <a:cubicBezTo>
                  <a:pt x="5829" y="10632"/>
                  <a:pt x="5812" y="10681"/>
                  <a:pt x="5804" y="10740"/>
                </a:cubicBezTo>
                <a:cubicBezTo>
                  <a:pt x="5793" y="10824"/>
                  <a:pt x="5790" y="10902"/>
                  <a:pt x="5779" y="10988"/>
                </a:cubicBezTo>
                <a:cubicBezTo>
                  <a:pt x="5764" y="11106"/>
                  <a:pt x="5719" y="11224"/>
                  <a:pt x="5705" y="11336"/>
                </a:cubicBezTo>
                <a:cubicBezTo>
                  <a:pt x="5697" y="11396"/>
                  <a:pt x="5699" y="11476"/>
                  <a:pt x="5680" y="11534"/>
                </a:cubicBezTo>
                <a:cubicBezTo>
                  <a:pt x="5660" y="11594"/>
                  <a:pt x="5655" y="11618"/>
                  <a:pt x="5655" y="11683"/>
                </a:cubicBezTo>
                <a:cubicBezTo>
                  <a:pt x="5655" y="11748"/>
                  <a:pt x="5667" y="11724"/>
                  <a:pt x="5631" y="11683"/>
                </a:cubicBezTo>
                <a:cubicBezTo>
                  <a:pt x="5623" y="11675"/>
                  <a:pt x="5614" y="11666"/>
                  <a:pt x="5606" y="116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17880" y="3009960"/>
            <a:ext cx="5411880" cy="1990800"/>
          </a:xfrm>
          <a:custGeom>
            <a:avLst/>
            <a:gdLst/>
            <a:ahLst/>
            <a:rect l="l" t="t" r="r" b="b"/>
            <a:pathLst>
              <a:path w="15033" h="5533">
                <a:moveTo>
                  <a:pt x="8409" y="9451"/>
                </a:moveTo>
                <a:cubicBezTo>
                  <a:pt x="8409" y="9475"/>
                  <a:pt x="8409" y="9483"/>
                  <a:pt x="8384" y="9475"/>
                </a:cubicBezTo>
                <a:cubicBezTo>
                  <a:pt x="8422" y="9447"/>
                  <a:pt x="8417" y="9445"/>
                  <a:pt x="8434" y="9401"/>
                </a:cubicBezTo>
                <a:cubicBezTo>
                  <a:pt x="8455" y="9346"/>
                  <a:pt x="8478" y="9281"/>
                  <a:pt x="8508" y="9227"/>
                </a:cubicBezTo>
                <a:cubicBezTo>
                  <a:pt x="8571" y="9115"/>
                  <a:pt x="8604" y="8997"/>
                  <a:pt x="8657" y="8880"/>
                </a:cubicBezTo>
                <a:cubicBezTo>
                  <a:pt x="8682" y="8824"/>
                  <a:pt x="8731" y="8762"/>
                  <a:pt x="8756" y="8706"/>
                </a:cubicBezTo>
                <a:cubicBezTo>
                  <a:pt x="8775" y="8664"/>
                  <a:pt x="8802" y="8591"/>
                  <a:pt x="8830" y="8558"/>
                </a:cubicBezTo>
                <a:cubicBezTo>
                  <a:pt x="8838" y="8558"/>
                  <a:pt x="8847" y="8558"/>
                  <a:pt x="8855" y="8558"/>
                </a:cubicBezTo>
                <a:cubicBezTo>
                  <a:pt x="8871" y="8584"/>
                  <a:pt x="8877" y="8597"/>
                  <a:pt x="8880" y="8657"/>
                </a:cubicBezTo>
                <a:cubicBezTo>
                  <a:pt x="8884" y="8733"/>
                  <a:pt x="8881" y="8784"/>
                  <a:pt x="8905" y="8855"/>
                </a:cubicBezTo>
                <a:cubicBezTo>
                  <a:pt x="8960" y="8839"/>
                  <a:pt x="8966" y="8836"/>
                  <a:pt x="9004" y="8781"/>
                </a:cubicBezTo>
                <a:cubicBezTo>
                  <a:pt x="9049" y="8715"/>
                  <a:pt x="9085" y="8627"/>
                  <a:pt x="9103" y="8558"/>
                </a:cubicBezTo>
                <a:cubicBezTo>
                  <a:pt x="9115" y="8513"/>
                  <a:pt x="9172" y="8427"/>
                  <a:pt x="9178" y="8409"/>
                </a:cubicBezTo>
                <a:cubicBezTo>
                  <a:pt x="9178" y="8392"/>
                  <a:pt x="9178" y="8376"/>
                  <a:pt x="9178" y="8359"/>
                </a:cubicBezTo>
                <a:cubicBezTo>
                  <a:pt x="9202" y="8430"/>
                  <a:pt x="9189" y="8487"/>
                  <a:pt x="9203" y="8558"/>
                </a:cubicBezTo>
                <a:cubicBezTo>
                  <a:pt x="9214" y="8614"/>
                  <a:pt x="9244" y="8684"/>
                  <a:pt x="9252" y="8731"/>
                </a:cubicBezTo>
                <a:cubicBezTo>
                  <a:pt x="9267" y="8819"/>
                  <a:pt x="9242" y="8761"/>
                  <a:pt x="9302" y="8781"/>
                </a:cubicBezTo>
                <a:cubicBezTo>
                  <a:pt x="9357" y="8765"/>
                  <a:pt x="9363" y="8762"/>
                  <a:pt x="9401" y="8706"/>
                </a:cubicBezTo>
                <a:cubicBezTo>
                  <a:pt x="9444" y="8643"/>
                  <a:pt x="9450" y="8569"/>
                  <a:pt x="9475" y="8508"/>
                </a:cubicBezTo>
                <a:cubicBezTo>
                  <a:pt x="9500" y="8445"/>
                  <a:pt x="9545" y="8413"/>
                  <a:pt x="9575" y="8359"/>
                </a:cubicBezTo>
                <a:cubicBezTo>
                  <a:pt x="9581" y="8419"/>
                  <a:pt x="9584" y="8479"/>
                  <a:pt x="9599" y="8558"/>
                </a:cubicBezTo>
                <a:cubicBezTo>
                  <a:pt x="9614" y="8637"/>
                  <a:pt x="9607" y="8730"/>
                  <a:pt x="9624" y="8806"/>
                </a:cubicBezTo>
                <a:cubicBezTo>
                  <a:pt x="9642" y="8883"/>
                  <a:pt x="9649" y="8946"/>
                  <a:pt x="9649" y="9029"/>
                </a:cubicBezTo>
                <a:cubicBezTo>
                  <a:pt x="9649" y="9088"/>
                  <a:pt x="9659" y="9168"/>
                  <a:pt x="9674" y="9227"/>
                </a:cubicBezTo>
                <a:cubicBezTo>
                  <a:pt x="9684" y="9265"/>
                  <a:pt x="9684" y="9341"/>
                  <a:pt x="9699" y="9376"/>
                </a:cubicBezTo>
                <a:cubicBezTo>
                  <a:pt x="9718" y="9421"/>
                  <a:pt x="9675" y="9378"/>
                  <a:pt x="9699" y="9451"/>
                </a:cubicBezTo>
                <a:cubicBezTo>
                  <a:pt x="9723" y="9451"/>
                  <a:pt x="9731" y="9451"/>
                  <a:pt x="9723" y="9475"/>
                </a:cubicBezTo>
                <a:cubicBezTo>
                  <a:pt x="9673" y="9475"/>
                  <a:pt x="9636" y="9495"/>
                  <a:pt x="9599" y="9500"/>
                </a:cubicBezTo>
                <a:cubicBezTo>
                  <a:pt x="9468" y="9517"/>
                  <a:pt x="9318" y="9489"/>
                  <a:pt x="9203" y="9475"/>
                </a:cubicBezTo>
                <a:cubicBezTo>
                  <a:pt x="9134" y="9466"/>
                  <a:pt x="9037" y="9457"/>
                  <a:pt x="8979" y="9451"/>
                </a:cubicBezTo>
                <a:cubicBezTo>
                  <a:pt x="8839" y="9437"/>
                  <a:pt x="8683" y="9455"/>
                  <a:pt x="8558" y="9475"/>
                </a:cubicBezTo>
                <a:cubicBezTo>
                  <a:pt x="8534" y="9479"/>
                  <a:pt x="8508" y="9472"/>
                  <a:pt x="8483" y="9475"/>
                </a:cubicBezTo>
              </a:path>
              <a:path w="15033" h="5533">
                <a:moveTo>
                  <a:pt x="9748" y="9302"/>
                </a:moveTo>
                <a:cubicBezTo>
                  <a:pt x="9785" y="9328"/>
                  <a:pt x="9785" y="9352"/>
                  <a:pt x="9823" y="9376"/>
                </a:cubicBezTo>
                <a:cubicBezTo>
                  <a:pt x="9855" y="9396"/>
                  <a:pt x="9914" y="9375"/>
                  <a:pt x="9947" y="9401"/>
                </a:cubicBezTo>
                <a:cubicBezTo>
                  <a:pt x="9982" y="9429"/>
                  <a:pt x="10005" y="9466"/>
                  <a:pt x="10046" y="9500"/>
                </a:cubicBezTo>
                <a:cubicBezTo>
                  <a:pt x="10107" y="9551"/>
                  <a:pt x="10187" y="9577"/>
                  <a:pt x="10244" y="9624"/>
                </a:cubicBezTo>
                <a:cubicBezTo>
                  <a:pt x="10302" y="9672"/>
                  <a:pt x="10344" y="9731"/>
                  <a:pt x="10418" y="9773"/>
                </a:cubicBezTo>
                <a:cubicBezTo>
                  <a:pt x="10506" y="9823"/>
                  <a:pt x="10554" y="9862"/>
                  <a:pt x="10641" y="9922"/>
                </a:cubicBezTo>
                <a:cubicBezTo>
                  <a:pt x="10729" y="9982"/>
                  <a:pt x="10784" y="10057"/>
                  <a:pt x="10864" y="10120"/>
                </a:cubicBezTo>
                <a:cubicBezTo>
                  <a:pt x="10959" y="10195"/>
                  <a:pt x="11096" y="10255"/>
                  <a:pt x="11187" y="10344"/>
                </a:cubicBezTo>
                <a:cubicBezTo>
                  <a:pt x="11268" y="10423"/>
                  <a:pt x="11367" y="10520"/>
                  <a:pt x="11435" y="10592"/>
                </a:cubicBezTo>
                <a:cubicBezTo>
                  <a:pt x="11540" y="10704"/>
                  <a:pt x="11638" y="10829"/>
                  <a:pt x="11757" y="10939"/>
                </a:cubicBezTo>
                <a:cubicBezTo>
                  <a:pt x="11877" y="11049"/>
                  <a:pt x="12011" y="11151"/>
                  <a:pt x="12129" y="11261"/>
                </a:cubicBezTo>
                <a:cubicBezTo>
                  <a:pt x="12229" y="11354"/>
                  <a:pt x="12328" y="11441"/>
                  <a:pt x="12427" y="11534"/>
                </a:cubicBezTo>
                <a:cubicBezTo>
                  <a:pt x="12536" y="11637"/>
                  <a:pt x="12639" y="11765"/>
                  <a:pt x="12750" y="11857"/>
                </a:cubicBezTo>
                <a:cubicBezTo>
                  <a:pt x="12852" y="11941"/>
                  <a:pt x="12951" y="12013"/>
                  <a:pt x="13047" y="12105"/>
                </a:cubicBezTo>
                <a:cubicBezTo>
                  <a:pt x="13176" y="12229"/>
                  <a:pt x="13286" y="12361"/>
                  <a:pt x="13419" y="12477"/>
                </a:cubicBezTo>
                <a:cubicBezTo>
                  <a:pt x="13499" y="12547"/>
                  <a:pt x="13567" y="12632"/>
                  <a:pt x="13643" y="12700"/>
                </a:cubicBezTo>
                <a:cubicBezTo>
                  <a:pt x="13739" y="12786"/>
                  <a:pt x="13851" y="12857"/>
                  <a:pt x="13940" y="12948"/>
                </a:cubicBezTo>
                <a:cubicBezTo>
                  <a:pt x="14001" y="13010"/>
                  <a:pt x="14050" y="13072"/>
                  <a:pt x="14114" y="13122"/>
                </a:cubicBezTo>
                <a:cubicBezTo>
                  <a:pt x="14185" y="13178"/>
                  <a:pt x="14268" y="13216"/>
                  <a:pt x="14337" y="13271"/>
                </a:cubicBezTo>
                <a:cubicBezTo>
                  <a:pt x="14373" y="13300"/>
                  <a:pt x="14394" y="13336"/>
                  <a:pt x="14436" y="13370"/>
                </a:cubicBezTo>
                <a:cubicBezTo>
                  <a:pt x="14471" y="13398"/>
                  <a:pt x="14488" y="13400"/>
                  <a:pt x="14511" y="13419"/>
                </a:cubicBezTo>
                <a:cubicBezTo>
                  <a:pt x="14542" y="13446"/>
                  <a:pt x="14539" y="13451"/>
                  <a:pt x="14560" y="13469"/>
                </a:cubicBezTo>
                <a:cubicBezTo>
                  <a:pt x="14528" y="13475"/>
                  <a:pt x="14462" y="13494"/>
                  <a:pt x="14461" y="13494"/>
                </a:cubicBezTo>
                <a:cubicBezTo>
                  <a:pt x="14404" y="13506"/>
                  <a:pt x="14339" y="13511"/>
                  <a:pt x="14288" y="13519"/>
                </a:cubicBezTo>
                <a:cubicBezTo>
                  <a:pt x="14230" y="13528"/>
                  <a:pt x="14174" y="13535"/>
                  <a:pt x="14114" y="13543"/>
                </a:cubicBezTo>
                <a:cubicBezTo>
                  <a:pt x="14060" y="13551"/>
                  <a:pt x="13980" y="13561"/>
                  <a:pt x="13915" y="13568"/>
                </a:cubicBezTo>
                <a:cubicBezTo>
                  <a:pt x="13828" y="13578"/>
                  <a:pt x="13732" y="13605"/>
                  <a:pt x="13643" y="13618"/>
                </a:cubicBezTo>
                <a:cubicBezTo>
                  <a:pt x="13543" y="13632"/>
                  <a:pt x="13445" y="13653"/>
                  <a:pt x="13345" y="13667"/>
                </a:cubicBezTo>
                <a:cubicBezTo>
                  <a:pt x="13254" y="13680"/>
                  <a:pt x="13163" y="13677"/>
                  <a:pt x="13072" y="13692"/>
                </a:cubicBezTo>
                <a:cubicBezTo>
                  <a:pt x="12952" y="13711"/>
                  <a:pt x="12824" y="13727"/>
                  <a:pt x="12700" y="13742"/>
                </a:cubicBezTo>
                <a:cubicBezTo>
                  <a:pt x="12578" y="13757"/>
                  <a:pt x="12426" y="13784"/>
                  <a:pt x="12303" y="13791"/>
                </a:cubicBezTo>
                <a:cubicBezTo>
                  <a:pt x="12041" y="13806"/>
                  <a:pt x="11764" y="13802"/>
                  <a:pt x="11509" y="13816"/>
                </a:cubicBezTo>
                <a:cubicBezTo>
                  <a:pt x="11344" y="13825"/>
                  <a:pt x="11194" y="13818"/>
                  <a:pt x="11038" y="13841"/>
                </a:cubicBezTo>
                <a:cubicBezTo>
                  <a:pt x="10974" y="13851"/>
                  <a:pt x="10909" y="13858"/>
                  <a:pt x="10840" y="13866"/>
                </a:cubicBezTo>
                <a:cubicBezTo>
                  <a:pt x="10776" y="13873"/>
                  <a:pt x="10694" y="13890"/>
                  <a:pt x="10616" y="13891"/>
                </a:cubicBezTo>
                <a:cubicBezTo>
                  <a:pt x="10558" y="13892"/>
                  <a:pt x="10501" y="13891"/>
                  <a:pt x="10443" y="13891"/>
                </a:cubicBezTo>
              </a:path>
              <a:path w="15033" h="5533">
                <a:moveTo>
                  <a:pt x="8905" y="9847"/>
                </a:moveTo>
                <a:cubicBezTo>
                  <a:pt x="8893" y="9917"/>
                  <a:pt x="8875" y="9891"/>
                  <a:pt x="8855" y="9971"/>
                </a:cubicBezTo>
                <a:cubicBezTo>
                  <a:pt x="8845" y="10010"/>
                  <a:pt x="8845" y="10084"/>
                  <a:pt x="8830" y="10120"/>
                </a:cubicBezTo>
                <a:cubicBezTo>
                  <a:pt x="8802" y="10190"/>
                  <a:pt x="8825" y="10213"/>
                  <a:pt x="8830" y="10294"/>
                </a:cubicBezTo>
                <a:cubicBezTo>
                  <a:pt x="8836" y="10386"/>
                  <a:pt x="8863" y="10317"/>
                  <a:pt x="8905" y="10368"/>
                </a:cubicBezTo>
                <a:cubicBezTo>
                  <a:pt x="8952" y="10425"/>
                  <a:pt x="8932" y="10418"/>
                  <a:pt x="9004" y="10418"/>
                </a:cubicBezTo>
                <a:cubicBezTo>
                  <a:pt x="9058" y="10418"/>
                  <a:pt x="9068" y="10394"/>
                  <a:pt x="9103" y="10368"/>
                </a:cubicBezTo>
                <a:cubicBezTo>
                  <a:pt x="9139" y="10340"/>
                  <a:pt x="9154" y="10289"/>
                  <a:pt x="9178" y="10269"/>
                </a:cubicBezTo>
                <a:cubicBezTo>
                  <a:pt x="9232" y="10224"/>
                  <a:pt x="9234" y="10220"/>
                  <a:pt x="9203" y="10145"/>
                </a:cubicBezTo>
                <a:cubicBezTo>
                  <a:pt x="9156" y="10168"/>
                  <a:pt x="9144" y="10203"/>
                  <a:pt x="9079" y="10220"/>
                </a:cubicBezTo>
                <a:cubicBezTo>
                  <a:pt x="9015" y="10236"/>
                  <a:pt x="9074" y="10331"/>
                  <a:pt x="9079" y="10344"/>
                </a:cubicBezTo>
                <a:cubicBezTo>
                  <a:pt x="9101" y="10400"/>
                  <a:pt x="9087" y="10418"/>
                  <a:pt x="9153" y="10418"/>
                </a:cubicBezTo>
                <a:cubicBezTo>
                  <a:pt x="9178" y="10418"/>
                  <a:pt x="9186" y="10418"/>
                  <a:pt x="9203" y="10418"/>
                </a:cubicBezTo>
              </a:path>
              <a:path w="15033" h="5533">
                <a:moveTo>
                  <a:pt x="9475" y="9748"/>
                </a:moveTo>
                <a:cubicBezTo>
                  <a:pt x="9454" y="9785"/>
                  <a:pt x="9428" y="9820"/>
                  <a:pt x="9426" y="9847"/>
                </a:cubicBezTo>
                <a:cubicBezTo>
                  <a:pt x="9426" y="9889"/>
                  <a:pt x="9426" y="9897"/>
                  <a:pt x="9426" y="9922"/>
                </a:cubicBezTo>
                <a:cubicBezTo>
                  <a:pt x="9519" y="9922"/>
                  <a:pt x="9520" y="9932"/>
                  <a:pt x="9599" y="9971"/>
                </a:cubicBezTo>
                <a:cubicBezTo>
                  <a:pt x="9625" y="9984"/>
                  <a:pt x="9693" y="9971"/>
                  <a:pt x="9723" y="9971"/>
                </a:cubicBezTo>
                <a:cubicBezTo>
                  <a:pt x="9735" y="9901"/>
                  <a:pt x="9766" y="9929"/>
                  <a:pt x="9773" y="9847"/>
                </a:cubicBezTo>
                <a:cubicBezTo>
                  <a:pt x="9776" y="9814"/>
                  <a:pt x="9773" y="9781"/>
                  <a:pt x="9773" y="9748"/>
                </a:cubicBezTo>
                <a:cubicBezTo>
                  <a:pt x="9731" y="9762"/>
                  <a:pt x="9748" y="9796"/>
                  <a:pt x="9748" y="9847"/>
                </a:cubicBezTo>
                <a:cubicBezTo>
                  <a:pt x="9748" y="9920"/>
                  <a:pt x="9714" y="10329"/>
                  <a:pt x="9773" y="10344"/>
                </a:cubicBezTo>
                <a:cubicBezTo>
                  <a:pt x="9781" y="10344"/>
                  <a:pt x="9790" y="10344"/>
                  <a:pt x="9798" y="10344"/>
                </a:cubicBezTo>
              </a:path>
              <a:path w="15033" h="5533">
                <a:moveTo>
                  <a:pt x="10096" y="9748"/>
                </a:moveTo>
                <a:cubicBezTo>
                  <a:pt x="10104" y="9748"/>
                  <a:pt x="10112" y="9748"/>
                  <a:pt x="10120" y="9748"/>
                </a:cubicBezTo>
              </a:path>
              <a:path w="15033" h="5533">
                <a:moveTo>
                  <a:pt x="14709" y="9153"/>
                </a:moveTo>
                <a:cubicBezTo>
                  <a:pt x="14709" y="9112"/>
                  <a:pt x="14709" y="9104"/>
                  <a:pt x="14709" y="9079"/>
                </a:cubicBezTo>
                <a:cubicBezTo>
                  <a:pt x="14615" y="9079"/>
                  <a:pt x="14407" y="9042"/>
                  <a:pt x="14337" y="9103"/>
                </a:cubicBezTo>
                <a:cubicBezTo>
                  <a:pt x="14286" y="9147"/>
                  <a:pt x="14283" y="9145"/>
                  <a:pt x="14238" y="9178"/>
                </a:cubicBezTo>
                <a:cubicBezTo>
                  <a:pt x="14261" y="9281"/>
                  <a:pt x="14288" y="9279"/>
                  <a:pt x="14362" y="9327"/>
                </a:cubicBezTo>
                <a:cubicBezTo>
                  <a:pt x="14414" y="9361"/>
                  <a:pt x="14516" y="9430"/>
                  <a:pt x="14560" y="9451"/>
                </a:cubicBezTo>
                <a:cubicBezTo>
                  <a:pt x="14625" y="9482"/>
                  <a:pt x="14639" y="9475"/>
                  <a:pt x="14684" y="9550"/>
                </a:cubicBezTo>
                <a:cubicBezTo>
                  <a:pt x="14709" y="9592"/>
                  <a:pt x="14755" y="9702"/>
                  <a:pt x="14734" y="9748"/>
                </a:cubicBezTo>
                <a:cubicBezTo>
                  <a:pt x="14730" y="9757"/>
                  <a:pt x="14680" y="9813"/>
                  <a:pt x="14660" y="9823"/>
                </a:cubicBezTo>
                <a:cubicBezTo>
                  <a:pt x="14600" y="9852"/>
                  <a:pt x="14551" y="9847"/>
                  <a:pt x="14486" y="9847"/>
                </a:cubicBezTo>
                <a:cubicBezTo>
                  <a:pt x="14464" y="9847"/>
                  <a:pt x="14374" y="9865"/>
                  <a:pt x="14387" y="9823"/>
                </a:cubicBezTo>
                <a:cubicBezTo>
                  <a:pt x="14395" y="9806"/>
                  <a:pt x="14404" y="9790"/>
                  <a:pt x="14412" y="9773"/>
                </a:cubicBezTo>
              </a:path>
              <a:path w="15033" h="5533">
                <a:moveTo>
                  <a:pt x="15156" y="9302"/>
                </a:moveTo>
                <a:cubicBezTo>
                  <a:pt x="15156" y="9465"/>
                  <a:pt x="15134" y="9700"/>
                  <a:pt x="15180" y="9823"/>
                </a:cubicBezTo>
                <a:cubicBezTo>
                  <a:pt x="15180" y="9831"/>
                  <a:pt x="15180" y="9839"/>
                  <a:pt x="15180" y="9847"/>
                </a:cubicBezTo>
                <a:cubicBezTo>
                  <a:pt x="15224" y="9833"/>
                  <a:pt x="15221" y="9828"/>
                  <a:pt x="15230" y="9773"/>
                </a:cubicBezTo>
              </a:path>
              <a:path w="15033" h="5533">
                <a:moveTo>
                  <a:pt x="15131" y="9079"/>
                </a:moveTo>
                <a:cubicBezTo>
                  <a:pt x="15131" y="8975"/>
                  <a:pt x="15104" y="9146"/>
                  <a:pt x="15180" y="9029"/>
                </a:cubicBezTo>
              </a:path>
              <a:path w="15033" h="5533">
                <a:moveTo>
                  <a:pt x="15478" y="9376"/>
                </a:moveTo>
                <a:cubicBezTo>
                  <a:pt x="15434" y="9391"/>
                  <a:pt x="15453" y="9447"/>
                  <a:pt x="15453" y="9500"/>
                </a:cubicBezTo>
                <a:cubicBezTo>
                  <a:pt x="15453" y="9576"/>
                  <a:pt x="15512" y="9637"/>
                  <a:pt x="15528" y="9699"/>
                </a:cubicBezTo>
                <a:cubicBezTo>
                  <a:pt x="15528" y="9715"/>
                  <a:pt x="15528" y="9732"/>
                  <a:pt x="15528" y="9748"/>
                </a:cubicBezTo>
                <a:cubicBezTo>
                  <a:pt x="15528" y="9604"/>
                  <a:pt x="15519" y="9462"/>
                  <a:pt x="15553" y="9327"/>
                </a:cubicBezTo>
                <a:cubicBezTo>
                  <a:pt x="15570" y="9260"/>
                  <a:pt x="15585" y="9259"/>
                  <a:pt x="15627" y="9227"/>
                </a:cubicBezTo>
                <a:cubicBezTo>
                  <a:pt x="15669" y="9194"/>
                  <a:pt x="15735" y="9142"/>
                  <a:pt x="15801" y="9178"/>
                </a:cubicBezTo>
                <a:cubicBezTo>
                  <a:pt x="15848" y="9204"/>
                  <a:pt x="15911" y="9284"/>
                  <a:pt x="15949" y="9302"/>
                </a:cubicBezTo>
                <a:cubicBezTo>
                  <a:pt x="16010" y="9330"/>
                  <a:pt x="16056" y="9369"/>
                  <a:pt x="16073" y="9451"/>
                </a:cubicBezTo>
                <a:cubicBezTo>
                  <a:pt x="16089" y="9529"/>
                  <a:pt x="16066" y="9633"/>
                  <a:pt x="16049" y="9674"/>
                </a:cubicBezTo>
                <a:cubicBezTo>
                  <a:pt x="16049" y="9707"/>
                  <a:pt x="16049" y="9723"/>
                  <a:pt x="16049" y="9748"/>
                </a:cubicBezTo>
                <a:cubicBezTo>
                  <a:pt x="16070" y="9698"/>
                  <a:pt x="16088" y="9651"/>
                  <a:pt x="16098" y="9599"/>
                </a:cubicBezTo>
              </a:path>
              <a:path w="15033" h="5533">
                <a:moveTo>
                  <a:pt x="16396" y="8954"/>
                </a:moveTo>
                <a:cubicBezTo>
                  <a:pt x="16342" y="9053"/>
                  <a:pt x="16326" y="9134"/>
                  <a:pt x="16321" y="9252"/>
                </a:cubicBezTo>
                <a:cubicBezTo>
                  <a:pt x="16317" y="9339"/>
                  <a:pt x="16313" y="9421"/>
                  <a:pt x="16346" y="9500"/>
                </a:cubicBezTo>
                <a:cubicBezTo>
                  <a:pt x="16375" y="9567"/>
                  <a:pt x="16385" y="9630"/>
                  <a:pt x="16446" y="9674"/>
                </a:cubicBezTo>
                <a:cubicBezTo>
                  <a:pt x="16515" y="9723"/>
                  <a:pt x="16647" y="9646"/>
                  <a:pt x="16694" y="9624"/>
                </a:cubicBezTo>
                <a:cubicBezTo>
                  <a:pt x="16761" y="9592"/>
                  <a:pt x="16790" y="9588"/>
                  <a:pt x="16842" y="9550"/>
                </a:cubicBezTo>
                <a:cubicBezTo>
                  <a:pt x="16900" y="9508"/>
                  <a:pt x="16924" y="9473"/>
                  <a:pt x="16942" y="9401"/>
                </a:cubicBezTo>
                <a:cubicBezTo>
                  <a:pt x="16960" y="9329"/>
                  <a:pt x="16928" y="9330"/>
                  <a:pt x="16892" y="9302"/>
                </a:cubicBezTo>
                <a:cubicBezTo>
                  <a:pt x="16836" y="9258"/>
                  <a:pt x="16750" y="9216"/>
                  <a:pt x="16694" y="9302"/>
                </a:cubicBezTo>
                <a:cubicBezTo>
                  <a:pt x="16663" y="9351"/>
                  <a:pt x="16624" y="9413"/>
                  <a:pt x="16644" y="9475"/>
                </a:cubicBezTo>
                <a:cubicBezTo>
                  <a:pt x="16658" y="9520"/>
                  <a:pt x="16674" y="9589"/>
                  <a:pt x="16718" y="9599"/>
                </a:cubicBezTo>
                <a:cubicBezTo>
                  <a:pt x="16751" y="9599"/>
                  <a:pt x="16768" y="9599"/>
                  <a:pt x="16793" y="9599"/>
                </a:cubicBezTo>
              </a:path>
              <a:path w="15033" h="5533">
                <a:moveTo>
                  <a:pt x="16991" y="8781"/>
                </a:moveTo>
                <a:cubicBezTo>
                  <a:pt x="17002" y="8837"/>
                  <a:pt x="17016" y="8871"/>
                  <a:pt x="17016" y="8930"/>
                </a:cubicBezTo>
                <a:cubicBezTo>
                  <a:pt x="17016" y="8957"/>
                  <a:pt x="17064" y="9066"/>
                  <a:pt x="17090" y="9079"/>
                </a:cubicBezTo>
                <a:cubicBezTo>
                  <a:pt x="17142" y="9105"/>
                  <a:pt x="17259" y="9085"/>
                  <a:pt x="17314" y="9103"/>
                </a:cubicBezTo>
                <a:cubicBezTo>
                  <a:pt x="17430" y="9141"/>
                  <a:pt x="17396" y="9086"/>
                  <a:pt x="17462" y="9153"/>
                </a:cubicBezTo>
                <a:cubicBezTo>
                  <a:pt x="17470" y="9153"/>
                  <a:pt x="17479" y="9153"/>
                  <a:pt x="17487" y="9153"/>
                </a:cubicBezTo>
                <a:cubicBezTo>
                  <a:pt x="17508" y="9139"/>
                  <a:pt x="17531" y="9074"/>
                  <a:pt x="17512" y="9029"/>
                </a:cubicBezTo>
                <a:cubicBezTo>
                  <a:pt x="17490" y="8976"/>
                  <a:pt x="17487" y="8944"/>
                  <a:pt x="17487" y="8880"/>
                </a:cubicBezTo>
                <a:cubicBezTo>
                  <a:pt x="17487" y="8815"/>
                  <a:pt x="17493" y="8937"/>
                  <a:pt x="17487" y="8954"/>
                </a:cubicBezTo>
                <a:cubicBezTo>
                  <a:pt x="17463" y="9025"/>
                  <a:pt x="17462" y="9074"/>
                  <a:pt x="17462" y="9153"/>
                </a:cubicBezTo>
                <a:cubicBezTo>
                  <a:pt x="17462" y="9335"/>
                  <a:pt x="17358" y="9803"/>
                  <a:pt x="17487" y="9674"/>
                </a:cubicBezTo>
                <a:cubicBezTo>
                  <a:pt x="17495" y="9657"/>
                  <a:pt x="17504" y="9641"/>
                  <a:pt x="17512" y="9624"/>
                </a:cubicBezTo>
              </a:path>
              <a:path w="15033" h="5533">
                <a:moveTo>
                  <a:pt x="17909" y="8706"/>
                </a:moveTo>
                <a:cubicBezTo>
                  <a:pt x="17909" y="8765"/>
                  <a:pt x="17922" y="8770"/>
                  <a:pt x="17934" y="8806"/>
                </a:cubicBezTo>
              </a:path>
              <a:path w="15033" h="5533">
                <a:moveTo>
                  <a:pt x="14585" y="10071"/>
                </a:moveTo>
                <a:cubicBezTo>
                  <a:pt x="14642" y="10127"/>
                  <a:pt x="14607" y="10114"/>
                  <a:pt x="14684" y="10120"/>
                </a:cubicBezTo>
                <a:cubicBezTo>
                  <a:pt x="15476" y="10182"/>
                  <a:pt x="16489" y="10225"/>
                  <a:pt x="17239" y="10071"/>
                </a:cubicBezTo>
                <a:cubicBezTo>
                  <a:pt x="17383" y="10041"/>
                  <a:pt x="17521" y="10097"/>
                  <a:pt x="17636" y="10120"/>
                </a:cubicBezTo>
                <a:cubicBezTo>
                  <a:pt x="17751" y="10143"/>
                  <a:pt x="17890" y="10120"/>
                  <a:pt x="18008" y="10120"/>
                </a:cubicBezTo>
              </a:path>
              <a:path w="15033" h="5533">
                <a:moveTo>
                  <a:pt x="15404" y="10443"/>
                </a:moveTo>
                <a:cubicBezTo>
                  <a:pt x="15417" y="10405"/>
                  <a:pt x="15433" y="10418"/>
                  <a:pt x="15478" y="10418"/>
                </a:cubicBezTo>
                <a:cubicBezTo>
                  <a:pt x="15540" y="10418"/>
                  <a:pt x="15568" y="10428"/>
                  <a:pt x="15627" y="10443"/>
                </a:cubicBezTo>
                <a:cubicBezTo>
                  <a:pt x="15685" y="10458"/>
                  <a:pt x="15711" y="10476"/>
                  <a:pt x="15751" y="10492"/>
                </a:cubicBezTo>
                <a:cubicBezTo>
                  <a:pt x="15850" y="10531"/>
                  <a:pt x="16012" y="10492"/>
                  <a:pt x="16123" y="10492"/>
                </a:cubicBezTo>
                <a:cubicBezTo>
                  <a:pt x="16113" y="10543"/>
                  <a:pt x="16082" y="10591"/>
                  <a:pt x="16073" y="10641"/>
                </a:cubicBezTo>
                <a:cubicBezTo>
                  <a:pt x="16062" y="10704"/>
                  <a:pt x="16039" y="10754"/>
                  <a:pt x="16024" y="10815"/>
                </a:cubicBezTo>
                <a:cubicBezTo>
                  <a:pt x="16006" y="10887"/>
                  <a:pt x="16017" y="10965"/>
                  <a:pt x="15999" y="11038"/>
                </a:cubicBezTo>
                <a:cubicBezTo>
                  <a:pt x="15991" y="11071"/>
                  <a:pt x="16009" y="11257"/>
                  <a:pt x="16024" y="11237"/>
                </a:cubicBezTo>
                <a:cubicBezTo>
                  <a:pt x="16024" y="11212"/>
                  <a:pt x="16024" y="11204"/>
                  <a:pt x="16024" y="11187"/>
                </a:cubicBezTo>
              </a:path>
              <a:path w="15033" h="5533">
                <a:moveTo>
                  <a:pt x="16842" y="10418"/>
                </a:moveTo>
                <a:cubicBezTo>
                  <a:pt x="16776" y="10418"/>
                  <a:pt x="16746" y="10426"/>
                  <a:pt x="16694" y="10443"/>
                </a:cubicBezTo>
                <a:cubicBezTo>
                  <a:pt x="16664" y="10453"/>
                  <a:pt x="16625" y="10475"/>
                  <a:pt x="16594" y="10492"/>
                </a:cubicBezTo>
                <a:cubicBezTo>
                  <a:pt x="16559" y="10512"/>
                  <a:pt x="16530" y="10571"/>
                  <a:pt x="16520" y="10592"/>
                </a:cubicBezTo>
                <a:cubicBezTo>
                  <a:pt x="16495" y="10646"/>
                  <a:pt x="16495" y="10682"/>
                  <a:pt x="16495" y="10740"/>
                </a:cubicBezTo>
                <a:cubicBezTo>
                  <a:pt x="16550" y="10740"/>
                  <a:pt x="16530" y="10721"/>
                  <a:pt x="16570" y="10716"/>
                </a:cubicBezTo>
                <a:cubicBezTo>
                  <a:pt x="16610" y="10711"/>
                  <a:pt x="16623" y="10691"/>
                  <a:pt x="16669" y="10691"/>
                </a:cubicBezTo>
                <a:cubicBezTo>
                  <a:pt x="16751" y="10691"/>
                  <a:pt x="16822" y="10693"/>
                  <a:pt x="16892" y="10716"/>
                </a:cubicBezTo>
                <a:cubicBezTo>
                  <a:pt x="16922" y="10726"/>
                  <a:pt x="16933" y="10736"/>
                  <a:pt x="16966" y="10765"/>
                </a:cubicBezTo>
                <a:cubicBezTo>
                  <a:pt x="17000" y="10795"/>
                  <a:pt x="17024" y="10818"/>
                  <a:pt x="17041" y="10840"/>
                </a:cubicBezTo>
                <a:cubicBezTo>
                  <a:pt x="17075" y="10884"/>
                  <a:pt x="17090" y="10908"/>
                  <a:pt x="17090" y="10964"/>
                </a:cubicBezTo>
                <a:cubicBezTo>
                  <a:pt x="17090" y="11026"/>
                  <a:pt x="17083" y="11061"/>
                  <a:pt x="17066" y="11112"/>
                </a:cubicBezTo>
                <a:cubicBezTo>
                  <a:pt x="17054" y="11150"/>
                  <a:pt x="17044" y="11141"/>
                  <a:pt x="17016" y="11162"/>
                </a:cubicBezTo>
                <a:cubicBezTo>
                  <a:pt x="16984" y="11186"/>
                  <a:pt x="16931" y="11208"/>
                  <a:pt x="16892" y="11212"/>
                </a:cubicBezTo>
                <a:cubicBezTo>
                  <a:pt x="16841" y="11218"/>
                  <a:pt x="16833" y="11200"/>
                  <a:pt x="16793" y="11187"/>
                </a:cubicBezTo>
                <a:cubicBezTo>
                  <a:pt x="16768" y="11179"/>
                  <a:pt x="16708" y="11184"/>
                  <a:pt x="16694" y="11162"/>
                </a:cubicBezTo>
                <a:cubicBezTo>
                  <a:pt x="16677" y="11136"/>
                  <a:pt x="16679" y="11143"/>
                  <a:pt x="16669" y="11112"/>
                </a:cubicBezTo>
              </a:path>
              <a:path w="15033" h="5533">
                <a:moveTo>
                  <a:pt x="18430" y="9748"/>
                </a:moveTo>
                <a:cubicBezTo>
                  <a:pt x="18534" y="9748"/>
                  <a:pt x="18636" y="9756"/>
                  <a:pt x="18728" y="9773"/>
                </a:cubicBezTo>
                <a:cubicBezTo>
                  <a:pt x="18781" y="9783"/>
                  <a:pt x="18846" y="9773"/>
                  <a:pt x="18901" y="9773"/>
                </a:cubicBezTo>
              </a:path>
              <a:path w="15033" h="5533">
                <a:moveTo>
                  <a:pt x="18703" y="9971"/>
                </a:moveTo>
                <a:cubicBezTo>
                  <a:pt x="18776" y="9971"/>
                  <a:pt x="18869" y="9953"/>
                  <a:pt x="18926" y="9996"/>
                </a:cubicBezTo>
              </a:path>
              <a:path w="15033" h="5533">
                <a:moveTo>
                  <a:pt x="19869" y="9327"/>
                </a:moveTo>
                <a:cubicBezTo>
                  <a:pt x="19869" y="9294"/>
                  <a:pt x="19869" y="9277"/>
                  <a:pt x="19869" y="9252"/>
                </a:cubicBezTo>
                <a:cubicBezTo>
                  <a:pt x="19767" y="9252"/>
                  <a:pt x="19738" y="9261"/>
                  <a:pt x="19670" y="9302"/>
                </a:cubicBezTo>
                <a:cubicBezTo>
                  <a:pt x="19607" y="9340"/>
                  <a:pt x="19575" y="9284"/>
                  <a:pt x="19521" y="9376"/>
                </a:cubicBezTo>
                <a:cubicBezTo>
                  <a:pt x="19495" y="9420"/>
                  <a:pt x="19535" y="9477"/>
                  <a:pt x="19571" y="9500"/>
                </a:cubicBezTo>
                <a:cubicBezTo>
                  <a:pt x="19638" y="9543"/>
                  <a:pt x="19688" y="9573"/>
                  <a:pt x="19745" y="9624"/>
                </a:cubicBezTo>
                <a:cubicBezTo>
                  <a:pt x="19802" y="9675"/>
                  <a:pt x="19896" y="9718"/>
                  <a:pt x="19943" y="9773"/>
                </a:cubicBezTo>
                <a:cubicBezTo>
                  <a:pt x="19986" y="9823"/>
                  <a:pt x="20053" y="9864"/>
                  <a:pt x="20092" y="9922"/>
                </a:cubicBezTo>
                <a:cubicBezTo>
                  <a:pt x="20130" y="9978"/>
                  <a:pt x="20141" y="10004"/>
                  <a:pt x="20141" y="10071"/>
                </a:cubicBezTo>
                <a:cubicBezTo>
                  <a:pt x="20141" y="10087"/>
                  <a:pt x="20141" y="10104"/>
                  <a:pt x="20141" y="10120"/>
                </a:cubicBezTo>
                <a:cubicBezTo>
                  <a:pt x="20042" y="10120"/>
                  <a:pt x="19943" y="10120"/>
                  <a:pt x="19844" y="10120"/>
                </a:cubicBezTo>
              </a:path>
              <a:path w="15033" h="5533">
                <a:moveTo>
                  <a:pt x="20365" y="9451"/>
                </a:moveTo>
                <a:cubicBezTo>
                  <a:pt x="20413" y="9499"/>
                  <a:pt x="20425" y="9527"/>
                  <a:pt x="20439" y="9599"/>
                </a:cubicBezTo>
                <a:cubicBezTo>
                  <a:pt x="20460" y="9705"/>
                  <a:pt x="20479" y="9808"/>
                  <a:pt x="20489" y="9922"/>
                </a:cubicBezTo>
                <a:cubicBezTo>
                  <a:pt x="20490" y="9936"/>
                  <a:pt x="20527" y="10075"/>
                  <a:pt x="20538" y="10046"/>
                </a:cubicBezTo>
                <a:cubicBezTo>
                  <a:pt x="20538" y="10029"/>
                  <a:pt x="20538" y="10013"/>
                  <a:pt x="20538" y="9996"/>
                </a:cubicBezTo>
              </a:path>
              <a:path w="15033" h="5533">
                <a:moveTo>
                  <a:pt x="20414" y="9004"/>
                </a:moveTo>
                <a:cubicBezTo>
                  <a:pt x="20422" y="9004"/>
                  <a:pt x="20431" y="9004"/>
                  <a:pt x="20439" y="9004"/>
                </a:cubicBezTo>
              </a:path>
              <a:path w="15033" h="5533">
                <a:moveTo>
                  <a:pt x="20811" y="9376"/>
                </a:moveTo>
                <a:cubicBezTo>
                  <a:pt x="20818" y="9462"/>
                  <a:pt x="20836" y="9537"/>
                  <a:pt x="20836" y="9624"/>
                </a:cubicBezTo>
                <a:cubicBezTo>
                  <a:pt x="20836" y="9706"/>
                  <a:pt x="20873" y="9779"/>
                  <a:pt x="20886" y="9847"/>
                </a:cubicBezTo>
                <a:cubicBezTo>
                  <a:pt x="20886" y="9888"/>
                  <a:pt x="20877" y="9905"/>
                  <a:pt x="20910" y="9897"/>
                </a:cubicBezTo>
                <a:cubicBezTo>
                  <a:pt x="20910" y="9794"/>
                  <a:pt x="20899" y="9689"/>
                  <a:pt x="20886" y="9599"/>
                </a:cubicBezTo>
                <a:cubicBezTo>
                  <a:pt x="20876" y="9532"/>
                  <a:pt x="20866" y="9466"/>
                  <a:pt x="20861" y="9401"/>
                </a:cubicBezTo>
                <a:cubicBezTo>
                  <a:pt x="20855" y="9329"/>
                  <a:pt x="20911" y="9331"/>
                  <a:pt x="20935" y="9302"/>
                </a:cubicBezTo>
                <a:cubicBezTo>
                  <a:pt x="20992" y="9232"/>
                  <a:pt x="21004" y="9239"/>
                  <a:pt x="21084" y="9252"/>
                </a:cubicBezTo>
                <a:cubicBezTo>
                  <a:pt x="21107" y="9256"/>
                  <a:pt x="21236" y="9305"/>
                  <a:pt x="21258" y="9327"/>
                </a:cubicBezTo>
                <a:cubicBezTo>
                  <a:pt x="21307" y="9376"/>
                  <a:pt x="21390" y="9477"/>
                  <a:pt x="21406" y="9550"/>
                </a:cubicBezTo>
                <a:cubicBezTo>
                  <a:pt x="21424" y="9633"/>
                  <a:pt x="21447" y="9736"/>
                  <a:pt x="21431" y="9823"/>
                </a:cubicBezTo>
                <a:cubicBezTo>
                  <a:pt x="21417" y="9897"/>
                  <a:pt x="21406" y="10122"/>
                  <a:pt x="21406" y="10046"/>
                </a:cubicBezTo>
                <a:cubicBezTo>
                  <a:pt x="21406" y="10029"/>
                  <a:pt x="21406" y="10013"/>
                  <a:pt x="21406" y="9996"/>
                </a:cubicBezTo>
              </a:path>
              <a:path w="15033" h="5533">
                <a:moveTo>
                  <a:pt x="21704" y="8781"/>
                </a:moveTo>
                <a:cubicBezTo>
                  <a:pt x="21696" y="8821"/>
                  <a:pt x="21654" y="8927"/>
                  <a:pt x="21654" y="8930"/>
                </a:cubicBezTo>
                <a:cubicBezTo>
                  <a:pt x="21647" y="8970"/>
                  <a:pt x="21662" y="9046"/>
                  <a:pt x="21679" y="9079"/>
                </a:cubicBezTo>
                <a:cubicBezTo>
                  <a:pt x="21698" y="9116"/>
                  <a:pt x="21746" y="9103"/>
                  <a:pt x="21779" y="9103"/>
                </a:cubicBezTo>
                <a:cubicBezTo>
                  <a:pt x="21907" y="9103"/>
                  <a:pt x="22036" y="9101"/>
                  <a:pt x="22151" y="9079"/>
                </a:cubicBezTo>
                <a:cubicBezTo>
                  <a:pt x="22175" y="9079"/>
                  <a:pt x="22184" y="9079"/>
                  <a:pt x="22200" y="9079"/>
                </a:cubicBezTo>
                <a:cubicBezTo>
                  <a:pt x="22200" y="9013"/>
                  <a:pt x="22200" y="8946"/>
                  <a:pt x="22200" y="8880"/>
                </a:cubicBezTo>
                <a:cubicBezTo>
                  <a:pt x="22200" y="9000"/>
                  <a:pt x="22188" y="9111"/>
                  <a:pt x="22175" y="9227"/>
                </a:cubicBezTo>
                <a:cubicBezTo>
                  <a:pt x="22165" y="9316"/>
                  <a:pt x="22196" y="9374"/>
                  <a:pt x="22200" y="9451"/>
                </a:cubicBezTo>
                <a:cubicBezTo>
                  <a:pt x="22202" y="9499"/>
                  <a:pt x="22228" y="9634"/>
                  <a:pt x="22250" y="9674"/>
                </a:cubicBezTo>
                <a:cubicBezTo>
                  <a:pt x="22259" y="9691"/>
                  <a:pt x="22297" y="9764"/>
                  <a:pt x="22324" y="9773"/>
                </a:cubicBezTo>
              </a:path>
              <a:path w="15033" h="5533">
                <a:moveTo>
                  <a:pt x="22671" y="8930"/>
                </a:moveTo>
                <a:cubicBezTo>
                  <a:pt x="22659" y="9010"/>
                  <a:pt x="22630" y="9062"/>
                  <a:pt x="22597" y="9153"/>
                </a:cubicBezTo>
                <a:cubicBezTo>
                  <a:pt x="22567" y="9235"/>
                  <a:pt x="22552" y="9364"/>
                  <a:pt x="22572" y="9451"/>
                </a:cubicBezTo>
                <a:cubicBezTo>
                  <a:pt x="22590" y="9531"/>
                  <a:pt x="22626" y="9602"/>
                  <a:pt x="22671" y="9674"/>
                </a:cubicBezTo>
                <a:cubicBezTo>
                  <a:pt x="22732" y="9771"/>
                  <a:pt x="22797" y="9787"/>
                  <a:pt x="22895" y="9823"/>
                </a:cubicBezTo>
                <a:cubicBezTo>
                  <a:pt x="22984" y="9855"/>
                  <a:pt x="22991" y="9897"/>
                  <a:pt x="23093" y="9897"/>
                </a:cubicBezTo>
                <a:cubicBezTo>
                  <a:pt x="23203" y="9897"/>
                  <a:pt x="23163" y="9866"/>
                  <a:pt x="23242" y="9823"/>
                </a:cubicBezTo>
                <a:cubicBezTo>
                  <a:pt x="23250" y="9823"/>
                  <a:pt x="23259" y="9823"/>
                  <a:pt x="23267" y="9823"/>
                </a:cubicBezTo>
                <a:cubicBezTo>
                  <a:pt x="23226" y="9711"/>
                  <a:pt x="23220" y="9732"/>
                  <a:pt x="23143" y="9674"/>
                </a:cubicBezTo>
                <a:cubicBezTo>
                  <a:pt x="23075" y="9623"/>
                  <a:pt x="23065" y="9578"/>
                  <a:pt x="22969" y="9599"/>
                </a:cubicBezTo>
                <a:cubicBezTo>
                  <a:pt x="22891" y="9616"/>
                  <a:pt x="22892" y="9622"/>
                  <a:pt x="22845" y="9674"/>
                </a:cubicBezTo>
                <a:cubicBezTo>
                  <a:pt x="22802" y="9721"/>
                  <a:pt x="22774" y="9762"/>
                  <a:pt x="22771" y="9823"/>
                </a:cubicBezTo>
                <a:cubicBezTo>
                  <a:pt x="22768" y="9878"/>
                  <a:pt x="22778" y="9892"/>
                  <a:pt x="22796" y="9922"/>
                </a:cubicBezTo>
              </a:path>
              <a:path w="15033" h="5533">
                <a:moveTo>
                  <a:pt x="19794" y="10220"/>
                </a:moveTo>
                <a:cubicBezTo>
                  <a:pt x="19850" y="10284"/>
                  <a:pt x="19781" y="10243"/>
                  <a:pt x="19869" y="10269"/>
                </a:cubicBezTo>
                <a:cubicBezTo>
                  <a:pt x="19949" y="10292"/>
                  <a:pt x="19948" y="10338"/>
                  <a:pt x="20042" y="10344"/>
                </a:cubicBezTo>
                <a:cubicBezTo>
                  <a:pt x="20412" y="10367"/>
                  <a:pt x="20806" y="10353"/>
                  <a:pt x="21158" y="10294"/>
                </a:cubicBezTo>
                <a:cubicBezTo>
                  <a:pt x="21319" y="10267"/>
                  <a:pt x="21517" y="10278"/>
                  <a:pt x="21679" y="10269"/>
                </a:cubicBezTo>
                <a:cubicBezTo>
                  <a:pt x="21908" y="10257"/>
                  <a:pt x="22113" y="10265"/>
                  <a:pt x="22324" y="10220"/>
                </a:cubicBezTo>
                <a:cubicBezTo>
                  <a:pt x="22597" y="10162"/>
                  <a:pt x="22972" y="10222"/>
                  <a:pt x="23217" y="10269"/>
                </a:cubicBezTo>
                <a:cubicBezTo>
                  <a:pt x="23290" y="10283"/>
                  <a:pt x="23316" y="10269"/>
                  <a:pt x="23391" y="10269"/>
                </a:cubicBezTo>
              </a:path>
              <a:path w="15033" h="5533">
                <a:moveTo>
                  <a:pt x="22101" y="10592"/>
                </a:moveTo>
                <a:cubicBezTo>
                  <a:pt x="21952" y="10653"/>
                  <a:pt x="21899" y="10676"/>
                  <a:pt x="21779" y="10765"/>
                </a:cubicBezTo>
                <a:cubicBezTo>
                  <a:pt x="21697" y="10826"/>
                  <a:pt x="21607" y="10896"/>
                  <a:pt x="21530" y="10964"/>
                </a:cubicBezTo>
                <a:cubicBezTo>
                  <a:pt x="21433" y="11050"/>
                  <a:pt x="21340" y="11138"/>
                  <a:pt x="21233" y="11212"/>
                </a:cubicBezTo>
                <a:cubicBezTo>
                  <a:pt x="21154" y="11267"/>
                  <a:pt x="21068" y="11315"/>
                  <a:pt x="20985" y="11361"/>
                </a:cubicBezTo>
                <a:cubicBezTo>
                  <a:pt x="20933" y="11390"/>
                  <a:pt x="20894" y="11423"/>
                  <a:pt x="20836" y="11435"/>
                </a:cubicBezTo>
                <a:cubicBezTo>
                  <a:pt x="20778" y="11447"/>
                  <a:pt x="20796" y="11426"/>
                  <a:pt x="20762" y="11385"/>
                </a:cubicBezTo>
              </a:path>
              <a:path w="15033" h="5533">
                <a:moveTo>
                  <a:pt x="20960" y="10914"/>
                </a:moveTo>
                <a:cubicBezTo>
                  <a:pt x="21001" y="10899"/>
                  <a:pt x="21062" y="10871"/>
                  <a:pt x="21109" y="10889"/>
                </a:cubicBezTo>
                <a:cubicBezTo>
                  <a:pt x="21179" y="10916"/>
                  <a:pt x="21214" y="10985"/>
                  <a:pt x="21258" y="11038"/>
                </a:cubicBezTo>
                <a:cubicBezTo>
                  <a:pt x="21311" y="11102"/>
                  <a:pt x="21354" y="11175"/>
                  <a:pt x="21406" y="11237"/>
                </a:cubicBezTo>
                <a:cubicBezTo>
                  <a:pt x="21459" y="11301"/>
                  <a:pt x="21503" y="11372"/>
                  <a:pt x="21555" y="11435"/>
                </a:cubicBezTo>
                <a:cubicBezTo>
                  <a:pt x="21599" y="11487"/>
                  <a:pt x="21666" y="11527"/>
                  <a:pt x="21704" y="11584"/>
                </a:cubicBezTo>
                <a:cubicBezTo>
                  <a:pt x="21737" y="11633"/>
                  <a:pt x="21765" y="11669"/>
                  <a:pt x="21803" y="11708"/>
                </a:cubicBezTo>
                <a:cubicBezTo>
                  <a:pt x="21811" y="11716"/>
                  <a:pt x="21820" y="11725"/>
                  <a:pt x="21828" y="11733"/>
                </a:cubicBezTo>
              </a:path>
              <a:path w="15033" h="5533">
                <a:moveTo>
                  <a:pt x="19596" y="9302"/>
                </a:moveTo>
                <a:cubicBezTo>
                  <a:pt x="19568" y="9358"/>
                  <a:pt x="19566" y="9361"/>
                  <a:pt x="19521" y="9401"/>
                </a:cubicBezTo>
                <a:cubicBezTo>
                  <a:pt x="19412" y="9498"/>
                  <a:pt x="19333" y="9668"/>
                  <a:pt x="19224" y="9748"/>
                </a:cubicBezTo>
                <a:cubicBezTo>
                  <a:pt x="19120" y="9825"/>
                  <a:pt x="19023" y="9898"/>
                  <a:pt x="18926" y="9996"/>
                </a:cubicBezTo>
                <a:cubicBezTo>
                  <a:pt x="18833" y="10089"/>
                  <a:pt x="18740" y="10175"/>
                  <a:pt x="18653" y="10269"/>
                </a:cubicBezTo>
                <a:cubicBezTo>
                  <a:pt x="18579" y="10349"/>
                  <a:pt x="18488" y="10505"/>
                  <a:pt x="18405" y="10567"/>
                </a:cubicBezTo>
                <a:cubicBezTo>
                  <a:pt x="18323" y="10628"/>
                  <a:pt x="18291" y="10686"/>
                  <a:pt x="18207" y="10765"/>
                </a:cubicBezTo>
                <a:cubicBezTo>
                  <a:pt x="18184" y="10787"/>
                  <a:pt x="18119" y="10857"/>
                  <a:pt x="18107" y="10864"/>
                </a:cubicBezTo>
                <a:cubicBezTo>
                  <a:pt x="18099" y="10864"/>
                  <a:pt x="18091" y="10864"/>
                  <a:pt x="18083" y="10864"/>
                </a:cubicBezTo>
              </a:path>
              <a:path w="15033" h="5533">
                <a:moveTo>
                  <a:pt x="18157" y="9500"/>
                </a:moveTo>
                <a:cubicBezTo>
                  <a:pt x="18179" y="9516"/>
                  <a:pt x="18242" y="9593"/>
                  <a:pt x="18256" y="9599"/>
                </a:cubicBezTo>
                <a:cubicBezTo>
                  <a:pt x="18338" y="9637"/>
                  <a:pt x="18349" y="9685"/>
                  <a:pt x="18430" y="9748"/>
                </a:cubicBezTo>
                <a:cubicBezTo>
                  <a:pt x="18501" y="9804"/>
                  <a:pt x="18556" y="9872"/>
                  <a:pt x="18628" y="9922"/>
                </a:cubicBezTo>
                <a:cubicBezTo>
                  <a:pt x="18731" y="9993"/>
                  <a:pt x="18787" y="10060"/>
                  <a:pt x="18901" y="10120"/>
                </a:cubicBezTo>
                <a:cubicBezTo>
                  <a:pt x="19004" y="10174"/>
                  <a:pt x="19184" y="10263"/>
                  <a:pt x="19273" y="10344"/>
                </a:cubicBezTo>
                <a:cubicBezTo>
                  <a:pt x="19359" y="10422"/>
                  <a:pt x="19441" y="10500"/>
                  <a:pt x="19546" y="10567"/>
                </a:cubicBezTo>
                <a:cubicBezTo>
                  <a:pt x="19626" y="10618"/>
                  <a:pt x="19689" y="10690"/>
                  <a:pt x="19769" y="10740"/>
                </a:cubicBezTo>
                <a:cubicBezTo>
                  <a:pt x="19819" y="10771"/>
                  <a:pt x="19868" y="10811"/>
                  <a:pt x="19918" y="10840"/>
                </a:cubicBezTo>
                <a:cubicBezTo>
                  <a:pt x="19952" y="10860"/>
                  <a:pt x="19983" y="10872"/>
                  <a:pt x="20017" y="108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0240" y="4562640"/>
            <a:ext cx="492120" cy="287280"/>
          </a:xfrm>
          <a:custGeom>
            <a:avLst/>
            <a:gdLst/>
            <a:ahLst/>
            <a:rect l="l" t="t" r="r" b="b"/>
            <a:pathLst>
              <a:path w="1365" h="795">
                <a:moveTo>
                  <a:pt x="5085" y="12874"/>
                </a:moveTo>
                <a:cubicBezTo>
                  <a:pt x="5190" y="12874"/>
                  <a:pt x="5284" y="12876"/>
                  <a:pt x="5383" y="12898"/>
                </a:cubicBezTo>
                <a:cubicBezTo>
                  <a:pt x="5405" y="12903"/>
                  <a:pt x="5435" y="12898"/>
                  <a:pt x="5457" y="12898"/>
                </a:cubicBezTo>
                <a:cubicBezTo>
                  <a:pt x="5446" y="12932"/>
                  <a:pt x="5422" y="12929"/>
                  <a:pt x="5407" y="12973"/>
                </a:cubicBezTo>
                <a:cubicBezTo>
                  <a:pt x="5395" y="13010"/>
                  <a:pt x="5398" y="13059"/>
                  <a:pt x="5383" y="13097"/>
                </a:cubicBezTo>
                <a:cubicBezTo>
                  <a:pt x="5357" y="13161"/>
                  <a:pt x="5358" y="13203"/>
                  <a:pt x="5358" y="13271"/>
                </a:cubicBezTo>
                <a:cubicBezTo>
                  <a:pt x="5358" y="13304"/>
                  <a:pt x="5349" y="13413"/>
                  <a:pt x="5333" y="13444"/>
                </a:cubicBezTo>
                <a:cubicBezTo>
                  <a:pt x="5303" y="13474"/>
                  <a:pt x="5298" y="13476"/>
                  <a:pt x="5333" y="13419"/>
                </a:cubicBezTo>
              </a:path>
              <a:path w="1365" h="795">
                <a:moveTo>
                  <a:pt x="5854" y="12849"/>
                </a:moveTo>
                <a:cubicBezTo>
                  <a:pt x="5820" y="12908"/>
                  <a:pt x="5786" y="12960"/>
                  <a:pt x="5755" y="13022"/>
                </a:cubicBezTo>
                <a:cubicBezTo>
                  <a:pt x="5721" y="13090"/>
                  <a:pt x="5710" y="13145"/>
                  <a:pt x="5705" y="13221"/>
                </a:cubicBezTo>
                <a:cubicBezTo>
                  <a:pt x="5702" y="13268"/>
                  <a:pt x="5707" y="13331"/>
                  <a:pt x="5730" y="13370"/>
                </a:cubicBezTo>
                <a:cubicBezTo>
                  <a:pt x="5762" y="13423"/>
                  <a:pt x="5800" y="13419"/>
                  <a:pt x="5854" y="13419"/>
                </a:cubicBezTo>
                <a:cubicBezTo>
                  <a:pt x="5902" y="13419"/>
                  <a:pt x="5947" y="13414"/>
                  <a:pt x="5978" y="13370"/>
                </a:cubicBezTo>
                <a:cubicBezTo>
                  <a:pt x="6016" y="13317"/>
                  <a:pt x="6042" y="13233"/>
                  <a:pt x="6052" y="13171"/>
                </a:cubicBezTo>
                <a:cubicBezTo>
                  <a:pt x="6063" y="13104"/>
                  <a:pt x="6058" y="13008"/>
                  <a:pt x="6028" y="12948"/>
                </a:cubicBezTo>
                <a:cubicBezTo>
                  <a:pt x="6014" y="12920"/>
                  <a:pt x="5968" y="12834"/>
                  <a:pt x="5953" y="12824"/>
                </a:cubicBezTo>
                <a:cubicBezTo>
                  <a:pt x="5936" y="12812"/>
                  <a:pt x="5922" y="12862"/>
                  <a:pt x="6003" y="12874"/>
                </a:cubicBezTo>
              </a:path>
              <a:path w="1365" h="795">
                <a:moveTo>
                  <a:pt x="6300" y="12675"/>
                </a:moveTo>
                <a:cubicBezTo>
                  <a:pt x="6291" y="12714"/>
                  <a:pt x="6276" y="12730"/>
                  <a:pt x="6276" y="12774"/>
                </a:cubicBezTo>
                <a:cubicBezTo>
                  <a:pt x="6276" y="12800"/>
                  <a:pt x="6317" y="12845"/>
                  <a:pt x="6325" y="12849"/>
                </a:cubicBezTo>
                <a:cubicBezTo>
                  <a:pt x="6368" y="12870"/>
                  <a:pt x="6399" y="12824"/>
                  <a:pt x="6424" y="12799"/>
                </a:cubicBezTo>
                <a:cubicBezTo>
                  <a:pt x="6457" y="12766"/>
                  <a:pt x="6449" y="12745"/>
                  <a:pt x="6449" y="12700"/>
                </a:cubicBezTo>
                <a:cubicBezTo>
                  <a:pt x="6449" y="12661"/>
                  <a:pt x="6433" y="12675"/>
                  <a:pt x="6400" y="126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0720" y="4562640"/>
            <a:ext cx="696600" cy="304560"/>
          </a:xfrm>
          <a:custGeom>
            <a:avLst/>
            <a:gdLst/>
            <a:ahLst/>
            <a:rect l="l" t="t" r="r" b="b"/>
            <a:pathLst>
              <a:path w="1935" h="845">
                <a:moveTo>
                  <a:pt x="14163" y="13494"/>
                </a:moveTo>
                <a:cubicBezTo>
                  <a:pt x="14207" y="13472"/>
                  <a:pt x="14219" y="13469"/>
                  <a:pt x="14238" y="13444"/>
                </a:cubicBezTo>
                <a:cubicBezTo>
                  <a:pt x="14221" y="13470"/>
                  <a:pt x="14219" y="13491"/>
                  <a:pt x="14263" y="13494"/>
                </a:cubicBezTo>
                <a:cubicBezTo>
                  <a:pt x="14342" y="13500"/>
                  <a:pt x="14300" y="13463"/>
                  <a:pt x="14337" y="13444"/>
                </a:cubicBezTo>
                <a:cubicBezTo>
                  <a:pt x="14369" y="13428"/>
                  <a:pt x="14362" y="13441"/>
                  <a:pt x="14362" y="13395"/>
                </a:cubicBezTo>
                <a:cubicBezTo>
                  <a:pt x="14332" y="13402"/>
                  <a:pt x="14287" y="13425"/>
                  <a:pt x="14312" y="13469"/>
                </a:cubicBezTo>
                <a:cubicBezTo>
                  <a:pt x="14321" y="13486"/>
                  <a:pt x="14395" y="13515"/>
                  <a:pt x="14412" y="13494"/>
                </a:cubicBezTo>
                <a:cubicBezTo>
                  <a:pt x="14441" y="13458"/>
                  <a:pt x="14422" y="13434"/>
                  <a:pt x="14412" y="13395"/>
                </a:cubicBezTo>
                <a:cubicBezTo>
                  <a:pt x="14386" y="13401"/>
                  <a:pt x="14326" y="13415"/>
                  <a:pt x="14312" y="13444"/>
                </a:cubicBezTo>
                <a:cubicBezTo>
                  <a:pt x="14312" y="13452"/>
                  <a:pt x="14312" y="13461"/>
                  <a:pt x="14312" y="13469"/>
                </a:cubicBezTo>
                <a:cubicBezTo>
                  <a:pt x="14315" y="13477"/>
                  <a:pt x="14362" y="13544"/>
                  <a:pt x="14387" y="13519"/>
                </a:cubicBezTo>
                <a:cubicBezTo>
                  <a:pt x="14397" y="13509"/>
                  <a:pt x="14428" y="13469"/>
                  <a:pt x="14436" y="13444"/>
                </a:cubicBezTo>
                <a:cubicBezTo>
                  <a:pt x="14455" y="13383"/>
                  <a:pt x="14439" y="13388"/>
                  <a:pt x="14412" y="13395"/>
                </a:cubicBezTo>
                <a:cubicBezTo>
                  <a:pt x="14370" y="13406"/>
                  <a:pt x="14403" y="13406"/>
                  <a:pt x="14362" y="13419"/>
                </a:cubicBezTo>
                <a:cubicBezTo>
                  <a:pt x="14376" y="13461"/>
                  <a:pt x="14375" y="13447"/>
                  <a:pt x="14412" y="13419"/>
                </a:cubicBezTo>
              </a:path>
              <a:path w="1935" h="845">
                <a:moveTo>
                  <a:pt x="12601" y="12725"/>
                </a:moveTo>
                <a:cubicBezTo>
                  <a:pt x="12598" y="12770"/>
                  <a:pt x="12598" y="12879"/>
                  <a:pt x="12576" y="12923"/>
                </a:cubicBezTo>
                <a:cubicBezTo>
                  <a:pt x="12554" y="12966"/>
                  <a:pt x="12508" y="12971"/>
                  <a:pt x="12502" y="13022"/>
                </a:cubicBezTo>
                <a:cubicBezTo>
                  <a:pt x="12502" y="13030"/>
                  <a:pt x="12502" y="13039"/>
                  <a:pt x="12502" y="13047"/>
                </a:cubicBezTo>
                <a:cubicBezTo>
                  <a:pt x="12553" y="13047"/>
                  <a:pt x="12559" y="13054"/>
                  <a:pt x="12601" y="13072"/>
                </a:cubicBezTo>
                <a:cubicBezTo>
                  <a:pt x="12644" y="13090"/>
                  <a:pt x="12728" y="13119"/>
                  <a:pt x="12774" y="13122"/>
                </a:cubicBezTo>
                <a:cubicBezTo>
                  <a:pt x="12830" y="13126"/>
                  <a:pt x="12857" y="13128"/>
                  <a:pt x="12898" y="13097"/>
                </a:cubicBezTo>
              </a:path>
              <a:path w="1935" h="845">
                <a:moveTo>
                  <a:pt x="12998" y="12725"/>
                </a:moveTo>
                <a:cubicBezTo>
                  <a:pt x="13006" y="12725"/>
                  <a:pt x="13014" y="12725"/>
                  <a:pt x="13022" y="12725"/>
                </a:cubicBezTo>
                <a:cubicBezTo>
                  <a:pt x="13010" y="12774"/>
                  <a:pt x="13010" y="12820"/>
                  <a:pt x="12998" y="12874"/>
                </a:cubicBezTo>
                <a:cubicBezTo>
                  <a:pt x="12978" y="12964"/>
                  <a:pt x="12961" y="13056"/>
                  <a:pt x="12948" y="13146"/>
                </a:cubicBezTo>
                <a:cubicBezTo>
                  <a:pt x="12939" y="13210"/>
                  <a:pt x="12948" y="13441"/>
                  <a:pt x="12948" y="13419"/>
                </a:cubicBezTo>
                <a:cubicBezTo>
                  <a:pt x="12948" y="13411"/>
                  <a:pt x="12948" y="13403"/>
                  <a:pt x="12948" y="13395"/>
                </a:cubicBezTo>
              </a:path>
              <a:path w="1935" h="845">
                <a:moveTo>
                  <a:pt x="13196" y="12750"/>
                </a:moveTo>
                <a:cubicBezTo>
                  <a:pt x="13232" y="12762"/>
                  <a:pt x="13234" y="12824"/>
                  <a:pt x="13221" y="12874"/>
                </a:cubicBezTo>
                <a:cubicBezTo>
                  <a:pt x="13202" y="12949"/>
                  <a:pt x="13175" y="13017"/>
                  <a:pt x="13171" y="13097"/>
                </a:cubicBezTo>
                <a:cubicBezTo>
                  <a:pt x="13168" y="13157"/>
                  <a:pt x="13161" y="13219"/>
                  <a:pt x="13196" y="13271"/>
                </a:cubicBezTo>
                <a:cubicBezTo>
                  <a:pt x="13229" y="13320"/>
                  <a:pt x="13265" y="13340"/>
                  <a:pt x="13320" y="13345"/>
                </a:cubicBezTo>
                <a:cubicBezTo>
                  <a:pt x="13364" y="13349"/>
                  <a:pt x="13437" y="13320"/>
                  <a:pt x="13469" y="13295"/>
                </a:cubicBezTo>
                <a:cubicBezTo>
                  <a:pt x="13503" y="13269"/>
                  <a:pt x="13539" y="13237"/>
                  <a:pt x="13543" y="13196"/>
                </a:cubicBezTo>
                <a:cubicBezTo>
                  <a:pt x="13548" y="13153"/>
                  <a:pt x="13547" y="13129"/>
                  <a:pt x="13519" y="13097"/>
                </a:cubicBezTo>
                <a:cubicBezTo>
                  <a:pt x="13488" y="13062"/>
                  <a:pt x="13451" y="13094"/>
                  <a:pt x="13419" y="13122"/>
                </a:cubicBezTo>
                <a:cubicBezTo>
                  <a:pt x="13387" y="13150"/>
                  <a:pt x="13348" y="13179"/>
                  <a:pt x="13345" y="13221"/>
                </a:cubicBezTo>
                <a:cubicBezTo>
                  <a:pt x="13341" y="13274"/>
                  <a:pt x="13359" y="13277"/>
                  <a:pt x="13370" y="13320"/>
                </a:cubicBezTo>
              </a:path>
              <a:path w="1935" h="845">
                <a:moveTo>
                  <a:pt x="13667" y="12675"/>
                </a:moveTo>
                <a:cubicBezTo>
                  <a:pt x="13667" y="12720"/>
                  <a:pt x="13647" y="12734"/>
                  <a:pt x="13643" y="12774"/>
                </a:cubicBezTo>
                <a:cubicBezTo>
                  <a:pt x="13638" y="12824"/>
                  <a:pt x="13658" y="12830"/>
                  <a:pt x="13667" y="12849"/>
                </a:cubicBezTo>
                <a:cubicBezTo>
                  <a:pt x="13671" y="12858"/>
                  <a:pt x="13717" y="12905"/>
                  <a:pt x="13742" y="12874"/>
                </a:cubicBezTo>
                <a:cubicBezTo>
                  <a:pt x="13752" y="12862"/>
                  <a:pt x="13793" y="12810"/>
                  <a:pt x="13767" y="12774"/>
                </a:cubicBezTo>
                <a:cubicBezTo>
                  <a:pt x="13754" y="12756"/>
                  <a:pt x="13726" y="12750"/>
                  <a:pt x="13692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48160" y="4375080"/>
            <a:ext cx="1751040" cy="474840"/>
          </a:xfrm>
          <a:custGeom>
            <a:avLst/>
            <a:gdLst/>
            <a:ahLst/>
            <a:rect l="l" t="t" r="r" b="b"/>
            <a:pathLst>
              <a:path w="4863" h="1316">
                <a:moveTo>
                  <a:pt x="14858" y="12551"/>
                </a:moveTo>
                <a:cubicBezTo>
                  <a:pt x="14888" y="12569"/>
                  <a:pt x="14885" y="12573"/>
                  <a:pt x="14932" y="12576"/>
                </a:cubicBezTo>
                <a:cubicBezTo>
                  <a:pt x="15000" y="12580"/>
                  <a:pt x="15043" y="12561"/>
                  <a:pt x="15106" y="12551"/>
                </a:cubicBezTo>
                <a:cubicBezTo>
                  <a:pt x="15174" y="12540"/>
                  <a:pt x="15265" y="12532"/>
                  <a:pt x="15329" y="12526"/>
                </a:cubicBezTo>
                <a:cubicBezTo>
                  <a:pt x="15346" y="12524"/>
                  <a:pt x="15547" y="12498"/>
                  <a:pt x="15577" y="12502"/>
                </a:cubicBezTo>
                <a:cubicBezTo>
                  <a:pt x="15595" y="12504"/>
                  <a:pt x="15625" y="12522"/>
                  <a:pt x="15652" y="12526"/>
                </a:cubicBezTo>
                <a:cubicBezTo>
                  <a:pt x="15647" y="12570"/>
                  <a:pt x="15642" y="12610"/>
                  <a:pt x="15627" y="12650"/>
                </a:cubicBezTo>
                <a:cubicBezTo>
                  <a:pt x="15599" y="12724"/>
                  <a:pt x="15565" y="12818"/>
                  <a:pt x="15553" y="12898"/>
                </a:cubicBezTo>
                <a:cubicBezTo>
                  <a:pt x="15540" y="12990"/>
                  <a:pt x="15528" y="13077"/>
                  <a:pt x="15528" y="13171"/>
                </a:cubicBezTo>
                <a:cubicBezTo>
                  <a:pt x="15528" y="13256"/>
                  <a:pt x="15511" y="13351"/>
                  <a:pt x="15553" y="13419"/>
                </a:cubicBezTo>
                <a:cubicBezTo>
                  <a:pt x="15581" y="13391"/>
                  <a:pt x="15586" y="13372"/>
                  <a:pt x="15602" y="13345"/>
                </a:cubicBezTo>
              </a:path>
              <a:path w="4863" h="1316">
                <a:moveTo>
                  <a:pt x="16321" y="12402"/>
                </a:moveTo>
                <a:cubicBezTo>
                  <a:pt x="16284" y="12415"/>
                  <a:pt x="16300" y="12427"/>
                  <a:pt x="16247" y="12427"/>
                </a:cubicBezTo>
                <a:cubicBezTo>
                  <a:pt x="16212" y="12427"/>
                  <a:pt x="16173" y="12454"/>
                  <a:pt x="16148" y="12477"/>
                </a:cubicBezTo>
                <a:cubicBezTo>
                  <a:pt x="16117" y="12505"/>
                  <a:pt x="16080" y="12505"/>
                  <a:pt x="16049" y="12526"/>
                </a:cubicBezTo>
                <a:cubicBezTo>
                  <a:pt x="16014" y="12550"/>
                  <a:pt x="15989" y="12581"/>
                  <a:pt x="15974" y="12601"/>
                </a:cubicBezTo>
                <a:cubicBezTo>
                  <a:pt x="15950" y="12633"/>
                  <a:pt x="15929" y="12685"/>
                  <a:pt x="15925" y="12725"/>
                </a:cubicBezTo>
                <a:cubicBezTo>
                  <a:pt x="15920" y="12774"/>
                  <a:pt x="15905" y="12807"/>
                  <a:pt x="15900" y="12849"/>
                </a:cubicBezTo>
                <a:cubicBezTo>
                  <a:pt x="15896" y="12881"/>
                  <a:pt x="15883" y="12892"/>
                  <a:pt x="15875" y="12923"/>
                </a:cubicBezTo>
                <a:cubicBezTo>
                  <a:pt x="15913" y="12910"/>
                  <a:pt x="15898" y="12867"/>
                  <a:pt x="15925" y="12849"/>
                </a:cubicBezTo>
                <a:cubicBezTo>
                  <a:pt x="15951" y="12831"/>
                  <a:pt x="15998" y="12839"/>
                  <a:pt x="16024" y="12824"/>
                </a:cubicBezTo>
                <a:cubicBezTo>
                  <a:pt x="16053" y="12808"/>
                  <a:pt x="16128" y="12810"/>
                  <a:pt x="16173" y="12824"/>
                </a:cubicBezTo>
                <a:cubicBezTo>
                  <a:pt x="16253" y="12848"/>
                  <a:pt x="16283" y="12904"/>
                  <a:pt x="16346" y="12948"/>
                </a:cubicBezTo>
                <a:cubicBezTo>
                  <a:pt x="16407" y="12991"/>
                  <a:pt x="16434" y="13030"/>
                  <a:pt x="16470" y="13097"/>
                </a:cubicBezTo>
                <a:cubicBezTo>
                  <a:pt x="16499" y="13152"/>
                  <a:pt x="16495" y="13185"/>
                  <a:pt x="16495" y="13246"/>
                </a:cubicBezTo>
                <a:cubicBezTo>
                  <a:pt x="16495" y="13274"/>
                  <a:pt x="16451" y="13336"/>
                  <a:pt x="16421" y="13345"/>
                </a:cubicBezTo>
                <a:cubicBezTo>
                  <a:pt x="16328" y="13374"/>
                  <a:pt x="16243" y="13370"/>
                  <a:pt x="16148" y="13370"/>
                </a:cubicBezTo>
                <a:cubicBezTo>
                  <a:pt x="16125" y="13370"/>
                  <a:pt x="16032" y="13368"/>
                  <a:pt x="16024" y="13345"/>
                </a:cubicBezTo>
                <a:cubicBezTo>
                  <a:pt x="16024" y="13304"/>
                  <a:pt x="16024" y="13296"/>
                  <a:pt x="16024" y="13271"/>
                </a:cubicBezTo>
              </a:path>
              <a:path w="4863" h="1316">
                <a:moveTo>
                  <a:pt x="16991" y="12626"/>
                </a:moveTo>
                <a:cubicBezTo>
                  <a:pt x="16927" y="12626"/>
                  <a:pt x="16878" y="12640"/>
                  <a:pt x="16818" y="12650"/>
                </a:cubicBezTo>
                <a:cubicBezTo>
                  <a:pt x="16756" y="12660"/>
                  <a:pt x="16720" y="12679"/>
                  <a:pt x="16669" y="12725"/>
                </a:cubicBezTo>
                <a:cubicBezTo>
                  <a:pt x="16648" y="12744"/>
                  <a:pt x="16627" y="12794"/>
                  <a:pt x="16644" y="12824"/>
                </a:cubicBezTo>
                <a:cubicBezTo>
                  <a:pt x="16667" y="12865"/>
                  <a:pt x="16753" y="12902"/>
                  <a:pt x="16793" y="12923"/>
                </a:cubicBezTo>
                <a:cubicBezTo>
                  <a:pt x="16886" y="12973"/>
                  <a:pt x="16964" y="13013"/>
                  <a:pt x="17041" y="13072"/>
                </a:cubicBezTo>
                <a:cubicBezTo>
                  <a:pt x="17104" y="13121"/>
                  <a:pt x="17133" y="13112"/>
                  <a:pt x="17140" y="13196"/>
                </a:cubicBezTo>
                <a:cubicBezTo>
                  <a:pt x="17144" y="13247"/>
                  <a:pt x="17128" y="13255"/>
                  <a:pt x="17115" y="13295"/>
                </a:cubicBezTo>
                <a:cubicBezTo>
                  <a:pt x="17098" y="13347"/>
                  <a:pt x="17038" y="13361"/>
                  <a:pt x="16991" y="13395"/>
                </a:cubicBezTo>
                <a:cubicBezTo>
                  <a:pt x="16968" y="13412"/>
                  <a:pt x="16876" y="13442"/>
                  <a:pt x="16842" y="13419"/>
                </a:cubicBezTo>
                <a:cubicBezTo>
                  <a:pt x="16835" y="13414"/>
                  <a:pt x="16821" y="13358"/>
                  <a:pt x="16818" y="13345"/>
                </a:cubicBezTo>
              </a:path>
              <a:path w="4863" h="1316">
                <a:moveTo>
                  <a:pt x="17264" y="12750"/>
                </a:moveTo>
                <a:cubicBezTo>
                  <a:pt x="17302" y="12825"/>
                  <a:pt x="17314" y="12865"/>
                  <a:pt x="17314" y="12948"/>
                </a:cubicBezTo>
                <a:cubicBezTo>
                  <a:pt x="17314" y="13061"/>
                  <a:pt x="17321" y="13164"/>
                  <a:pt x="17338" y="13271"/>
                </a:cubicBezTo>
                <a:cubicBezTo>
                  <a:pt x="17346" y="13321"/>
                  <a:pt x="17327" y="13368"/>
                  <a:pt x="17388" y="13395"/>
                </a:cubicBezTo>
                <a:cubicBezTo>
                  <a:pt x="17396" y="13395"/>
                  <a:pt x="17405" y="13395"/>
                  <a:pt x="17413" y="13395"/>
                </a:cubicBezTo>
              </a:path>
              <a:path w="4863" h="1316">
                <a:moveTo>
                  <a:pt x="17314" y="12551"/>
                </a:moveTo>
                <a:lnTo>
                  <a:pt x="17314" y="12551"/>
                </a:lnTo>
                <a:lnTo>
                  <a:pt x="17314" y="12551"/>
                </a:lnTo>
              </a:path>
              <a:path w="4863" h="1316">
                <a:moveTo>
                  <a:pt x="17611" y="12849"/>
                </a:moveTo>
                <a:cubicBezTo>
                  <a:pt x="17619" y="12903"/>
                  <a:pt x="17621" y="12967"/>
                  <a:pt x="17636" y="13022"/>
                </a:cubicBezTo>
                <a:cubicBezTo>
                  <a:pt x="17658" y="13102"/>
                  <a:pt x="17681" y="13161"/>
                  <a:pt x="17686" y="13246"/>
                </a:cubicBezTo>
                <a:cubicBezTo>
                  <a:pt x="17688" y="13282"/>
                  <a:pt x="17711" y="13382"/>
                  <a:pt x="17711" y="13345"/>
                </a:cubicBezTo>
                <a:cubicBezTo>
                  <a:pt x="17711" y="13337"/>
                  <a:pt x="17711" y="13328"/>
                  <a:pt x="17711" y="13320"/>
                </a:cubicBezTo>
                <a:cubicBezTo>
                  <a:pt x="17711" y="13184"/>
                  <a:pt x="17710" y="13045"/>
                  <a:pt x="17735" y="12923"/>
                </a:cubicBezTo>
                <a:cubicBezTo>
                  <a:pt x="17749" y="12858"/>
                  <a:pt x="17761" y="12848"/>
                  <a:pt x="17810" y="12799"/>
                </a:cubicBezTo>
                <a:cubicBezTo>
                  <a:pt x="17836" y="12773"/>
                  <a:pt x="17874" y="12754"/>
                  <a:pt x="17909" y="12750"/>
                </a:cubicBezTo>
                <a:cubicBezTo>
                  <a:pt x="17964" y="12744"/>
                  <a:pt x="17998" y="12789"/>
                  <a:pt x="18033" y="12824"/>
                </a:cubicBezTo>
                <a:cubicBezTo>
                  <a:pt x="18095" y="12886"/>
                  <a:pt x="18063" y="12925"/>
                  <a:pt x="18083" y="12998"/>
                </a:cubicBezTo>
                <a:cubicBezTo>
                  <a:pt x="18101" y="13065"/>
                  <a:pt x="18116" y="13122"/>
                  <a:pt x="18107" y="13196"/>
                </a:cubicBezTo>
                <a:cubicBezTo>
                  <a:pt x="18096" y="13279"/>
                  <a:pt x="18120" y="13370"/>
                  <a:pt x="18083" y="13444"/>
                </a:cubicBezTo>
                <a:cubicBezTo>
                  <a:pt x="18059" y="13493"/>
                  <a:pt x="18067" y="13397"/>
                  <a:pt x="18083" y="13345"/>
                </a:cubicBezTo>
              </a:path>
              <a:path w="4863" h="1316">
                <a:moveTo>
                  <a:pt x="18306" y="12154"/>
                </a:moveTo>
                <a:cubicBezTo>
                  <a:pt x="18312" y="12196"/>
                  <a:pt x="18325" y="12216"/>
                  <a:pt x="18331" y="12254"/>
                </a:cubicBezTo>
                <a:cubicBezTo>
                  <a:pt x="18342" y="12321"/>
                  <a:pt x="18369" y="12383"/>
                  <a:pt x="18380" y="12452"/>
                </a:cubicBezTo>
                <a:cubicBezTo>
                  <a:pt x="18387" y="12496"/>
                  <a:pt x="18350" y="12654"/>
                  <a:pt x="18405" y="12675"/>
                </a:cubicBezTo>
                <a:cubicBezTo>
                  <a:pt x="18430" y="12684"/>
                  <a:pt x="18475" y="12698"/>
                  <a:pt x="18479" y="12700"/>
                </a:cubicBezTo>
                <a:cubicBezTo>
                  <a:pt x="18519" y="12716"/>
                  <a:pt x="18560" y="12723"/>
                  <a:pt x="18604" y="12725"/>
                </a:cubicBezTo>
                <a:cubicBezTo>
                  <a:pt x="18668" y="12729"/>
                  <a:pt x="18702" y="12727"/>
                  <a:pt x="18752" y="12700"/>
                </a:cubicBezTo>
                <a:cubicBezTo>
                  <a:pt x="18790" y="12680"/>
                  <a:pt x="18818" y="12678"/>
                  <a:pt x="18827" y="12626"/>
                </a:cubicBezTo>
                <a:cubicBezTo>
                  <a:pt x="18846" y="12520"/>
                  <a:pt x="18820" y="12393"/>
                  <a:pt x="18802" y="12303"/>
                </a:cubicBezTo>
                <a:cubicBezTo>
                  <a:pt x="18792" y="12254"/>
                  <a:pt x="18804" y="12248"/>
                  <a:pt x="18777" y="12204"/>
                </a:cubicBezTo>
                <a:cubicBezTo>
                  <a:pt x="18777" y="12477"/>
                  <a:pt x="18769" y="12758"/>
                  <a:pt x="18802" y="13022"/>
                </a:cubicBezTo>
                <a:cubicBezTo>
                  <a:pt x="18811" y="13095"/>
                  <a:pt x="18840" y="13159"/>
                  <a:pt x="18852" y="13221"/>
                </a:cubicBezTo>
                <a:cubicBezTo>
                  <a:pt x="18863" y="13277"/>
                  <a:pt x="18866" y="13301"/>
                  <a:pt x="18901" y="13345"/>
                </a:cubicBezTo>
                <a:cubicBezTo>
                  <a:pt x="18901" y="13229"/>
                  <a:pt x="18919" y="13185"/>
                  <a:pt x="18951" y="13047"/>
                </a:cubicBezTo>
              </a:path>
              <a:path w="4863" h="1316">
                <a:moveTo>
                  <a:pt x="19248" y="12378"/>
                </a:moveTo>
                <a:cubicBezTo>
                  <a:pt x="19229" y="12338"/>
                  <a:pt x="19206" y="12413"/>
                  <a:pt x="19199" y="12452"/>
                </a:cubicBezTo>
                <a:cubicBezTo>
                  <a:pt x="19185" y="12530"/>
                  <a:pt x="19174" y="12592"/>
                  <a:pt x="19174" y="12675"/>
                </a:cubicBezTo>
                <a:cubicBezTo>
                  <a:pt x="19174" y="12793"/>
                  <a:pt x="19166" y="12907"/>
                  <a:pt x="19199" y="13022"/>
                </a:cubicBezTo>
                <a:cubicBezTo>
                  <a:pt x="19222" y="13102"/>
                  <a:pt x="19266" y="13149"/>
                  <a:pt x="19323" y="13196"/>
                </a:cubicBezTo>
                <a:cubicBezTo>
                  <a:pt x="19372" y="13236"/>
                  <a:pt x="19435" y="13261"/>
                  <a:pt x="19496" y="13271"/>
                </a:cubicBezTo>
                <a:cubicBezTo>
                  <a:pt x="19538" y="13278"/>
                  <a:pt x="19612" y="13263"/>
                  <a:pt x="19645" y="13246"/>
                </a:cubicBezTo>
                <a:cubicBezTo>
                  <a:pt x="19679" y="13229"/>
                  <a:pt x="19716" y="13180"/>
                  <a:pt x="19720" y="13146"/>
                </a:cubicBezTo>
                <a:cubicBezTo>
                  <a:pt x="19725" y="13104"/>
                  <a:pt x="19740" y="12995"/>
                  <a:pt x="19695" y="12973"/>
                </a:cubicBezTo>
                <a:cubicBezTo>
                  <a:pt x="19663" y="12957"/>
                  <a:pt x="19636" y="12948"/>
                  <a:pt x="19596" y="12948"/>
                </a:cubicBezTo>
                <a:cubicBezTo>
                  <a:pt x="19505" y="12948"/>
                  <a:pt x="19488" y="12981"/>
                  <a:pt x="19422" y="13047"/>
                </a:cubicBezTo>
                <a:cubicBezTo>
                  <a:pt x="19389" y="13080"/>
                  <a:pt x="19369" y="13114"/>
                  <a:pt x="19348" y="13146"/>
                </a:cubicBezTo>
                <a:cubicBezTo>
                  <a:pt x="19325" y="13169"/>
                  <a:pt x="19317" y="13173"/>
                  <a:pt x="19323" y="131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1800" y="4705200"/>
            <a:ext cx="3241440" cy="696960"/>
          </a:xfrm>
          <a:custGeom>
            <a:avLst/>
            <a:gdLst/>
            <a:ahLst/>
            <a:rect l="l" t="t" r="r" b="b"/>
            <a:pathLst>
              <a:path w="9005" h="1936">
                <a:moveTo>
                  <a:pt x="15528" y="13742"/>
                </a:moveTo>
                <a:cubicBezTo>
                  <a:pt x="15503" y="13742"/>
                  <a:pt x="15495" y="13742"/>
                  <a:pt x="15503" y="13767"/>
                </a:cubicBezTo>
                <a:cubicBezTo>
                  <a:pt x="15663" y="13767"/>
                  <a:pt x="15822" y="13779"/>
                  <a:pt x="15974" y="13791"/>
                </a:cubicBezTo>
                <a:cubicBezTo>
                  <a:pt x="16162" y="13806"/>
                  <a:pt x="16360" y="13804"/>
                  <a:pt x="16545" y="13816"/>
                </a:cubicBezTo>
                <a:cubicBezTo>
                  <a:pt x="16857" y="13836"/>
                  <a:pt x="17181" y="13816"/>
                  <a:pt x="17487" y="13791"/>
                </a:cubicBezTo>
                <a:cubicBezTo>
                  <a:pt x="17790" y="13766"/>
                  <a:pt x="18108" y="13789"/>
                  <a:pt x="18405" y="13767"/>
                </a:cubicBezTo>
                <a:cubicBezTo>
                  <a:pt x="18503" y="13760"/>
                  <a:pt x="18588" y="13782"/>
                  <a:pt x="18678" y="13791"/>
                </a:cubicBezTo>
                <a:cubicBezTo>
                  <a:pt x="18753" y="13798"/>
                  <a:pt x="18831" y="13808"/>
                  <a:pt x="18901" y="13816"/>
                </a:cubicBezTo>
                <a:cubicBezTo>
                  <a:pt x="18951" y="13822"/>
                  <a:pt x="19004" y="13836"/>
                  <a:pt x="19050" y="13841"/>
                </a:cubicBezTo>
                <a:cubicBezTo>
                  <a:pt x="19100" y="13847"/>
                  <a:pt x="19160" y="13861"/>
                  <a:pt x="19199" y="13866"/>
                </a:cubicBezTo>
                <a:cubicBezTo>
                  <a:pt x="19273" y="13875"/>
                  <a:pt x="19298" y="13866"/>
                  <a:pt x="19372" y="13866"/>
                </a:cubicBezTo>
                <a:cubicBezTo>
                  <a:pt x="19364" y="13866"/>
                  <a:pt x="19356" y="13866"/>
                  <a:pt x="19348" y="13866"/>
                </a:cubicBezTo>
              </a:path>
              <a:path w="9005" h="1936">
                <a:moveTo>
                  <a:pt x="16148" y="14263"/>
                </a:moveTo>
                <a:cubicBezTo>
                  <a:pt x="16111" y="14291"/>
                  <a:pt x="16084" y="14301"/>
                  <a:pt x="16049" y="14337"/>
                </a:cubicBezTo>
                <a:cubicBezTo>
                  <a:pt x="16038" y="14348"/>
                  <a:pt x="15999" y="14417"/>
                  <a:pt x="16024" y="14436"/>
                </a:cubicBezTo>
                <a:cubicBezTo>
                  <a:pt x="16051" y="14457"/>
                  <a:pt x="16091" y="14450"/>
                  <a:pt x="16123" y="14461"/>
                </a:cubicBezTo>
                <a:cubicBezTo>
                  <a:pt x="16182" y="14482"/>
                  <a:pt x="16241" y="14467"/>
                  <a:pt x="16297" y="14486"/>
                </a:cubicBezTo>
                <a:cubicBezTo>
                  <a:pt x="16364" y="14509"/>
                  <a:pt x="16426" y="14539"/>
                  <a:pt x="16495" y="14560"/>
                </a:cubicBezTo>
                <a:cubicBezTo>
                  <a:pt x="16560" y="14579"/>
                  <a:pt x="16563" y="14589"/>
                  <a:pt x="16594" y="14635"/>
                </a:cubicBezTo>
                <a:cubicBezTo>
                  <a:pt x="16637" y="14700"/>
                  <a:pt x="16606" y="14703"/>
                  <a:pt x="16594" y="14759"/>
                </a:cubicBezTo>
                <a:cubicBezTo>
                  <a:pt x="16584" y="14807"/>
                  <a:pt x="16556" y="14852"/>
                  <a:pt x="16495" y="14883"/>
                </a:cubicBezTo>
                <a:cubicBezTo>
                  <a:pt x="16456" y="14903"/>
                  <a:pt x="16421" y="14908"/>
                  <a:pt x="16371" y="14908"/>
                </a:cubicBezTo>
                <a:cubicBezTo>
                  <a:pt x="16307" y="14908"/>
                  <a:pt x="16329" y="14880"/>
                  <a:pt x="16297" y="14858"/>
                </a:cubicBezTo>
                <a:cubicBezTo>
                  <a:pt x="16272" y="14858"/>
                  <a:pt x="16264" y="14858"/>
                  <a:pt x="16272" y="14833"/>
                </a:cubicBezTo>
              </a:path>
              <a:path w="9005" h="1936">
                <a:moveTo>
                  <a:pt x="16892" y="14436"/>
                </a:moveTo>
                <a:cubicBezTo>
                  <a:pt x="16909" y="14498"/>
                  <a:pt x="16939" y="14573"/>
                  <a:pt x="16942" y="14635"/>
                </a:cubicBezTo>
                <a:cubicBezTo>
                  <a:pt x="16946" y="14705"/>
                  <a:pt x="16963" y="14768"/>
                  <a:pt x="16966" y="14833"/>
                </a:cubicBezTo>
                <a:cubicBezTo>
                  <a:pt x="16970" y="14908"/>
                  <a:pt x="16975" y="14945"/>
                  <a:pt x="16991" y="15007"/>
                </a:cubicBezTo>
              </a:path>
              <a:path w="9005" h="1936">
                <a:moveTo>
                  <a:pt x="16917" y="14213"/>
                </a:moveTo>
                <a:cubicBezTo>
                  <a:pt x="16958" y="14213"/>
                  <a:pt x="16930" y="14225"/>
                  <a:pt x="16966" y="14238"/>
                </a:cubicBezTo>
              </a:path>
              <a:path w="9005" h="1936">
                <a:moveTo>
                  <a:pt x="17289" y="14436"/>
                </a:moveTo>
                <a:cubicBezTo>
                  <a:pt x="17289" y="14509"/>
                  <a:pt x="17302" y="14551"/>
                  <a:pt x="17314" y="14610"/>
                </a:cubicBezTo>
                <a:cubicBezTo>
                  <a:pt x="17325" y="14664"/>
                  <a:pt x="17333" y="14731"/>
                  <a:pt x="17338" y="14784"/>
                </a:cubicBezTo>
                <a:cubicBezTo>
                  <a:pt x="17342" y="14821"/>
                  <a:pt x="17361" y="14831"/>
                  <a:pt x="17388" y="14858"/>
                </a:cubicBezTo>
                <a:cubicBezTo>
                  <a:pt x="17388" y="14812"/>
                  <a:pt x="17368" y="14800"/>
                  <a:pt x="17363" y="14759"/>
                </a:cubicBezTo>
                <a:cubicBezTo>
                  <a:pt x="17354" y="14678"/>
                  <a:pt x="17366" y="14602"/>
                  <a:pt x="17388" y="14536"/>
                </a:cubicBezTo>
                <a:cubicBezTo>
                  <a:pt x="17400" y="14501"/>
                  <a:pt x="17406" y="14476"/>
                  <a:pt x="17413" y="14461"/>
                </a:cubicBezTo>
                <a:cubicBezTo>
                  <a:pt x="17424" y="14438"/>
                  <a:pt x="17416" y="14377"/>
                  <a:pt x="17438" y="14362"/>
                </a:cubicBezTo>
                <a:cubicBezTo>
                  <a:pt x="17451" y="14353"/>
                  <a:pt x="17521" y="14339"/>
                  <a:pt x="17537" y="14337"/>
                </a:cubicBezTo>
                <a:cubicBezTo>
                  <a:pt x="17545" y="14336"/>
                  <a:pt x="17595" y="14353"/>
                  <a:pt x="17611" y="14362"/>
                </a:cubicBezTo>
                <a:cubicBezTo>
                  <a:pt x="17645" y="14381"/>
                  <a:pt x="17673" y="14419"/>
                  <a:pt x="17686" y="14436"/>
                </a:cubicBezTo>
                <a:cubicBezTo>
                  <a:pt x="17711" y="14469"/>
                  <a:pt x="17731" y="14519"/>
                  <a:pt x="17735" y="14560"/>
                </a:cubicBezTo>
                <a:cubicBezTo>
                  <a:pt x="17741" y="14613"/>
                  <a:pt x="17723" y="14634"/>
                  <a:pt x="17711" y="14684"/>
                </a:cubicBezTo>
                <a:cubicBezTo>
                  <a:pt x="17703" y="14716"/>
                  <a:pt x="17691" y="14759"/>
                  <a:pt x="17686" y="14784"/>
                </a:cubicBezTo>
                <a:cubicBezTo>
                  <a:pt x="17686" y="14828"/>
                  <a:pt x="17689" y="14842"/>
                  <a:pt x="17661" y="14858"/>
                </a:cubicBezTo>
              </a:path>
              <a:path w="9005" h="1936">
                <a:moveTo>
                  <a:pt x="17934" y="14163"/>
                </a:moveTo>
                <a:cubicBezTo>
                  <a:pt x="17884" y="14180"/>
                  <a:pt x="17901" y="14236"/>
                  <a:pt x="17884" y="14288"/>
                </a:cubicBezTo>
                <a:cubicBezTo>
                  <a:pt x="17858" y="14365"/>
                  <a:pt x="17838" y="14427"/>
                  <a:pt x="17835" y="14511"/>
                </a:cubicBezTo>
                <a:cubicBezTo>
                  <a:pt x="17833" y="14567"/>
                  <a:pt x="17829" y="14687"/>
                  <a:pt x="17859" y="14734"/>
                </a:cubicBezTo>
                <a:cubicBezTo>
                  <a:pt x="17912" y="14818"/>
                  <a:pt x="17971" y="14890"/>
                  <a:pt x="18058" y="14908"/>
                </a:cubicBezTo>
                <a:cubicBezTo>
                  <a:pt x="18120" y="14921"/>
                  <a:pt x="18151" y="14897"/>
                  <a:pt x="18207" y="14883"/>
                </a:cubicBezTo>
                <a:cubicBezTo>
                  <a:pt x="18263" y="14869"/>
                  <a:pt x="18290" y="14849"/>
                  <a:pt x="18331" y="14808"/>
                </a:cubicBezTo>
                <a:cubicBezTo>
                  <a:pt x="18364" y="14775"/>
                  <a:pt x="18384" y="14741"/>
                  <a:pt x="18405" y="14709"/>
                </a:cubicBezTo>
                <a:cubicBezTo>
                  <a:pt x="18415" y="14694"/>
                  <a:pt x="18457" y="14606"/>
                  <a:pt x="18430" y="14585"/>
                </a:cubicBezTo>
                <a:cubicBezTo>
                  <a:pt x="18410" y="14569"/>
                  <a:pt x="18406" y="14569"/>
                  <a:pt x="18380" y="14560"/>
                </a:cubicBezTo>
                <a:cubicBezTo>
                  <a:pt x="18350" y="14570"/>
                  <a:pt x="18339" y="14581"/>
                  <a:pt x="18306" y="14610"/>
                </a:cubicBezTo>
                <a:cubicBezTo>
                  <a:pt x="18275" y="14638"/>
                  <a:pt x="18260" y="14693"/>
                  <a:pt x="18256" y="14734"/>
                </a:cubicBezTo>
                <a:cubicBezTo>
                  <a:pt x="18251" y="14784"/>
                  <a:pt x="18242" y="14820"/>
                  <a:pt x="18281" y="14833"/>
                </a:cubicBezTo>
              </a:path>
              <a:path w="9005" h="1936">
                <a:moveTo>
                  <a:pt x="18529" y="14039"/>
                </a:moveTo>
                <a:cubicBezTo>
                  <a:pt x="18529" y="14086"/>
                  <a:pt x="18549" y="14118"/>
                  <a:pt x="18554" y="14163"/>
                </a:cubicBezTo>
                <a:cubicBezTo>
                  <a:pt x="18561" y="14230"/>
                  <a:pt x="18562" y="14279"/>
                  <a:pt x="18579" y="14337"/>
                </a:cubicBezTo>
                <a:cubicBezTo>
                  <a:pt x="18591" y="14376"/>
                  <a:pt x="18576" y="14413"/>
                  <a:pt x="18628" y="14436"/>
                </a:cubicBezTo>
                <a:cubicBezTo>
                  <a:pt x="18655" y="14448"/>
                  <a:pt x="18693" y="14456"/>
                  <a:pt x="18703" y="14461"/>
                </a:cubicBezTo>
                <a:cubicBezTo>
                  <a:pt x="18724" y="14472"/>
                  <a:pt x="18780" y="14484"/>
                  <a:pt x="18802" y="14486"/>
                </a:cubicBezTo>
                <a:cubicBezTo>
                  <a:pt x="18843" y="14491"/>
                  <a:pt x="18856" y="14511"/>
                  <a:pt x="18901" y="14511"/>
                </a:cubicBezTo>
                <a:cubicBezTo>
                  <a:pt x="18944" y="14511"/>
                  <a:pt x="18972" y="14475"/>
                  <a:pt x="18976" y="14436"/>
                </a:cubicBezTo>
                <a:cubicBezTo>
                  <a:pt x="18987" y="14342"/>
                  <a:pt x="18978" y="14242"/>
                  <a:pt x="18951" y="14163"/>
                </a:cubicBezTo>
                <a:cubicBezTo>
                  <a:pt x="18951" y="14155"/>
                  <a:pt x="18951" y="14147"/>
                  <a:pt x="18951" y="14139"/>
                </a:cubicBezTo>
                <a:cubicBezTo>
                  <a:pt x="18989" y="14151"/>
                  <a:pt x="18976" y="14168"/>
                  <a:pt x="18976" y="14213"/>
                </a:cubicBezTo>
                <a:cubicBezTo>
                  <a:pt x="18976" y="14311"/>
                  <a:pt x="18962" y="14388"/>
                  <a:pt x="18951" y="14486"/>
                </a:cubicBezTo>
                <a:cubicBezTo>
                  <a:pt x="18939" y="14588"/>
                  <a:pt x="18954" y="14690"/>
                  <a:pt x="18976" y="14784"/>
                </a:cubicBezTo>
                <a:cubicBezTo>
                  <a:pt x="18985" y="14821"/>
                  <a:pt x="18991" y="14848"/>
                  <a:pt x="19000" y="14883"/>
                </a:cubicBezTo>
              </a:path>
              <a:path w="9005" h="1936">
                <a:moveTo>
                  <a:pt x="19993" y="13543"/>
                </a:moveTo>
                <a:cubicBezTo>
                  <a:pt x="20001" y="13543"/>
                  <a:pt x="20009" y="13543"/>
                  <a:pt x="20017" y="13543"/>
                </a:cubicBezTo>
                <a:cubicBezTo>
                  <a:pt x="20025" y="13521"/>
                  <a:pt x="20057" y="13500"/>
                  <a:pt x="20092" y="13519"/>
                </a:cubicBezTo>
                <a:cubicBezTo>
                  <a:pt x="20134" y="13541"/>
                  <a:pt x="20174" y="13550"/>
                  <a:pt x="20216" y="13568"/>
                </a:cubicBezTo>
                <a:cubicBezTo>
                  <a:pt x="20266" y="13590"/>
                  <a:pt x="20295" y="13588"/>
                  <a:pt x="20315" y="13618"/>
                </a:cubicBezTo>
              </a:path>
              <a:path w="9005" h="1936">
                <a:moveTo>
                  <a:pt x="20117" y="13767"/>
                </a:moveTo>
                <a:cubicBezTo>
                  <a:pt x="20167" y="13779"/>
                  <a:pt x="20181" y="13791"/>
                  <a:pt x="20241" y="13791"/>
                </a:cubicBezTo>
                <a:cubicBezTo>
                  <a:pt x="20315" y="13791"/>
                  <a:pt x="20390" y="13791"/>
                  <a:pt x="20464" y="13791"/>
                </a:cubicBezTo>
              </a:path>
              <a:path w="9005" h="1936">
                <a:moveTo>
                  <a:pt x="21332" y="13146"/>
                </a:moveTo>
                <a:cubicBezTo>
                  <a:pt x="21324" y="13176"/>
                  <a:pt x="21319" y="13242"/>
                  <a:pt x="21307" y="13271"/>
                </a:cubicBezTo>
                <a:cubicBezTo>
                  <a:pt x="21280" y="13335"/>
                  <a:pt x="21218" y="13408"/>
                  <a:pt x="21183" y="13469"/>
                </a:cubicBezTo>
                <a:cubicBezTo>
                  <a:pt x="21138" y="13546"/>
                  <a:pt x="21066" y="13682"/>
                  <a:pt x="21010" y="13742"/>
                </a:cubicBezTo>
                <a:cubicBezTo>
                  <a:pt x="20971" y="13784"/>
                  <a:pt x="20936" y="13828"/>
                  <a:pt x="20910" y="13891"/>
                </a:cubicBezTo>
                <a:cubicBezTo>
                  <a:pt x="20910" y="13915"/>
                  <a:pt x="20910" y="13923"/>
                  <a:pt x="20910" y="13891"/>
                </a:cubicBezTo>
              </a:path>
              <a:path w="9005" h="1936">
                <a:moveTo>
                  <a:pt x="21034" y="13146"/>
                </a:moveTo>
                <a:cubicBezTo>
                  <a:pt x="21042" y="13200"/>
                  <a:pt x="21063" y="13243"/>
                  <a:pt x="21084" y="13295"/>
                </a:cubicBezTo>
                <a:cubicBezTo>
                  <a:pt x="21117" y="13377"/>
                  <a:pt x="21162" y="13457"/>
                  <a:pt x="21183" y="13543"/>
                </a:cubicBezTo>
                <a:cubicBezTo>
                  <a:pt x="21198" y="13605"/>
                  <a:pt x="21211" y="13639"/>
                  <a:pt x="21258" y="13692"/>
                </a:cubicBezTo>
                <a:cubicBezTo>
                  <a:pt x="21285" y="13723"/>
                  <a:pt x="21341" y="13779"/>
                  <a:pt x="21357" y="13816"/>
                </a:cubicBezTo>
                <a:cubicBezTo>
                  <a:pt x="21371" y="13848"/>
                  <a:pt x="21369" y="13856"/>
                  <a:pt x="21382" y="13816"/>
                </a:cubicBezTo>
              </a:path>
              <a:path w="9005" h="1936">
                <a:moveTo>
                  <a:pt x="21878" y="13146"/>
                </a:moveTo>
                <a:cubicBezTo>
                  <a:pt x="21868" y="13080"/>
                  <a:pt x="21870" y="13072"/>
                  <a:pt x="21803" y="13072"/>
                </a:cubicBezTo>
                <a:cubicBezTo>
                  <a:pt x="21749" y="13072"/>
                  <a:pt x="21724" y="13092"/>
                  <a:pt x="21679" y="13097"/>
                </a:cubicBezTo>
                <a:cubicBezTo>
                  <a:pt x="21644" y="13101"/>
                  <a:pt x="21567" y="13128"/>
                  <a:pt x="21555" y="13171"/>
                </a:cubicBezTo>
                <a:cubicBezTo>
                  <a:pt x="21527" y="13268"/>
                  <a:pt x="21643" y="13296"/>
                  <a:pt x="21704" y="13320"/>
                </a:cubicBezTo>
                <a:cubicBezTo>
                  <a:pt x="21768" y="13346"/>
                  <a:pt x="21847" y="13361"/>
                  <a:pt x="21903" y="13395"/>
                </a:cubicBezTo>
                <a:cubicBezTo>
                  <a:pt x="21955" y="13426"/>
                  <a:pt x="22006" y="13457"/>
                  <a:pt x="22027" y="13519"/>
                </a:cubicBezTo>
                <a:cubicBezTo>
                  <a:pt x="22041" y="13561"/>
                  <a:pt x="22020" y="13588"/>
                  <a:pt x="22002" y="13618"/>
                </a:cubicBezTo>
                <a:cubicBezTo>
                  <a:pt x="21978" y="13659"/>
                  <a:pt x="21977" y="13719"/>
                  <a:pt x="21927" y="13742"/>
                </a:cubicBezTo>
                <a:cubicBezTo>
                  <a:pt x="21868" y="13769"/>
                  <a:pt x="21860" y="13732"/>
                  <a:pt x="21853" y="13692"/>
                </a:cubicBezTo>
              </a:path>
              <a:path w="9005" h="1936">
                <a:moveTo>
                  <a:pt x="22349" y="13196"/>
                </a:moveTo>
                <a:cubicBezTo>
                  <a:pt x="22374" y="13255"/>
                  <a:pt x="22380" y="13312"/>
                  <a:pt x="22399" y="13370"/>
                </a:cubicBezTo>
                <a:cubicBezTo>
                  <a:pt x="22422" y="13441"/>
                  <a:pt x="22437" y="13521"/>
                  <a:pt x="22448" y="13593"/>
                </a:cubicBezTo>
                <a:cubicBezTo>
                  <a:pt x="22457" y="13652"/>
                  <a:pt x="22482" y="13689"/>
                  <a:pt x="22498" y="13742"/>
                </a:cubicBezTo>
                <a:cubicBezTo>
                  <a:pt x="22498" y="13767"/>
                  <a:pt x="22498" y="13775"/>
                  <a:pt x="22523" y="13767"/>
                </a:cubicBezTo>
              </a:path>
              <a:path w="9005" h="1936">
                <a:moveTo>
                  <a:pt x="22448" y="13097"/>
                </a:moveTo>
                <a:cubicBezTo>
                  <a:pt x="22448" y="13061"/>
                  <a:pt x="22440" y="13086"/>
                  <a:pt x="22473" y="13097"/>
                </a:cubicBezTo>
              </a:path>
              <a:path w="9005" h="1936">
                <a:moveTo>
                  <a:pt x="22696" y="13370"/>
                </a:moveTo>
                <a:cubicBezTo>
                  <a:pt x="22706" y="13409"/>
                  <a:pt x="22721" y="13424"/>
                  <a:pt x="22721" y="13469"/>
                </a:cubicBezTo>
                <a:cubicBezTo>
                  <a:pt x="22721" y="13514"/>
                  <a:pt x="22746" y="13537"/>
                  <a:pt x="22746" y="13593"/>
                </a:cubicBezTo>
                <a:cubicBezTo>
                  <a:pt x="22746" y="13638"/>
                  <a:pt x="22788" y="13675"/>
                  <a:pt x="22771" y="13717"/>
                </a:cubicBezTo>
                <a:cubicBezTo>
                  <a:pt x="22758" y="13750"/>
                  <a:pt x="22746" y="13736"/>
                  <a:pt x="22746" y="13692"/>
                </a:cubicBezTo>
                <a:cubicBezTo>
                  <a:pt x="22746" y="13629"/>
                  <a:pt x="22766" y="13602"/>
                  <a:pt x="22771" y="13543"/>
                </a:cubicBezTo>
                <a:cubicBezTo>
                  <a:pt x="22771" y="13538"/>
                  <a:pt x="22794" y="13445"/>
                  <a:pt x="22796" y="13444"/>
                </a:cubicBezTo>
                <a:cubicBezTo>
                  <a:pt x="22815" y="13428"/>
                  <a:pt x="22843" y="13413"/>
                  <a:pt x="22870" y="13395"/>
                </a:cubicBezTo>
                <a:cubicBezTo>
                  <a:pt x="22910" y="13369"/>
                  <a:pt x="22920" y="13370"/>
                  <a:pt x="22969" y="13370"/>
                </a:cubicBezTo>
                <a:cubicBezTo>
                  <a:pt x="23029" y="13370"/>
                  <a:pt x="23084" y="13391"/>
                  <a:pt x="23118" y="13444"/>
                </a:cubicBezTo>
                <a:cubicBezTo>
                  <a:pt x="23155" y="13501"/>
                  <a:pt x="23186" y="13557"/>
                  <a:pt x="23217" y="13618"/>
                </a:cubicBezTo>
                <a:cubicBezTo>
                  <a:pt x="23258" y="13700"/>
                  <a:pt x="23253" y="13727"/>
                  <a:pt x="23242" y="13816"/>
                </a:cubicBezTo>
                <a:cubicBezTo>
                  <a:pt x="23235" y="13869"/>
                  <a:pt x="23208" y="13888"/>
                  <a:pt x="23192" y="13915"/>
                </a:cubicBezTo>
                <a:cubicBezTo>
                  <a:pt x="23174" y="13946"/>
                  <a:pt x="23191" y="13940"/>
                  <a:pt x="23143" y="13940"/>
                </a:cubicBezTo>
              </a:path>
              <a:path w="9005" h="1936">
                <a:moveTo>
                  <a:pt x="23589" y="13171"/>
                </a:moveTo>
                <a:cubicBezTo>
                  <a:pt x="23564" y="13230"/>
                  <a:pt x="23545" y="13286"/>
                  <a:pt x="23515" y="13345"/>
                </a:cubicBezTo>
                <a:cubicBezTo>
                  <a:pt x="23478" y="13419"/>
                  <a:pt x="23450" y="13511"/>
                  <a:pt x="23440" y="13593"/>
                </a:cubicBezTo>
                <a:cubicBezTo>
                  <a:pt x="23428" y="13695"/>
                  <a:pt x="23471" y="13779"/>
                  <a:pt x="23515" y="13866"/>
                </a:cubicBezTo>
                <a:cubicBezTo>
                  <a:pt x="23547" y="13929"/>
                  <a:pt x="23603" y="13957"/>
                  <a:pt x="23664" y="13990"/>
                </a:cubicBezTo>
                <a:cubicBezTo>
                  <a:pt x="23749" y="14036"/>
                  <a:pt x="23792" y="14015"/>
                  <a:pt x="23887" y="13965"/>
                </a:cubicBezTo>
                <a:cubicBezTo>
                  <a:pt x="23932" y="13941"/>
                  <a:pt x="23947" y="13914"/>
                  <a:pt x="23961" y="13866"/>
                </a:cubicBezTo>
                <a:cubicBezTo>
                  <a:pt x="23974" y="13820"/>
                  <a:pt x="23963" y="13750"/>
                  <a:pt x="23937" y="13717"/>
                </a:cubicBezTo>
                <a:cubicBezTo>
                  <a:pt x="23926" y="13703"/>
                  <a:pt x="23856" y="13669"/>
                  <a:pt x="23837" y="13692"/>
                </a:cubicBezTo>
                <a:cubicBezTo>
                  <a:pt x="23816" y="13718"/>
                  <a:pt x="23771" y="13804"/>
                  <a:pt x="23763" y="13841"/>
                </a:cubicBezTo>
                <a:cubicBezTo>
                  <a:pt x="23748" y="13910"/>
                  <a:pt x="23754" y="13959"/>
                  <a:pt x="23763" y="14015"/>
                </a:cubicBezTo>
                <a:cubicBezTo>
                  <a:pt x="23770" y="14058"/>
                  <a:pt x="23747" y="14050"/>
                  <a:pt x="23788" y="14064"/>
                </a:cubicBezTo>
              </a:path>
              <a:path w="9005" h="1936">
                <a:moveTo>
                  <a:pt x="24061" y="13221"/>
                </a:moveTo>
                <a:cubicBezTo>
                  <a:pt x="24061" y="13267"/>
                  <a:pt x="24041" y="13279"/>
                  <a:pt x="24036" y="13320"/>
                </a:cubicBezTo>
                <a:cubicBezTo>
                  <a:pt x="24030" y="13377"/>
                  <a:pt x="24031" y="13421"/>
                  <a:pt x="24061" y="13444"/>
                </a:cubicBezTo>
                <a:cubicBezTo>
                  <a:pt x="24102" y="13475"/>
                  <a:pt x="24124" y="13474"/>
                  <a:pt x="24160" y="13494"/>
                </a:cubicBezTo>
                <a:cubicBezTo>
                  <a:pt x="24206" y="13520"/>
                  <a:pt x="24254" y="13523"/>
                  <a:pt x="24309" y="13543"/>
                </a:cubicBezTo>
                <a:cubicBezTo>
                  <a:pt x="24357" y="13560"/>
                  <a:pt x="24426" y="13608"/>
                  <a:pt x="24457" y="13568"/>
                </a:cubicBezTo>
                <a:cubicBezTo>
                  <a:pt x="24469" y="13553"/>
                  <a:pt x="24497" y="13524"/>
                  <a:pt x="24507" y="13494"/>
                </a:cubicBezTo>
                <a:cubicBezTo>
                  <a:pt x="24517" y="13464"/>
                  <a:pt x="24507" y="13295"/>
                  <a:pt x="24507" y="13345"/>
                </a:cubicBezTo>
                <a:cubicBezTo>
                  <a:pt x="24507" y="13400"/>
                  <a:pt x="24487" y="13444"/>
                  <a:pt x="24482" y="13494"/>
                </a:cubicBezTo>
                <a:cubicBezTo>
                  <a:pt x="24474" y="13571"/>
                  <a:pt x="24477" y="13667"/>
                  <a:pt x="24457" y="13742"/>
                </a:cubicBezTo>
                <a:cubicBezTo>
                  <a:pt x="24435" y="13823"/>
                  <a:pt x="24449" y="13835"/>
                  <a:pt x="24457" y="13915"/>
                </a:cubicBezTo>
                <a:cubicBezTo>
                  <a:pt x="24463" y="13972"/>
                  <a:pt x="24465" y="14021"/>
                  <a:pt x="24433" y="14064"/>
                </a:cubicBezTo>
              </a:path>
              <a:path w="9005" h="1936">
                <a:moveTo>
                  <a:pt x="21034" y="13990"/>
                </a:moveTo>
                <a:cubicBezTo>
                  <a:pt x="21047" y="13994"/>
                  <a:pt x="21065" y="14013"/>
                  <a:pt x="21109" y="14015"/>
                </a:cubicBezTo>
                <a:cubicBezTo>
                  <a:pt x="21157" y="14017"/>
                  <a:pt x="21188" y="14034"/>
                  <a:pt x="21233" y="14039"/>
                </a:cubicBezTo>
                <a:cubicBezTo>
                  <a:pt x="21336" y="14052"/>
                  <a:pt x="21455" y="14058"/>
                  <a:pt x="21555" y="14064"/>
                </a:cubicBezTo>
                <a:cubicBezTo>
                  <a:pt x="21666" y="14071"/>
                  <a:pt x="21771" y="14077"/>
                  <a:pt x="21878" y="14089"/>
                </a:cubicBezTo>
                <a:cubicBezTo>
                  <a:pt x="22032" y="14106"/>
                  <a:pt x="22200" y="14099"/>
                  <a:pt x="22349" y="14114"/>
                </a:cubicBezTo>
                <a:cubicBezTo>
                  <a:pt x="22464" y="14126"/>
                  <a:pt x="22583" y="14127"/>
                  <a:pt x="22696" y="14139"/>
                </a:cubicBezTo>
                <a:cubicBezTo>
                  <a:pt x="22787" y="14149"/>
                  <a:pt x="22879" y="14155"/>
                  <a:pt x="22969" y="14163"/>
                </a:cubicBezTo>
                <a:cubicBezTo>
                  <a:pt x="23054" y="14170"/>
                  <a:pt x="23131" y="14185"/>
                  <a:pt x="23217" y="14188"/>
                </a:cubicBezTo>
                <a:cubicBezTo>
                  <a:pt x="23305" y="14191"/>
                  <a:pt x="23379" y="14206"/>
                  <a:pt x="23465" y="14213"/>
                </a:cubicBezTo>
                <a:cubicBezTo>
                  <a:pt x="23529" y="14219"/>
                  <a:pt x="23554" y="14231"/>
                  <a:pt x="23614" y="14238"/>
                </a:cubicBezTo>
                <a:cubicBezTo>
                  <a:pt x="23779" y="14257"/>
                  <a:pt x="23960" y="14212"/>
                  <a:pt x="24110" y="14263"/>
                </a:cubicBezTo>
                <a:cubicBezTo>
                  <a:pt x="24135" y="14263"/>
                  <a:pt x="24143" y="14263"/>
                  <a:pt x="24110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08960" y="5232240"/>
            <a:ext cx="1089000" cy="358920"/>
          </a:xfrm>
          <a:custGeom>
            <a:avLst/>
            <a:gdLst/>
            <a:ahLst/>
            <a:rect l="l" t="t" r="r" b="b"/>
            <a:pathLst>
              <a:path w="3027" h="993">
                <a:moveTo>
                  <a:pt x="21481" y="14660"/>
                </a:moveTo>
                <a:cubicBezTo>
                  <a:pt x="21481" y="14604"/>
                  <a:pt x="21461" y="14626"/>
                  <a:pt x="21456" y="14585"/>
                </a:cubicBezTo>
                <a:cubicBezTo>
                  <a:pt x="21450" y="14534"/>
                  <a:pt x="21428" y="14536"/>
                  <a:pt x="21382" y="14536"/>
                </a:cubicBezTo>
                <a:cubicBezTo>
                  <a:pt x="21331" y="14536"/>
                  <a:pt x="21296" y="14563"/>
                  <a:pt x="21258" y="14585"/>
                </a:cubicBezTo>
                <a:cubicBezTo>
                  <a:pt x="21191" y="14624"/>
                  <a:pt x="21194" y="14605"/>
                  <a:pt x="21158" y="14660"/>
                </a:cubicBezTo>
                <a:cubicBezTo>
                  <a:pt x="21142" y="14684"/>
                  <a:pt x="21141" y="14738"/>
                  <a:pt x="21183" y="14759"/>
                </a:cubicBezTo>
                <a:cubicBezTo>
                  <a:pt x="21230" y="14782"/>
                  <a:pt x="21288" y="14797"/>
                  <a:pt x="21332" y="14833"/>
                </a:cubicBezTo>
                <a:cubicBezTo>
                  <a:pt x="21389" y="14880"/>
                  <a:pt x="21464" y="14952"/>
                  <a:pt x="21530" y="14982"/>
                </a:cubicBezTo>
                <a:cubicBezTo>
                  <a:pt x="21566" y="14998"/>
                  <a:pt x="21555" y="15009"/>
                  <a:pt x="21555" y="15056"/>
                </a:cubicBezTo>
                <a:cubicBezTo>
                  <a:pt x="21555" y="15097"/>
                  <a:pt x="21510" y="15087"/>
                  <a:pt x="21481" y="15106"/>
                </a:cubicBezTo>
                <a:cubicBezTo>
                  <a:pt x="21437" y="15136"/>
                  <a:pt x="21415" y="15131"/>
                  <a:pt x="21357" y="15131"/>
                </a:cubicBezTo>
                <a:cubicBezTo>
                  <a:pt x="21335" y="15131"/>
                  <a:pt x="21238" y="15147"/>
                  <a:pt x="21258" y="15106"/>
                </a:cubicBezTo>
                <a:cubicBezTo>
                  <a:pt x="21266" y="15098"/>
                  <a:pt x="21274" y="15089"/>
                  <a:pt x="21282" y="15081"/>
                </a:cubicBezTo>
              </a:path>
              <a:path w="3027" h="993">
                <a:moveTo>
                  <a:pt x="21853" y="14709"/>
                </a:moveTo>
                <a:cubicBezTo>
                  <a:pt x="21853" y="14756"/>
                  <a:pt x="21875" y="14788"/>
                  <a:pt x="21878" y="14833"/>
                </a:cubicBezTo>
                <a:cubicBezTo>
                  <a:pt x="21886" y="14953"/>
                  <a:pt x="21867" y="15075"/>
                  <a:pt x="21903" y="15180"/>
                </a:cubicBezTo>
                <a:cubicBezTo>
                  <a:pt x="21903" y="15205"/>
                  <a:pt x="21903" y="15213"/>
                  <a:pt x="21927" y="15205"/>
                </a:cubicBezTo>
              </a:path>
              <a:path w="3027" h="993">
                <a:moveTo>
                  <a:pt x="21878" y="14536"/>
                </a:moveTo>
                <a:lnTo>
                  <a:pt x="21878" y="14536"/>
                </a:lnTo>
              </a:path>
              <a:path w="3027" h="993">
                <a:moveTo>
                  <a:pt x="22175" y="14734"/>
                </a:moveTo>
                <a:cubicBezTo>
                  <a:pt x="22175" y="14800"/>
                  <a:pt x="22189" y="14853"/>
                  <a:pt x="22200" y="14908"/>
                </a:cubicBezTo>
                <a:cubicBezTo>
                  <a:pt x="22215" y="14983"/>
                  <a:pt x="22208" y="15057"/>
                  <a:pt x="22225" y="15131"/>
                </a:cubicBezTo>
                <a:cubicBezTo>
                  <a:pt x="22239" y="15191"/>
                  <a:pt x="22204" y="15069"/>
                  <a:pt x="22200" y="15056"/>
                </a:cubicBezTo>
                <a:cubicBezTo>
                  <a:pt x="22183" y="15000"/>
                  <a:pt x="22211" y="14950"/>
                  <a:pt x="22225" y="14908"/>
                </a:cubicBezTo>
                <a:cubicBezTo>
                  <a:pt x="22236" y="14874"/>
                  <a:pt x="22230" y="14837"/>
                  <a:pt x="22250" y="14808"/>
                </a:cubicBezTo>
                <a:cubicBezTo>
                  <a:pt x="22272" y="14776"/>
                  <a:pt x="22312" y="14737"/>
                  <a:pt x="22349" y="14734"/>
                </a:cubicBezTo>
                <a:cubicBezTo>
                  <a:pt x="22378" y="14732"/>
                  <a:pt x="22457" y="14735"/>
                  <a:pt x="22473" y="14759"/>
                </a:cubicBezTo>
                <a:cubicBezTo>
                  <a:pt x="22483" y="14774"/>
                  <a:pt x="22519" y="14863"/>
                  <a:pt x="22523" y="14883"/>
                </a:cubicBezTo>
                <a:cubicBezTo>
                  <a:pt x="22546" y="14988"/>
                  <a:pt x="22523" y="15121"/>
                  <a:pt x="22523" y="15230"/>
                </a:cubicBezTo>
                <a:cubicBezTo>
                  <a:pt x="22523" y="15177"/>
                  <a:pt x="22530" y="15166"/>
                  <a:pt x="22547" y="15106"/>
                </a:cubicBezTo>
              </a:path>
              <a:path w="3027" h="993">
                <a:moveTo>
                  <a:pt x="23044" y="14585"/>
                </a:moveTo>
                <a:cubicBezTo>
                  <a:pt x="22976" y="14602"/>
                  <a:pt x="22937" y="14689"/>
                  <a:pt x="22920" y="14759"/>
                </a:cubicBezTo>
                <a:cubicBezTo>
                  <a:pt x="22906" y="14816"/>
                  <a:pt x="22864" y="14950"/>
                  <a:pt x="22870" y="15007"/>
                </a:cubicBezTo>
                <a:cubicBezTo>
                  <a:pt x="22877" y="15078"/>
                  <a:pt x="22939" y="15139"/>
                  <a:pt x="22969" y="15180"/>
                </a:cubicBezTo>
                <a:cubicBezTo>
                  <a:pt x="23018" y="15247"/>
                  <a:pt x="23077" y="15251"/>
                  <a:pt x="23168" y="15255"/>
                </a:cubicBezTo>
                <a:cubicBezTo>
                  <a:pt x="23240" y="15258"/>
                  <a:pt x="23326" y="15234"/>
                  <a:pt x="23391" y="15205"/>
                </a:cubicBezTo>
                <a:cubicBezTo>
                  <a:pt x="23437" y="15184"/>
                  <a:pt x="23504" y="15156"/>
                  <a:pt x="23540" y="15131"/>
                </a:cubicBezTo>
                <a:cubicBezTo>
                  <a:pt x="23548" y="15123"/>
                  <a:pt x="23556" y="15114"/>
                  <a:pt x="23564" y="15106"/>
                </a:cubicBezTo>
                <a:cubicBezTo>
                  <a:pt x="23554" y="15062"/>
                  <a:pt x="23521" y="15033"/>
                  <a:pt x="23465" y="15056"/>
                </a:cubicBezTo>
                <a:cubicBezTo>
                  <a:pt x="23418" y="15075"/>
                  <a:pt x="23301" y="15140"/>
                  <a:pt x="23267" y="15180"/>
                </a:cubicBezTo>
                <a:cubicBezTo>
                  <a:pt x="23241" y="15211"/>
                  <a:pt x="23196" y="15292"/>
                  <a:pt x="23192" y="15329"/>
                </a:cubicBezTo>
                <a:cubicBezTo>
                  <a:pt x="23186" y="15385"/>
                  <a:pt x="23243" y="15339"/>
                  <a:pt x="23267" y="15329"/>
                </a:cubicBezTo>
              </a:path>
              <a:path w="3027" h="993">
                <a:moveTo>
                  <a:pt x="23688" y="14635"/>
                </a:moveTo>
                <a:cubicBezTo>
                  <a:pt x="23660" y="14685"/>
                  <a:pt x="23639" y="14704"/>
                  <a:pt x="23639" y="14759"/>
                </a:cubicBezTo>
                <a:cubicBezTo>
                  <a:pt x="23639" y="14814"/>
                  <a:pt x="23633" y="14834"/>
                  <a:pt x="23664" y="14858"/>
                </a:cubicBezTo>
                <a:cubicBezTo>
                  <a:pt x="23698" y="14884"/>
                  <a:pt x="23723" y="14919"/>
                  <a:pt x="23763" y="14932"/>
                </a:cubicBezTo>
                <a:cubicBezTo>
                  <a:pt x="23813" y="14948"/>
                  <a:pt x="23857" y="14957"/>
                  <a:pt x="23912" y="14957"/>
                </a:cubicBezTo>
                <a:cubicBezTo>
                  <a:pt x="23966" y="14957"/>
                  <a:pt x="24004" y="15001"/>
                  <a:pt x="24061" y="14982"/>
                </a:cubicBezTo>
                <a:cubicBezTo>
                  <a:pt x="24090" y="14972"/>
                  <a:pt x="24154" y="14944"/>
                  <a:pt x="24160" y="14932"/>
                </a:cubicBezTo>
                <a:cubicBezTo>
                  <a:pt x="24184" y="14885"/>
                  <a:pt x="24147" y="14818"/>
                  <a:pt x="24135" y="14784"/>
                </a:cubicBezTo>
                <a:cubicBezTo>
                  <a:pt x="24125" y="14756"/>
                  <a:pt x="24124" y="14706"/>
                  <a:pt x="24135" y="14734"/>
                </a:cubicBezTo>
                <a:cubicBezTo>
                  <a:pt x="24163" y="14804"/>
                  <a:pt x="24121" y="14894"/>
                  <a:pt x="24110" y="14957"/>
                </a:cubicBezTo>
                <a:cubicBezTo>
                  <a:pt x="24098" y="15022"/>
                  <a:pt x="24096" y="15093"/>
                  <a:pt x="24085" y="15156"/>
                </a:cubicBezTo>
                <a:cubicBezTo>
                  <a:pt x="24065" y="15272"/>
                  <a:pt x="24085" y="15410"/>
                  <a:pt x="24085" y="155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61040" y="5599080"/>
            <a:ext cx="2313000" cy="660600"/>
          </a:xfrm>
          <a:custGeom>
            <a:avLst/>
            <a:gdLst/>
            <a:ahLst/>
            <a:rect l="l" t="t" r="r" b="b"/>
            <a:pathLst>
              <a:path w="6426" h="1836">
                <a:moveTo>
                  <a:pt x="17711" y="15751"/>
                </a:moveTo>
                <a:cubicBezTo>
                  <a:pt x="17681" y="15761"/>
                  <a:pt x="17669" y="15793"/>
                  <a:pt x="17636" y="15825"/>
                </a:cubicBezTo>
                <a:cubicBezTo>
                  <a:pt x="17594" y="15867"/>
                  <a:pt x="17583" y="15897"/>
                  <a:pt x="17562" y="15949"/>
                </a:cubicBezTo>
                <a:cubicBezTo>
                  <a:pt x="17522" y="16049"/>
                  <a:pt x="17470" y="16186"/>
                  <a:pt x="17413" y="16272"/>
                </a:cubicBezTo>
                <a:cubicBezTo>
                  <a:pt x="17366" y="16344"/>
                  <a:pt x="17335" y="16419"/>
                  <a:pt x="17289" y="16495"/>
                </a:cubicBezTo>
                <a:cubicBezTo>
                  <a:pt x="17266" y="16532"/>
                  <a:pt x="17177" y="16626"/>
                  <a:pt x="17165" y="16669"/>
                </a:cubicBezTo>
                <a:cubicBezTo>
                  <a:pt x="17164" y="16671"/>
                  <a:pt x="17140" y="16776"/>
                  <a:pt x="17115" y="16743"/>
                </a:cubicBezTo>
                <a:cubicBezTo>
                  <a:pt x="17115" y="16718"/>
                  <a:pt x="17115" y="16710"/>
                  <a:pt x="17115" y="16694"/>
                </a:cubicBezTo>
              </a:path>
              <a:path w="6426" h="1836">
                <a:moveTo>
                  <a:pt x="17264" y="15751"/>
                </a:moveTo>
                <a:cubicBezTo>
                  <a:pt x="17295" y="15828"/>
                  <a:pt x="17327" y="15898"/>
                  <a:pt x="17363" y="15974"/>
                </a:cubicBezTo>
                <a:cubicBezTo>
                  <a:pt x="17408" y="16068"/>
                  <a:pt x="17491" y="16148"/>
                  <a:pt x="17562" y="16222"/>
                </a:cubicBezTo>
                <a:cubicBezTo>
                  <a:pt x="17625" y="16288"/>
                  <a:pt x="17675" y="16355"/>
                  <a:pt x="17735" y="16421"/>
                </a:cubicBezTo>
                <a:cubicBezTo>
                  <a:pt x="17782" y="16473"/>
                  <a:pt x="17835" y="16520"/>
                  <a:pt x="17884" y="16570"/>
                </a:cubicBezTo>
              </a:path>
              <a:path w="6426" h="1836">
                <a:moveTo>
                  <a:pt x="18008" y="15900"/>
                </a:moveTo>
                <a:cubicBezTo>
                  <a:pt x="18096" y="15929"/>
                  <a:pt x="18164" y="15949"/>
                  <a:pt x="18256" y="15949"/>
                </a:cubicBezTo>
                <a:cubicBezTo>
                  <a:pt x="18380" y="15949"/>
                  <a:pt x="18504" y="15949"/>
                  <a:pt x="18628" y="15949"/>
                </a:cubicBezTo>
              </a:path>
              <a:path w="6426" h="1836">
                <a:moveTo>
                  <a:pt x="18256" y="16197"/>
                </a:moveTo>
                <a:cubicBezTo>
                  <a:pt x="18340" y="16228"/>
                  <a:pt x="18391" y="16247"/>
                  <a:pt x="18479" y="16247"/>
                </a:cubicBezTo>
                <a:cubicBezTo>
                  <a:pt x="18549" y="16247"/>
                  <a:pt x="18605" y="16272"/>
                  <a:pt x="18678" y="16272"/>
                </a:cubicBezTo>
                <a:cubicBezTo>
                  <a:pt x="18713" y="16272"/>
                  <a:pt x="18730" y="16267"/>
                  <a:pt x="18752" y="16247"/>
                </a:cubicBezTo>
              </a:path>
              <a:path w="6426" h="1836">
                <a:moveTo>
                  <a:pt x="19323" y="15577"/>
                </a:moveTo>
                <a:cubicBezTo>
                  <a:pt x="19270" y="15565"/>
                  <a:pt x="19323" y="15547"/>
                  <a:pt x="19273" y="15602"/>
                </a:cubicBezTo>
                <a:cubicBezTo>
                  <a:pt x="19256" y="15621"/>
                  <a:pt x="19222" y="15662"/>
                  <a:pt x="19199" y="15701"/>
                </a:cubicBezTo>
                <a:cubicBezTo>
                  <a:pt x="19162" y="15763"/>
                  <a:pt x="19148" y="15854"/>
                  <a:pt x="19124" y="15925"/>
                </a:cubicBezTo>
                <a:cubicBezTo>
                  <a:pt x="19088" y="16031"/>
                  <a:pt x="19097" y="16139"/>
                  <a:pt x="19075" y="16247"/>
                </a:cubicBezTo>
                <a:cubicBezTo>
                  <a:pt x="19052" y="16360"/>
                  <a:pt x="19050" y="16457"/>
                  <a:pt x="19075" y="16570"/>
                </a:cubicBezTo>
                <a:cubicBezTo>
                  <a:pt x="19112" y="16735"/>
                  <a:pt x="19183" y="16784"/>
                  <a:pt x="19298" y="16867"/>
                </a:cubicBezTo>
                <a:cubicBezTo>
                  <a:pt x="19390" y="16933"/>
                  <a:pt x="19454" y="16962"/>
                  <a:pt x="19571" y="16966"/>
                </a:cubicBezTo>
                <a:cubicBezTo>
                  <a:pt x="19672" y="16970"/>
                  <a:pt x="19730" y="16961"/>
                  <a:pt x="19819" y="16917"/>
                </a:cubicBezTo>
                <a:cubicBezTo>
                  <a:pt x="19894" y="16880"/>
                  <a:pt x="19915" y="16852"/>
                  <a:pt x="19968" y="16793"/>
                </a:cubicBezTo>
                <a:cubicBezTo>
                  <a:pt x="20034" y="16719"/>
                  <a:pt x="20042" y="16692"/>
                  <a:pt x="20042" y="16594"/>
                </a:cubicBezTo>
                <a:cubicBezTo>
                  <a:pt x="20042" y="16541"/>
                  <a:pt x="20027" y="16459"/>
                  <a:pt x="19993" y="16421"/>
                </a:cubicBezTo>
                <a:cubicBezTo>
                  <a:pt x="19938" y="16360"/>
                  <a:pt x="19875" y="16338"/>
                  <a:pt x="19794" y="16346"/>
                </a:cubicBezTo>
                <a:cubicBezTo>
                  <a:pt x="19709" y="16355"/>
                  <a:pt x="19680" y="16433"/>
                  <a:pt x="19621" y="16495"/>
                </a:cubicBezTo>
                <a:cubicBezTo>
                  <a:pt x="19577" y="16541"/>
                  <a:pt x="19534" y="16624"/>
                  <a:pt x="19546" y="16694"/>
                </a:cubicBezTo>
                <a:cubicBezTo>
                  <a:pt x="19556" y="16748"/>
                  <a:pt x="19576" y="16830"/>
                  <a:pt x="19621" y="16867"/>
                </a:cubicBezTo>
                <a:cubicBezTo>
                  <a:pt x="19649" y="16896"/>
                  <a:pt x="19662" y="16904"/>
                  <a:pt x="19695" y="16892"/>
                </a:cubicBezTo>
              </a:path>
              <a:path w="6426" h="1836">
                <a:moveTo>
                  <a:pt x="20538" y="15701"/>
                </a:moveTo>
                <a:cubicBezTo>
                  <a:pt x="20486" y="15792"/>
                  <a:pt x="20420" y="15873"/>
                  <a:pt x="20389" y="15974"/>
                </a:cubicBezTo>
                <a:cubicBezTo>
                  <a:pt x="20353" y="16091"/>
                  <a:pt x="20306" y="16224"/>
                  <a:pt x="20290" y="16346"/>
                </a:cubicBezTo>
                <a:cubicBezTo>
                  <a:pt x="20274" y="16466"/>
                  <a:pt x="20284" y="16602"/>
                  <a:pt x="20315" y="16718"/>
                </a:cubicBezTo>
                <a:cubicBezTo>
                  <a:pt x="20338" y="16805"/>
                  <a:pt x="20395" y="16934"/>
                  <a:pt x="20464" y="16991"/>
                </a:cubicBezTo>
                <a:cubicBezTo>
                  <a:pt x="20538" y="17052"/>
                  <a:pt x="20647" y="17063"/>
                  <a:pt x="20737" y="17066"/>
                </a:cubicBezTo>
                <a:cubicBezTo>
                  <a:pt x="20824" y="17069"/>
                  <a:pt x="20905" y="17037"/>
                  <a:pt x="20960" y="16966"/>
                </a:cubicBezTo>
                <a:cubicBezTo>
                  <a:pt x="21007" y="16906"/>
                  <a:pt x="21033" y="16813"/>
                  <a:pt x="21059" y="16743"/>
                </a:cubicBezTo>
                <a:cubicBezTo>
                  <a:pt x="21114" y="16597"/>
                  <a:pt x="21123" y="16455"/>
                  <a:pt x="21134" y="16297"/>
                </a:cubicBezTo>
                <a:cubicBezTo>
                  <a:pt x="21140" y="16210"/>
                  <a:pt x="21132" y="16105"/>
                  <a:pt x="21109" y="16024"/>
                </a:cubicBezTo>
                <a:cubicBezTo>
                  <a:pt x="21092" y="15966"/>
                  <a:pt x="21035" y="15836"/>
                  <a:pt x="20985" y="15801"/>
                </a:cubicBezTo>
                <a:cubicBezTo>
                  <a:pt x="20930" y="15762"/>
                  <a:pt x="20878" y="15738"/>
                  <a:pt x="20811" y="15726"/>
                </a:cubicBezTo>
                <a:cubicBezTo>
                  <a:pt x="20786" y="15726"/>
                  <a:pt x="20778" y="15726"/>
                  <a:pt x="20762" y="15726"/>
                </a:cubicBezTo>
              </a:path>
              <a:path w="6426" h="1836">
                <a:moveTo>
                  <a:pt x="21258" y="16594"/>
                </a:moveTo>
                <a:cubicBezTo>
                  <a:pt x="21258" y="16602"/>
                  <a:pt x="21258" y="16611"/>
                  <a:pt x="21258" y="16619"/>
                </a:cubicBezTo>
              </a:path>
              <a:path w="6426" h="1836">
                <a:moveTo>
                  <a:pt x="21828" y="15801"/>
                </a:moveTo>
                <a:cubicBezTo>
                  <a:pt x="21784" y="15844"/>
                  <a:pt x="21781" y="15876"/>
                  <a:pt x="21754" y="15925"/>
                </a:cubicBezTo>
                <a:cubicBezTo>
                  <a:pt x="21703" y="16019"/>
                  <a:pt x="21685" y="16165"/>
                  <a:pt x="21679" y="16272"/>
                </a:cubicBezTo>
                <a:cubicBezTo>
                  <a:pt x="21672" y="16391"/>
                  <a:pt x="21676" y="16505"/>
                  <a:pt x="21704" y="16619"/>
                </a:cubicBezTo>
                <a:cubicBezTo>
                  <a:pt x="21731" y="16730"/>
                  <a:pt x="21757" y="16850"/>
                  <a:pt x="21828" y="16942"/>
                </a:cubicBezTo>
                <a:cubicBezTo>
                  <a:pt x="21881" y="17011"/>
                  <a:pt x="21949" y="17099"/>
                  <a:pt x="22027" y="17140"/>
                </a:cubicBezTo>
                <a:cubicBezTo>
                  <a:pt x="22097" y="17177"/>
                  <a:pt x="22175" y="17165"/>
                  <a:pt x="22250" y="17165"/>
                </a:cubicBezTo>
                <a:cubicBezTo>
                  <a:pt x="22356" y="17165"/>
                  <a:pt x="22361" y="17108"/>
                  <a:pt x="22423" y="17041"/>
                </a:cubicBezTo>
                <a:cubicBezTo>
                  <a:pt x="22490" y="16968"/>
                  <a:pt x="22509" y="16908"/>
                  <a:pt x="22547" y="16818"/>
                </a:cubicBezTo>
                <a:cubicBezTo>
                  <a:pt x="22588" y="16721"/>
                  <a:pt x="22594" y="16627"/>
                  <a:pt x="22597" y="16520"/>
                </a:cubicBezTo>
                <a:cubicBezTo>
                  <a:pt x="22600" y="16418"/>
                  <a:pt x="22560" y="16304"/>
                  <a:pt x="22498" y="16222"/>
                </a:cubicBezTo>
                <a:cubicBezTo>
                  <a:pt x="22451" y="16160"/>
                  <a:pt x="22390" y="16141"/>
                  <a:pt x="22349" y="16073"/>
                </a:cubicBezTo>
                <a:cubicBezTo>
                  <a:pt x="22334" y="16048"/>
                  <a:pt x="22254" y="15983"/>
                  <a:pt x="22250" y="15974"/>
                </a:cubicBezTo>
                <a:cubicBezTo>
                  <a:pt x="22250" y="15949"/>
                  <a:pt x="22250" y="15941"/>
                  <a:pt x="22250" y="15925"/>
                </a:cubicBezTo>
              </a:path>
              <a:path w="6426" h="1836">
                <a:moveTo>
                  <a:pt x="22498" y="15850"/>
                </a:moveTo>
                <a:cubicBezTo>
                  <a:pt x="22584" y="15873"/>
                  <a:pt x="22686" y="15935"/>
                  <a:pt x="22771" y="15949"/>
                </a:cubicBezTo>
                <a:cubicBezTo>
                  <a:pt x="22847" y="15962"/>
                  <a:pt x="22948" y="16002"/>
                  <a:pt x="23019" y="16049"/>
                </a:cubicBezTo>
                <a:cubicBezTo>
                  <a:pt x="23101" y="16103"/>
                  <a:pt x="23171" y="16178"/>
                  <a:pt x="23242" y="16247"/>
                </a:cubicBezTo>
                <a:cubicBezTo>
                  <a:pt x="23284" y="16287"/>
                  <a:pt x="23316" y="16334"/>
                  <a:pt x="23316" y="16396"/>
                </a:cubicBezTo>
                <a:cubicBezTo>
                  <a:pt x="23316" y="16440"/>
                  <a:pt x="23221" y="16548"/>
                  <a:pt x="23192" y="16570"/>
                </a:cubicBezTo>
                <a:cubicBezTo>
                  <a:pt x="23122" y="16623"/>
                  <a:pt x="23072" y="16671"/>
                  <a:pt x="23019" y="16743"/>
                </a:cubicBezTo>
                <a:cubicBezTo>
                  <a:pt x="22971" y="16807"/>
                  <a:pt x="22955" y="16857"/>
                  <a:pt x="22969" y="16942"/>
                </a:cubicBezTo>
                <a:cubicBezTo>
                  <a:pt x="22988" y="17060"/>
                  <a:pt x="23063" y="17110"/>
                  <a:pt x="23143" y="17190"/>
                </a:cubicBezTo>
                <a:cubicBezTo>
                  <a:pt x="23219" y="17266"/>
                  <a:pt x="23277" y="17286"/>
                  <a:pt x="23366" y="17338"/>
                </a:cubicBezTo>
                <a:cubicBezTo>
                  <a:pt x="23386" y="17350"/>
                  <a:pt x="23459" y="17421"/>
                  <a:pt x="23490" y="17388"/>
                </a:cubicBezTo>
                <a:cubicBezTo>
                  <a:pt x="23503" y="17374"/>
                  <a:pt x="23523" y="17313"/>
                  <a:pt x="23540" y="172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33640" y="4875120"/>
            <a:ext cx="260280" cy="411120"/>
          </a:xfrm>
          <a:custGeom>
            <a:avLst/>
            <a:gdLst/>
            <a:ahLst/>
            <a:rect l="l" t="t" r="r" b="b"/>
            <a:pathLst>
              <a:path w="721" h="1142">
                <a:moveTo>
                  <a:pt x="3671" y="13618"/>
                </a:moveTo>
                <a:cubicBezTo>
                  <a:pt x="3645" y="13627"/>
                  <a:pt x="3625" y="13636"/>
                  <a:pt x="3621" y="13667"/>
                </a:cubicBezTo>
                <a:cubicBezTo>
                  <a:pt x="3621" y="13675"/>
                  <a:pt x="3621" y="13684"/>
                  <a:pt x="3621" y="13692"/>
                </a:cubicBezTo>
                <a:cubicBezTo>
                  <a:pt x="3661" y="13692"/>
                  <a:pt x="3701" y="13686"/>
                  <a:pt x="3721" y="13643"/>
                </a:cubicBezTo>
                <a:cubicBezTo>
                  <a:pt x="3736" y="13610"/>
                  <a:pt x="3712" y="13590"/>
                  <a:pt x="3696" y="13568"/>
                </a:cubicBezTo>
                <a:cubicBezTo>
                  <a:pt x="3658" y="13581"/>
                  <a:pt x="3671" y="13598"/>
                  <a:pt x="3671" y="13643"/>
                </a:cubicBezTo>
                <a:cubicBezTo>
                  <a:pt x="3671" y="13682"/>
                  <a:pt x="3684" y="13655"/>
                  <a:pt x="3696" y="13692"/>
                </a:cubicBezTo>
                <a:cubicBezTo>
                  <a:pt x="3721" y="13686"/>
                  <a:pt x="3773" y="13679"/>
                  <a:pt x="3795" y="13667"/>
                </a:cubicBezTo>
                <a:cubicBezTo>
                  <a:pt x="3833" y="13647"/>
                  <a:pt x="3820" y="13603"/>
                  <a:pt x="3820" y="13568"/>
                </a:cubicBezTo>
                <a:cubicBezTo>
                  <a:pt x="3820" y="13560"/>
                  <a:pt x="3820" y="13551"/>
                  <a:pt x="3820" y="13543"/>
                </a:cubicBezTo>
                <a:cubicBezTo>
                  <a:pt x="3771" y="13559"/>
                  <a:pt x="3787" y="13580"/>
                  <a:pt x="3795" y="13618"/>
                </a:cubicBezTo>
                <a:cubicBezTo>
                  <a:pt x="3811" y="13688"/>
                  <a:pt x="3824" y="13653"/>
                  <a:pt x="3845" y="13643"/>
                </a:cubicBezTo>
                <a:cubicBezTo>
                  <a:pt x="3880" y="13626"/>
                  <a:pt x="3870" y="13616"/>
                  <a:pt x="3870" y="13568"/>
                </a:cubicBezTo>
                <a:cubicBezTo>
                  <a:pt x="3858" y="13532"/>
                  <a:pt x="3857" y="13532"/>
                  <a:pt x="3845" y="13568"/>
                </a:cubicBezTo>
              </a:path>
              <a:path w="721" h="1142">
                <a:moveTo>
                  <a:pt x="3373" y="14015"/>
                </a:moveTo>
                <a:cubicBezTo>
                  <a:pt x="3373" y="14070"/>
                  <a:pt x="3366" y="14115"/>
                  <a:pt x="3349" y="14163"/>
                </a:cubicBezTo>
                <a:cubicBezTo>
                  <a:pt x="3322" y="14238"/>
                  <a:pt x="3277" y="14315"/>
                  <a:pt x="3249" y="14387"/>
                </a:cubicBezTo>
                <a:cubicBezTo>
                  <a:pt x="3228" y="14440"/>
                  <a:pt x="3206" y="14490"/>
                  <a:pt x="3175" y="14536"/>
                </a:cubicBezTo>
                <a:cubicBezTo>
                  <a:pt x="3138" y="14524"/>
                  <a:pt x="3159" y="14481"/>
                  <a:pt x="3175" y="14436"/>
                </a:cubicBezTo>
                <a:cubicBezTo>
                  <a:pt x="3200" y="14367"/>
                  <a:pt x="3226" y="14306"/>
                  <a:pt x="3249" y="14238"/>
                </a:cubicBezTo>
                <a:cubicBezTo>
                  <a:pt x="3278" y="14153"/>
                  <a:pt x="3330" y="14116"/>
                  <a:pt x="3373" y="14039"/>
                </a:cubicBezTo>
                <a:cubicBezTo>
                  <a:pt x="3398" y="13994"/>
                  <a:pt x="3416" y="13950"/>
                  <a:pt x="3448" y="13915"/>
                </a:cubicBezTo>
                <a:cubicBezTo>
                  <a:pt x="3456" y="13907"/>
                  <a:pt x="3465" y="13899"/>
                  <a:pt x="3473" y="13891"/>
                </a:cubicBezTo>
                <a:cubicBezTo>
                  <a:pt x="3517" y="13935"/>
                  <a:pt x="3520" y="13958"/>
                  <a:pt x="3547" y="14015"/>
                </a:cubicBezTo>
                <a:cubicBezTo>
                  <a:pt x="3580" y="14085"/>
                  <a:pt x="3595" y="14162"/>
                  <a:pt x="3621" y="14238"/>
                </a:cubicBezTo>
                <a:cubicBezTo>
                  <a:pt x="3653" y="14330"/>
                  <a:pt x="3683" y="14422"/>
                  <a:pt x="3721" y="14511"/>
                </a:cubicBezTo>
                <a:cubicBezTo>
                  <a:pt x="3743" y="14561"/>
                  <a:pt x="3780" y="14615"/>
                  <a:pt x="3795" y="14660"/>
                </a:cubicBezTo>
                <a:cubicBezTo>
                  <a:pt x="3795" y="14668"/>
                  <a:pt x="3795" y="14676"/>
                  <a:pt x="3795" y="14684"/>
                </a:cubicBezTo>
                <a:cubicBezTo>
                  <a:pt x="3784" y="14641"/>
                  <a:pt x="3754" y="14618"/>
                  <a:pt x="3721" y="14585"/>
                </a:cubicBezTo>
                <a:cubicBezTo>
                  <a:pt x="3713" y="14577"/>
                  <a:pt x="3704" y="14568"/>
                  <a:pt x="3696" y="14560"/>
                </a:cubicBezTo>
              </a:path>
              <a:path w="721" h="1142">
                <a:moveTo>
                  <a:pt x="3324" y="14288"/>
                </a:moveTo>
                <a:cubicBezTo>
                  <a:pt x="3415" y="14288"/>
                  <a:pt x="3506" y="14288"/>
                  <a:pt x="3597" y="142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19120" y="3429000"/>
            <a:ext cx="2867040" cy="1598760"/>
          </a:xfrm>
          <a:custGeom>
            <a:avLst/>
            <a:gdLst/>
            <a:ahLst/>
            <a:rect l="l" t="t" r="r" b="b"/>
            <a:pathLst>
              <a:path w="7963" h="4441">
                <a:moveTo>
                  <a:pt x="3944" y="13543"/>
                </a:moveTo>
                <a:cubicBezTo>
                  <a:pt x="3961" y="13527"/>
                  <a:pt x="3978" y="13510"/>
                  <a:pt x="3994" y="13494"/>
                </a:cubicBezTo>
                <a:cubicBezTo>
                  <a:pt x="4029" y="13459"/>
                  <a:pt x="4037" y="13427"/>
                  <a:pt x="4068" y="13395"/>
                </a:cubicBezTo>
                <a:cubicBezTo>
                  <a:pt x="4084" y="13379"/>
                  <a:pt x="4119" y="13338"/>
                  <a:pt x="4142" y="13320"/>
                </a:cubicBezTo>
                <a:cubicBezTo>
                  <a:pt x="4197" y="13276"/>
                  <a:pt x="4261" y="13241"/>
                  <a:pt x="4316" y="13196"/>
                </a:cubicBezTo>
                <a:cubicBezTo>
                  <a:pt x="4379" y="13145"/>
                  <a:pt x="4450" y="13098"/>
                  <a:pt x="4514" y="13047"/>
                </a:cubicBezTo>
                <a:cubicBezTo>
                  <a:pt x="4598" y="12979"/>
                  <a:pt x="4680" y="12917"/>
                  <a:pt x="4762" y="12849"/>
                </a:cubicBezTo>
                <a:cubicBezTo>
                  <a:pt x="4831" y="12792"/>
                  <a:pt x="4893" y="12734"/>
                  <a:pt x="4961" y="12675"/>
                </a:cubicBezTo>
                <a:cubicBezTo>
                  <a:pt x="5035" y="12611"/>
                  <a:pt x="5125" y="12544"/>
                  <a:pt x="5209" y="12477"/>
                </a:cubicBezTo>
                <a:cubicBezTo>
                  <a:pt x="5343" y="12370"/>
                  <a:pt x="5472" y="12260"/>
                  <a:pt x="5606" y="12154"/>
                </a:cubicBezTo>
                <a:cubicBezTo>
                  <a:pt x="5706" y="12075"/>
                  <a:pt x="5815" y="11988"/>
                  <a:pt x="5904" y="11906"/>
                </a:cubicBezTo>
                <a:cubicBezTo>
                  <a:pt x="5995" y="11822"/>
                  <a:pt x="6077" y="11715"/>
                  <a:pt x="6176" y="11633"/>
                </a:cubicBezTo>
                <a:cubicBezTo>
                  <a:pt x="6290" y="11539"/>
                  <a:pt x="6410" y="11455"/>
                  <a:pt x="6524" y="11361"/>
                </a:cubicBezTo>
                <a:cubicBezTo>
                  <a:pt x="6632" y="11271"/>
                  <a:pt x="6739" y="11180"/>
                  <a:pt x="6846" y="11088"/>
                </a:cubicBezTo>
                <a:cubicBezTo>
                  <a:pt x="6953" y="10996"/>
                  <a:pt x="7096" y="10909"/>
                  <a:pt x="7193" y="10815"/>
                </a:cubicBezTo>
                <a:cubicBezTo>
                  <a:pt x="7304" y="10707"/>
                  <a:pt x="7399" y="10595"/>
                  <a:pt x="7516" y="10492"/>
                </a:cubicBezTo>
                <a:cubicBezTo>
                  <a:pt x="7635" y="10388"/>
                  <a:pt x="7780" y="10292"/>
                  <a:pt x="7888" y="10195"/>
                </a:cubicBezTo>
                <a:cubicBezTo>
                  <a:pt x="8004" y="10090"/>
                  <a:pt x="8101" y="9989"/>
                  <a:pt x="8210" y="9897"/>
                </a:cubicBezTo>
                <a:cubicBezTo>
                  <a:pt x="8268" y="9848"/>
                  <a:pt x="8361" y="9803"/>
                  <a:pt x="8409" y="9748"/>
                </a:cubicBezTo>
                <a:cubicBezTo>
                  <a:pt x="8466" y="9684"/>
                  <a:pt x="8459" y="9658"/>
                  <a:pt x="8533" y="9599"/>
                </a:cubicBezTo>
                <a:cubicBezTo>
                  <a:pt x="8579" y="9562"/>
                  <a:pt x="8564" y="9589"/>
                  <a:pt x="8607" y="9550"/>
                </a:cubicBezTo>
              </a:path>
              <a:path w="7963" h="4441">
                <a:moveTo>
                  <a:pt x="3994" y="13593"/>
                </a:moveTo>
                <a:cubicBezTo>
                  <a:pt x="4043" y="13602"/>
                  <a:pt x="4031" y="13609"/>
                  <a:pt x="4068" y="13618"/>
                </a:cubicBezTo>
                <a:cubicBezTo>
                  <a:pt x="4117" y="13630"/>
                  <a:pt x="4174" y="13636"/>
                  <a:pt x="4217" y="13643"/>
                </a:cubicBezTo>
                <a:cubicBezTo>
                  <a:pt x="4293" y="13655"/>
                  <a:pt x="4366" y="13653"/>
                  <a:pt x="4440" y="13667"/>
                </a:cubicBezTo>
                <a:cubicBezTo>
                  <a:pt x="4507" y="13679"/>
                  <a:pt x="4570" y="13687"/>
                  <a:pt x="4638" y="13692"/>
                </a:cubicBezTo>
                <a:cubicBezTo>
                  <a:pt x="4747" y="13700"/>
                  <a:pt x="4855" y="13711"/>
                  <a:pt x="4961" y="13717"/>
                </a:cubicBezTo>
                <a:cubicBezTo>
                  <a:pt x="5075" y="13724"/>
                  <a:pt x="5201" y="13736"/>
                  <a:pt x="5308" y="13742"/>
                </a:cubicBezTo>
                <a:cubicBezTo>
                  <a:pt x="5449" y="13750"/>
                  <a:pt x="5591" y="13760"/>
                  <a:pt x="5730" y="13767"/>
                </a:cubicBezTo>
                <a:cubicBezTo>
                  <a:pt x="5837" y="13772"/>
                  <a:pt x="5949" y="13786"/>
                  <a:pt x="6052" y="13791"/>
                </a:cubicBezTo>
                <a:cubicBezTo>
                  <a:pt x="6160" y="13796"/>
                  <a:pt x="6272" y="13811"/>
                  <a:pt x="6375" y="13816"/>
                </a:cubicBezTo>
                <a:cubicBezTo>
                  <a:pt x="6515" y="13823"/>
                  <a:pt x="6661" y="13834"/>
                  <a:pt x="6796" y="13841"/>
                </a:cubicBezTo>
                <a:cubicBezTo>
                  <a:pt x="7053" y="13855"/>
                  <a:pt x="7314" y="13830"/>
                  <a:pt x="7565" y="13816"/>
                </a:cubicBezTo>
                <a:cubicBezTo>
                  <a:pt x="7846" y="13800"/>
                  <a:pt x="8134" y="13826"/>
                  <a:pt x="8409" y="13841"/>
                </a:cubicBezTo>
                <a:cubicBezTo>
                  <a:pt x="8670" y="13855"/>
                  <a:pt x="8973" y="13877"/>
                  <a:pt x="9227" y="13866"/>
                </a:cubicBezTo>
                <a:cubicBezTo>
                  <a:pt x="9311" y="13862"/>
                  <a:pt x="9388" y="13844"/>
                  <a:pt x="9475" y="13841"/>
                </a:cubicBezTo>
                <a:cubicBezTo>
                  <a:pt x="9619" y="13836"/>
                  <a:pt x="9759" y="13859"/>
                  <a:pt x="9897" y="13866"/>
                </a:cubicBezTo>
                <a:cubicBezTo>
                  <a:pt x="10063" y="13874"/>
                  <a:pt x="10229" y="13883"/>
                  <a:pt x="10393" y="13891"/>
                </a:cubicBezTo>
                <a:cubicBezTo>
                  <a:pt x="10487" y="13895"/>
                  <a:pt x="10576" y="13911"/>
                  <a:pt x="10666" y="13915"/>
                </a:cubicBezTo>
                <a:cubicBezTo>
                  <a:pt x="10741" y="13918"/>
                  <a:pt x="10821" y="13935"/>
                  <a:pt x="10889" y="13940"/>
                </a:cubicBezTo>
                <a:cubicBezTo>
                  <a:pt x="11003" y="13948"/>
                  <a:pt x="11130" y="13959"/>
                  <a:pt x="11237" y="13965"/>
                </a:cubicBezTo>
                <a:cubicBezTo>
                  <a:pt x="11459" y="13977"/>
                  <a:pt x="11684" y="13965"/>
                  <a:pt x="11906" y="13965"/>
                </a:cubicBezTo>
                <a:cubicBezTo>
                  <a:pt x="11878" y="13937"/>
                  <a:pt x="11865" y="13928"/>
                  <a:pt x="11832" y="139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7960" y="5106960"/>
            <a:ext cx="1197000" cy="304920"/>
          </a:xfrm>
          <a:custGeom>
            <a:avLst/>
            <a:gdLst/>
            <a:ahLst/>
            <a:rect l="l" t="t" r="r" b="b"/>
            <a:pathLst>
              <a:path w="3325" h="845">
                <a:moveTo>
                  <a:pt x="7913" y="14238"/>
                </a:moveTo>
                <a:cubicBezTo>
                  <a:pt x="7958" y="14238"/>
                  <a:pt x="7972" y="14260"/>
                  <a:pt x="8012" y="14263"/>
                </a:cubicBezTo>
                <a:cubicBezTo>
                  <a:pt x="8116" y="14270"/>
                  <a:pt x="8212" y="14270"/>
                  <a:pt x="8310" y="14288"/>
                </a:cubicBezTo>
                <a:cubicBezTo>
                  <a:pt x="8377" y="14300"/>
                  <a:pt x="8452" y="14278"/>
                  <a:pt x="8483" y="14263"/>
                </a:cubicBezTo>
                <a:cubicBezTo>
                  <a:pt x="8508" y="14263"/>
                  <a:pt x="8516" y="14263"/>
                  <a:pt x="8533" y="14263"/>
                </a:cubicBezTo>
                <a:cubicBezTo>
                  <a:pt x="8520" y="14301"/>
                  <a:pt x="8508" y="14283"/>
                  <a:pt x="8508" y="14337"/>
                </a:cubicBezTo>
                <a:cubicBezTo>
                  <a:pt x="8508" y="14392"/>
                  <a:pt x="8486" y="14430"/>
                  <a:pt x="8483" y="14486"/>
                </a:cubicBezTo>
                <a:cubicBezTo>
                  <a:pt x="8479" y="14550"/>
                  <a:pt x="8462" y="14597"/>
                  <a:pt x="8458" y="14660"/>
                </a:cubicBezTo>
                <a:cubicBezTo>
                  <a:pt x="8454" y="14731"/>
                  <a:pt x="8439" y="14789"/>
                  <a:pt x="8434" y="14858"/>
                </a:cubicBezTo>
                <a:cubicBezTo>
                  <a:pt x="8430" y="14915"/>
                  <a:pt x="8424" y="14937"/>
                  <a:pt x="8409" y="14982"/>
                </a:cubicBezTo>
                <a:cubicBezTo>
                  <a:pt x="8409" y="15007"/>
                  <a:pt x="8409" y="15015"/>
                  <a:pt x="8409" y="15032"/>
                </a:cubicBezTo>
                <a:cubicBezTo>
                  <a:pt x="8442" y="14988"/>
                  <a:pt x="8441" y="14983"/>
                  <a:pt x="8483" y="14932"/>
                </a:cubicBezTo>
              </a:path>
              <a:path w="3325" h="845">
                <a:moveTo>
                  <a:pt x="8979" y="14213"/>
                </a:moveTo>
                <a:cubicBezTo>
                  <a:pt x="9098" y="14213"/>
                  <a:pt x="9223" y="14223"/>
                  <a:pt x="9327" y="14188"/>
                </a:cubicBezTo>
                <a:cubicBezTo>
                  <a:pt x="9335" y="14188"/>
                  <a:pt x="9343" y="14188"/>
                  <a:pt x="9351" y="14188"/>
                </a:cubicBezTo>
              </a:path>
              <a:path w="3325" h="845">
                <a:moveTo>
                  <a:pt x="8979" y="14213"/>
                </a:moveTo>
                <a:cubicBezTo>
                  <a:pt x="8938" y="14282"/>
                  <a:pt x="8911" y="14313"/>
                  <a:pt x="8905" y="14387"/>
                </a:cubicBezTo>
                <a:cubicBezTo>
                  <a:pt x="8902" y="14426"/>
                  <a:pt x="8913" y="14468"/>
                  <a:pt x="8954" y="14486"/>
                </a:cubicBezTo>
                <a:cubicBezTo>
                  <a:pt x="8982" y="14499"/>
                  <a:pt x="9037" y="14473"/>
                  <a:pt x="9054" y="14461"/>
                </a:cubicBezTo>
                <a:cubicBezTo>
                  <a:pt x="9100" y="14430"/>
                  <a:pt x="9118" y="14417"/>
                  <a:pt x="9178" y="14412"/>
                </a:cubicBezTo>
                <a:cubicBezTo>
                  <a:pt x="9225" y="14408"/>
                  <a:pt x="9231" y="14382"/>
                  <a:pt x="9277" y="14412"/>
                </a:cubicBezTo>
                <a:cubicBezTo>
                  <a:pt x="9324" y="14442"/>
                  <a:pt x="9413" y="14530"/>
                  <a:pt x="9426" y="14585"/>
                </a:cubicBezTo>
                <a:cubicBezTo>
                  <a:pt x="9447" y="14675"/>
                  <a:pt x="9422" y="14776"/>
                  <a:pt x="9401" y="14858"/>
                </a:cubicBezTo>
                <a:cubicBezTo>
                  <a:pt x="9389" y="14907"/>
                  <a:pt x="9304" y="14947"/>
                  <a:pt x="9252" y="14957"/>
                </a:cubicBezTo>
                <a:cubicBezTo>
                  <a:pt x="9206" y="14966"/>
                  <a:pt x="9116" y="14949"/>
                  <a:pt x="9079" y="14932"/>
                </a:cubicBezTo>
                <a:cubicBezTo>
                  <a:pt x="9033" y="14911"/>
                  <a:pt x="9027" y="14893"/>
                  <a:pt x="9004" y="14858"/>
                </a:cubicBezTo>
                <a:cubicBezTo>
                  <a:pt x="8980" y="14821"/>
                  <a:pt x="8979" y="14828"/>
                  <a:pt x="8979" y="14784"/>
                </a:cubicBezTo>
              </a:path>
              <a:path w="3325" h="845">
                <a:moveTo>
                  <a:pt x="9872" y="14585"/>
                </a:moveTo>
                <a:cubicBezTo>
                  <a:pt x="9872" y="14684"/>
                  <a:pt x="9872" y="14784"/>
                  <a:pt x="9872" y="14883"/>
                </a:cubicBezTo>
                <a:cubicBezTo>
                  <a:pt x="9908" y="14871"/>
                  <a:pt x="9904" y="14863"/>
                  <a:pt x="9922" y="14833"/>
                </a:cubicBezTo>
                <a:cubicBezTo>
                  <a:pt x="9953" y="14782"/>
                  <a:pt x="10002" y="14717"/>
                  <a:pt x="10021" y="14660"/>
                </a:cubicBezTo>
                <a:cubicBezTo>
                  <a:pt x="10029" y="14638"/>
                  <a:pt x="10058" y="14547"/>
                  <a:pt x="10071" y="14536"/>
                </a:cubicBezTo>
                <a:cubicBezTo>
                  <a:pt x="10094" y="14517"/>
                  <a:pt x="10136" y="14511"/>
                  <a:pt x="10170" y="14511"/>
                </a:cubicBezTo>
                <a:cubicBezTo>
                  <a:pt x="10201" y="14511"/>
                  <a:pt x="10255" y="14554"/>
                  <a:pt x="10269" y="14585"/>
                </a:cubicBezTo>
                <a:cubicBezTo>
                  <a:pt x="10289" y="14630"/>
                  <a:pt x="10311" y="14710"/>
                  <a:pt x="10319" y="14759"/>
                </a:cubicBezTo>
                <a:cubicBezTo>
                  <a:pt x="10325" y="14795"/>
                  <a:pt x="10315" y="14864"/>
                  <a:pt x="10344" y="14808"/>
                </a:cubicBezTo>
                <a:cubicBezTo>
                  <a:pt x="10358" y="14781"/>
                  <a:pt x="10350" y="14736"/>
                  <a:pt x="10368" y="14709"/>
                </a:cubicBezTo>
                <a:cubicBezTo>
                  <a:pt x="10391" y="14674"/>
                  <a:pt x="10427" y="14625"/>
                  <a:pt x="10443" y="14585"/>
                </a:cubicBezTo>
                <a:cubicBezTo>
                  <a:pt x="10456" y="14553"/>
                  <a:pt x="10492" y="14539"/>
                  <a:pt x="10542" y="14536"/>
                </a:cubicBezTo>
                <a:cubicBezTo>
                  <a:pt x="10596" y="14533"/>
                  <a:pt x="10653" y="14551"/>
                  <a:pt x="10691" y="14585"/>
                </a:cubicBezTo>
                <a:cubicBezTo>
                  <a:pt x="10728" y="14618"/>
                  <a:pt x="10757" y="14667"/>
                  <a:pt x="10765" y="14709"/>
                </a:cubicBezTo>
                <a:cubicBezTo>
                  <a:pt x="10774" y="14755"/>
                  <a:pt x="10785" y="14813"/>
                  <a:pt x="10790" y="14858"/>
                </a:cubicBezTo>
                <a:cubicBezTo>
                  <a:pt x="10790" y="14862"/>
                  <a:pt x="10784" y="14971"/>
                  <a:pt x="10815" y="14932"/>
                </a:cubicBezTo>
                <a:cubicBezTo>
                  <a:pt x="10815" y="14924"/>
                  <a:pt x="10815" y="14916"/>
                  <a:pt x="10815" y="14908"/>
                </a:cubicBezTo>
              </a:path>
              <a:path w="3325" h="845">
                <a:moveTo>
                  <a:pt x="11187" y="14635"/>
                </a:moveTo>
                <a:cubicBezTo>
                  <a:pt x="11208" y="14732"/>
                  <a:pt x="11212" y="14809"/>
                  <a:pt x="11212" y="14908"/>
                </a:cubicBezTo>
                <a:cubicBezTo>
                  <a:pt x="11212" y="14948"/>
                  <a:pt x="11191" y="14987"/>
                  <a:pt x="11212" y="14957"/>
                </a:cubicBezTo>
                <a:cubicBezTo>
                  <a:pt x="11220" y="14949"/>
                  <a:pt x="11229" y="14940"/>
                  <a:pt x="11237" y="14932"/>
                </a:cubicBezTo>
              </a:path>
              <a:path w="3325" h="845">
                <a:moveTo>
                  <a:pt x="11237" y="14238"/>
                </a:moveTo>
                <a:cubicBezTo>
                  <a:pt x="11237" y="14202"/>
                  <a:pt x="11245" y="14227"/>
                  <a:pt x="11212" y="142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9840" y="5429160"/>
            <a:ext cx="2859120" cy="1027080"/>
          </a:xfrm>
          <a:custGeom>
            <a:avLst/>
            <a:gdLst/>
            <a:ahLst/>
            <a:rect l="l" t="t" r="r" b="b"/>
            <a:pathLst>
              <a:path w="7938" h="2854">
                <a:moveTo>
                  <a:pt x="16917" y="15304"/>
                </a:moveTo>
                <a:cubicBezTo>
                  <a:pt x="16881" y="15357"/>
                  <a:pt x="16855" y="15398"/>
                  <a:pt x="16818" y="15453"/>
                </a:cubicBezTo>
                <a:cubicBezTo>
                  <a:pt x="16746" y="15560"/>
                  <a:pt x="16700" y="15661"/>
                  <a:pt x="16644" y="15776"/>
                </a:cubicBezTo>
                <a:cubicBezTo>
                  <a:pt x="16576" y="15915"/>
                  <a:pt x="16360" y="16239"/>
                  <a:pt x="16470" y="16396"/>
                </a:cubicBezTo>
                <a:cubicBezTo>
                  <a:pt x="16523" y="16472"/>
                  <a:pt x="16594" y="16456"/>
                  <a:pt x="16669" y="16495"/>
                </a:cubicBezTo>
                <a:cubicBezTo>
                  <a:pt x="16767" y="16546"/>
                  <a:pt x="16858" y="16574"/>
                  <a:pt x="16942" y="16644"/>
                </a:cubicBezTo>
                <a:cubicBezTo>
                  <a:pt x="17037" y="16723"/>
                  <a:pt x="17089" y="16832"/>
                  <a:pt x="17140" y="16942"/>
                </a:cubicBezTo>
                <a:cubicBezTo>
                  <a:pt x="17193" y="17056"/>
                  <a:pt x="17211" y="17218"/>
                  <a:pt x="17289" y="17314"/>
                </a:cubicBezTo>
                <a:cubicBezTo>
                  <a:pt x="17361" y="17403"/>
                  <a:pt x="17444" y="17388"/>
                  <a:pt x="17537" y="17413"/>
                </a:cubicBezTo>
                <a:cubicBezTo>
                  <a:pt x="17727" y="17465"/>
                  <a:pt x="17941" y="17372"/>
                  <a:pt x="18132" y="17438"/>
                </a:cubicBezTo>
                <a:cubicBezTo>
                  <a:pt x="18259" y="17481"/>
                  <a:pt x="18348" y="17581"/>
                  <a:pt x="18455" y="17636"/>
                </a:cubicBezTo>
                <a:cubicBezTo>
                  <a:pt x="18597" y="17710"/>
                  <a:pt x="18716" y="17718"/>
                  <a:pt x="18876" y="17711"/>
                </a:cubicBezTo>
                <a:cubicBezTo>
                  <a:pt x="19024" y="17705"/>
                  <a:pt x="19174" y="17668"/>
                  <a:pt x="19323" y="17661"/>
                </a:cubicBezTo>
                <a:cubicBezTo>
                  <a:pt x="19450" y="17655"/>
                  <a:pt x="19577" y="17654"/>
                  <a:pt x="19695" y="17686"/>
                </a:cubicBezTo>
                <a:cubicBezTo>
                  <a:pt x="19762" y="17704"/>
                  <a:pt x="19807" y="17731"/>
                  <a:pt x="19869" y="17760"/>
                </a:cubicBezTo>
                <a:cubicBezTo>
                  <a:pt x="19942" y="17794"/>
                  <a:pt x="19970" y="17838"/>
                  <a:pt x="20042" y="17859"/>
                </a:cubicBezTo>
                <a:cubicBezTo>
                  <a:pt x="20150" y="17891"/>
                  <a:pt x="20275" y="17897"/>
                  <a:pt x="20389" y="17884"/>
                </a:cubicBezTo>
                <a:cubicBezTo>
                  <a:pt x="20495" y="17872"/>
                  <a:pt x="20605" y="17849"/>
                  <a:pt x="20712" y="17835"/>
                </a:cubicBezTo>
                <a:cubicBezTo>
                  <a:pt x="20835" y="17819"/>
                  <a:pt x="20959" y="17783"/>
                  <a:pt x="21084" y="17785"/>
                </a:cubicBezTo>
                <a:cubicBezTo>
                  <a:pt x="21183" y="17786"/>
                  <a:pt x="21282" y="17799"/>
                  <a:pt x="21382" y="17810"/>
                </a:cubicBezTo>
                <a:cubicBezTo>
                  <a:pt x="21468" y="17820"/>
                  <a:pt x="21547" y="17826"/>
                  <a:pt x="21630" y="17835"/>
                </a:cubicBezTo>
                <a:cubicBezTo>
                  <a:pt x="21712" y="17844"/>
                  <a:pt x="21789" y="17866"/>
                  <a:pt x="21878" y="17859"/>
                </a:cubicBezTo>
                <a:cubicBezTo>
                  <a:pt x="22033" y="17848"/>
                  <a:pt x="22189" y="17817"/>
                  <a:pt x="22349" y="17810"/>
                </a:cubicBezTo>
                <a:cubicBezTo>
                  <a:pt x="22513" y="17803"/>
                  <a:pt x="22672" y="17821"/>
                  <a:pt x="22820" y="17859"/>
                </a:cubicBezTo>
                <a:cubicBezTo>
                  <a:pt x="22875" y="17873"/>
                  <a:pt x="22906" y="17897"/>
                  <a:pt x="22969" y="17909"/>
                </a:cubicBezTo>
                <a:cubicBezTo>
                  <a:pt x="23031" y="17921"/>
                  <a:pt x="23093" y="17930"/>
                  <a:pt x="23168" y="17934"/>
                </a:cubicBezTo>
                <a:cubicBezTo>
                  <a:pt x="23344" y="17943"/>
                  <a:pt x="23499" y="17921"/>
                  <a:pt x="23664" y="17884"/>
                </a:cubicBezTo>
                <a:cubicBezTo>
                  <a:pt x="23747" y="17866"/>
                  <a:pt x="23832" y="17843"/>
                  <a:pt x="23912" y="17810"/>
                </a:cubicBezTo>
                <a:cubicBezTo>
                  <a:pt x="23969" y="17787"/>
                  <a:pt x="24011" y="17770"/>
                  <a:pt x="24061" y="17735"/>
                </a:cubicBezTo>
                <a:cubicBezTo>
                  <a:pt x="24137" y="17683"/>
                  <a:pt x="24171" y="17659"/>
                  <a:pt x="24234" y="17587"/>
                </a:cubicBezTo>
                <a:cubicBezTo>
                  <a:pt x="24269" y="17547"/>
                  <a:pt x="24308" y="17509"/>
                  <a:pt x="24333" y="17462"/>
                </a:cubicBezTo>
                <a:cubicBezTo>
                  <a:pt x="24363" y="17407"/>
                  <a:pt x="24376" y="17351"/>
                  <a:pt x="24383" y="17289"/>
                </a:cubicBezTo>
                <a:cubicBezTo>
                  <a:pt x="24392" y="17210"/>
                  <a:pt x="24372" y="17140"/>
                  <a:pt x="24358" y="17066"/>
                </a:cubicBezTo>
                <a:cubicBezTo>
                  <a:pt x="24343" y="16987"/>
                  <a:pt x="24312" y="16920"/>
                  <a:pt x="24284" y="16842"/>
                </a:cubicBezTo>
                <a:cubicBezTo>
                  <a:pt x="24200" y="16604"/>
                  <a:pt x="24064" y="16342"/>
                  <a:pt x="23961" y="16123"/>
                </a:cubicBezTo>
                <a:cubicBezTo>
                  <a:pt x="23933" y="16063"/>
                  <a:pt x="23901" y="16002"/>
                  <a:pt x="23862" y="15949"/>
                </a:cubicBezTo>
                <a:cubicBezTo>
                  <a:pt x="23823" y="15896"/>
                  <a:pt x="23741" y="15831"/>
                  <a:pt x="23688" y="15801"/>
                </a:cubicBezTo>
                <a:cubicBezTo>
                  <a:pt x="23627" y="15766"/>
                  <a:pt x="23557" y="15758"/>
                  <a:pt x="23490" y="15726"/>
                </a:cubicBezTo>
                <a:cubicBezTo>
                  <a:pt x="23443" y="15704"/>
                  <a:pt x="23388" y="15677"/>
                  <a:pt x="23341" y="15652"/>
                </a:cubicBezTo>
                <a:cubicBezTo>
                  <a:pt x="23277" y="15619"/>
                  <a:pt x="23186" y="15545"/>
                  <a:pt x="23118" y="15528"/>
                </a:cubicBezTo>
                <a:cubicBezTo>
                  <a:pt x="22899" y="15473"/>
                  <a:pt x="22631" y="15475"/>
                  <a:pt x="22423" y="15429"/>
                </a:cubicBezTo>
                <a:cubicBezTo>
                  <a:pt x="22384" y="15420"/>
                  <a:pt x="22368" y="15406"/>
                  <a:pt x="22324" y="15404"/>
                </a:cubicBezTo>
                <a:cubicBezTo>
                  <a:pt x="22255" y="15401"/>
                  <a:pt x="22213" y="15428"/>
                  <a:pt x="22151" y="15429"/>
                </a:cubicBezTo>
                <a:cubicBezTo>
                  <a:pt x="22061" y="15430"/>
                  <a:pt x="22038" y="15450"/>
                  <a:pt x="21952" y="15429"/>
                </a:cubicBezTo>
                <a:cubicBezTo>
                  <a:pt x="21913" y="15420"/>
                  <a:pt x="21889" y="15389"/>
                  <a:pt x="21853" y="15379"/>
                </a:cubicBezTo>
                <a:cubicBezTo>
                  <a:pt x="21816" y="15368"/>
                  <a:pt x="21794" y="15362"/>
                  <a:pt x="21754" y="15354"/>
                </a:cubicBezTo>
                <a:cubicBezTo>
                  <a:pt x="21706" y="15344"/>
                  <a:pt x="21664" y="15330"/>
                  <a:pt x="21605" y="15329"/>
                </a:cubicBezTo>
                <a:cubicBezTo>
                  <a:pt x="21523" y="15328"/>
                  <a:pt x="21463" y="15350"/>
                  <a:pt x="21382" y="15354"/>
                </a:cubicBezTo>
                <a:cubicBezTo>
                  <a:pt x="21237" y="15361"/>
                  <a:pt x="21064" y="15369"/>
                  <a:pt x="20935" y="15329"/>
                </a:cubicBezTo>
                <a:cubicBezTo>
                  <a:pt x="20882" y="15313"/>
                  <a:pt x="20816" y="15272"/>
                  <a:pt x="20762" y="15255"/>
                </a:cubicBezTo>
                <a:cubicBezTo>
                  <a:pt x="20698" y="15235"/>
                  <a:pt x="20652" y="15208"/>
                  <a:pt x="20588" y="15205"/>
                </a:cubicBezTo>
                <a:cubicBezTo>
                  <a:pt x="20522" y="15201"/>
                  <a:pt x="20435" y="15223"/>
                  <a:pt x="20365" y="15230"/>
                </a:cubicBezTo>
                <a:cubicBezTo>
                  <a:pt x="20277" y="15239"/>
                  <a:pt x="20187" y="15254"/>
                  <a:pt x="20092" y="15255"/>
                </a:cubicBezTo>
                <a:cubicBezTo>
                  <a:pt x="19974" y="15257"/>
                  <a:pt x="19900" y="15240"/>
                  <a:pt x="19794" y="15205"/>
                </a:cubicBezTo>
                <a:cubicBezTo>
                  <a:pt x="19731" y="15184"/>
                  <a:pt x="19685" y="15153"/>
                  <a:pt x="19621" y="15131"/>
                </a:cubicBezTo>
                <a:cubicBezTo>
                  <a:pt x="19547" y="15106"/>
                  <a:pt x="19463" y="15074"/>
                  <a:pt x="19372" y="15081"/>
                </a:cubicBezTo>
                <a:cubicBezTo>
                  <a:pt x="19291" y="15087"/>
                  <a:pt x="19205" y="15116"/>
                  <a:pt x="19124" y="15131"/>
                </a:cubicBezTo>
                <a:cubicBezTo>
                  <a:pt x="19017" y="15151"/>
                  <a:pt x="18937" y="15172"/>
                  <a:pt x="18827" y="15180"/>
                </a:cubicBezTo>
                <a:cubicBezTo>
                  <a:pt x="18720" y="15187"/>
                  <a:pt x="18627" y="15168"/>
                  <a:pt x="18529" y="15156"/>
                </a:cubicBezTo>
                <a:cubicBezTo>
                  <a:pt x="18470" y="15149"/>
                  <a:pt x="18413" y="15130"/>
                  <a:pt x="18355" y="15131"/>
                </a:cubicBezTo>
                <a:cubicBezTo>
                  <a:pt x="18239" y="15133"/>
                  <a:pt x="18142" y="15153"/>
                  <a:pt x="18033" y="15180"/>
                </a:cubicBezTo>
                <a:cubicBezTo>
                  <a:pt x="17879" y="15218"/>
                  <a:pt x="17763" y="15251"/>
                  <a:pt x="17611" y="15205"/>
                </a:cubicBezTo>
                <a:cubicBezTo>
                  <a:pt x="17571" y="15193"/>
                  <a:pt x="17530" y="15170"/>
                  <a:pt x="17487" y="15156"/>
                </a:cubicBezTo>
                <a:cubicBezTo>
                  <a:pt x="17480" y="15154"/>
                  <a:pt x="17425" y="15104"/>
                  <a:pt x="17388" y="15106"/>
                </a:cubicBezTo>
                <a:cubicBezTo>
                  <a:pt x="17288" y="15111"/>
                  <a:pt x="17212" y="15190"/>
                  <a:pt x="17115" y="15205"/>
                </a:cubicBezTo>
                <a:cubicBezTo>
                  <a:pt x="17035" y="15218"/>
                  <a:pt x="17001" y="15188"/>
                  <a:pt x="16942" y="151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 An A-frame shed is 28 feet wide.  If the roof makes a 42</a:t>
            </a:r>
            <a:r>
              <a:rPr b="0" lang="en-US" sz="40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with the base of the shed on the ground, what is the length of the roof from the ground to its peak?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0240" y="3463920"/>
            <a:ext cx="1903680" cy="1876320"/>
          </a:xfrm>
          <a:custGeom>
            <a:avLst/>
            <a:gdLst/>
            <a:ahLst/>
            <a:rect l="l" t="t" r="r" b="b"/>
            <a:pathLst>
              <a:path w="5284" h="5210">
                <a:moveTo>
                  <a:pt x="4217" y="9699"/>
                </a:moveTo>
                <a:cubicBezTo>
                  <a:pt x="4180" y="9814"/>
                  <a:pt x="4135" y="9932"/>
                  <a:pt x="4068" y="10046"/>
                </a:cubicBezTo>
                <a:cubicBezTo>
                  <a:pt x="3994" y="10172"/>
                  <a:pt x="3938" y="10289"/>
                  <a:pt x="3870" y="10418"/>
                </a:cubicBezTo>
                <a:cubicBezTo>
                  <a:pt x="3782" y="10585"/>
                  <a:pt x="3685" y="10747"/>
                  <a:pt x="3597" y="10914"/>
                </a:cubicBezTo>
                <a:cubicBezTo>
                  <a:pt x="3491" y="11114"/>
                  <a:pt x="3385" y="11311"/>
                  <a:pt x="3274" y="11509"/>
                </a:cubicBezTo>
                <a:cubicBezTo>
                  <a:pt x="3150" y="11731"/>
                  <a:pt x="3012" y="11950"/>
                  <a:pt x="2902" y="12179"/>
                </a:cubicBezTo>
                <a:cubicBezTo>
                  <a:pt x="2788" y="12415"/>
                  <a:pt x="2693" y="12661"/>
                  <a:pt x="2580" y="12898"/>
                </a:cubicBezTo>
                <a:cubicBezTo>
                  <a:pt x="2445" y="13179"/>
                  <a:pt x="2323" y="13464"/>
                  <a:pt x="2183" y="13742"/>
                </a:cubicBezTo>
                <a:cubicBezTo>
                  <a:pt x="2100" y="13908"/>
                  <a:pt x="2010" y="14176"/>
                  <a:pt x="1885" y="14312"/>
                </a:cubicBezTo>
                <a:cubicBezTo>
                  <a:pt x="1858" y="14341"/>
                  <a:pt x="1869" y="14289"/>
                  <a:pt x="1836" y="14312"/>
                </a:cubicBezTo>
              </a:path>
              <a:path w="5284" h="5210">
                <a:moveTo>
                  <a:pt x="4390" y="9624"/>
                </a:moveTo>
                <a:cubicBezTo>
                  <a:pt x="4400" y="9640"/>
                  <a:pt x="4424" y="9679"/>
                  <a:pt x="4440" y="9699"/>
                </a:cubicBezTo>
                <a:cubicBezTo>
                  <a:pt x="4476" y="9744"/>
                  <a:pt x="4537" y="9808"/>
                  <a:pt x="4564" y="9847"/>
                </a:cubicBezTo>
                <a:cubicBezTo>
                  <a:pt x="4622" y="9932"/>
                  <a:pt x="4676" y="10030"/>
                  <a:pt x="4738" y="10120"/>
                </a:cubicBezTo>
                <a:cubicBezTo>
                  <a:pt x="4814" y="10230"/>
                  <a:pt x="4890" y="10332"/>
                  <a:pt x="4961" y="10443"/>
                </a:cubicBezTo>
                <a:cubicBezTo>
                  <a:pt x="5114" y="10684"/>
                  <a:pt x="5247" y="10937"/>
                  <a:pt x="5383" y="11187"/>
                </a:cubicBezTo>
                <a:cubicBezTo>
                  <a:pt x="5489" y="11383"/>
                  <a:pt x="5563" y="11580"/>
                  <a:pt x="5655" y="11782"/>
                </a:cubicBezTo>
                <a:cubicBezTo>
                  <a:pt x="5846" y="12199"/>
                  <a:pt x="6055" y="12608"/>
                  <a:pt x="6251" y="13022"/>
                </a:cubicBezTo>
                <a:cubicBezTo>
                  <a:pt x="6340" y="13211"/>
                  <a:pt x="6446" y="13400"/>
                  <a:pt x="6524" y="13593"/>
                </a:cubicBezTo>
                <a:cubicBezTo>
                  <a:pt x="6592" y="13762"/>
                  <a:pt x="6664" y="13926"/>
                  <a:pt x="6747" y="14089"/>
                </a:cubicBezTo>
                <a:cubicBezTo>
                  <a:pt x="6811" y="14215"/>
                  <a:pt x="6885" y="14334"/>
                  <a:pt x="6945" y="14461"/>
                </a:cubicBezTo>
                <a:cubicBezTo>
                  <a:pt x="6992" y="14560"/>
                  <a:pt x="7048" y="14662"/>
                  <a:pt x="7094" y="14759"/>
                </a:cubicBezTo>
                <a:cubicBezTo>
                  <a:pt x="7104" y="14781"/>
                  <a:pt x="7108" y="14811"/>
                  <a:pt x="7119" y="14833"/>
                </a:cubicBezTo>
                <a:cubicBezTo>
                  <a:pt x="6957" y="14828"/>
                  <a:pt x="6807" y="14815"/>
                  <a:pt x="6648" y="14808"/>
                </a:cubicBezTo>
                <a:cubicBezTo>
                  <a:pt x="6436" y="14798"/>
                  <a:pt x="6241" y="14781"/>
                  <a:pt x="6028" y="14759"/>
                </a:cubicBezTo>
                <a:cubicBezTo>
                  <a:pt x="5797" y="14735"/>
                  <a:pt x="5565" y="14712"/>
                  <a:pt x="5333" y="14684"/>
                </a:cubicBezTo>
                <a:cubicBezTo>
                  <a:pt x="5109" y="14657"/>
                  <a:pt x="4886" y="14633"/>
                  <a:pt x="4663" y="14610"/>
                </a:cubicBezTo>
                <a:cubicBezTo>
                  <a:pt x="4423" y="14585"/>
                  <a:pt x="4183" y="14582"/>
                  <a:pt x="3944" y="14560"/>
                </a:cubicBezTo>
                <a:cubicBezTo>
                  <a:pt x="3670" y="14535"/>
                  <a:pt x="3400" y="14549"/>
                  <a:pt x="3125" y="14536"/>
                </a:cubicBezTo>
                <a:cubicBezTo>
                  <a:pt x="2815" y="14521"/>
                  <a:pt x="2486" y="14501"/>
                  <a:pt x="2183" y="14486"/>
                </a:cubicBezTo>
                <a:cubicBezTo>
                  <a:pt x="2111" y="14483"/>
                  <a:pt x="1995" y="14466"/>
                  <a:pt x="1960" y="144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9880" y="4062240"/>
            <a:ext cx="241200" cy="196920"/>
          </a:xfrm>
          <a:custGeom>
            <a:avLst/>
            <a:gdLst/>
            <a:ahLst/>
            <a:rect l="l" t="t" r="r" b="b"/>
            <a:pathLst>
              <a:path w="670" h="547">
                <a:moveTo>
                  <a:pt x="2332" y="11311"/>
                </a:moveTo>
                <a:cubicBezTo>
                  <a:pt x="2343" y="11346"/>
                  <a:pt x="2379" y="11343"/>
                  <a:pt x="2406" y="11385"/>
                </a:cubicBezTo>
                <a:cubicBezTo>
                  <a:pt x="2435" y="11430"/>
                  <a:pt x="2503" y="11506"/>
                  <a:pt x="2555" y="11534"/>
                </a:cubicBezTo>
                <a:cubicBezTo>
                  <a:pt x="2632" y="11576"/>
                  <a:pt x="2702" y="11643"/>
                  <a:pt x="2778" y="11683"/>
                </a:cubicBezTo>
                <a:cubicBezTo>
                  <a:pt x="2830" y="11710"/>
                  <a:pt x="2905" y="11729"/>
                  <a:pt x="2952" y="11757"/>
                </a:cubicBezTo>
                <a:cubicBezTo>
                  <a:pt x="2974" y="11779"/>
                  <a:pt x="2979" y="11788"/>
                  <a:pt x="3001" y="11782"/>
                </a:cubicBezTo>
              </a:path>
              <a:path w="670" h="547">
                <a:moveTo>
                  <a:pt x="2877" y="11286"/>
                </a:moveTo>
                <a:cubicBezTo>
                  <a:pt x="2840" y="11382"/>
                  <a:pt x="2789" y="11403"/>
                  <a:pt x="2729" y="11485"/>
                </a:cubicBezTo>
                <a:cubicBezTo>
                  <a:pt x="2674" y="11561"/>
                  <a:pt x="2598" y="11615"/>
                  <a:pt x="2530" y="11683"/>
                </a:cubicBezTo>
                <a:cubicBezTo>
                  <a:pt x="2496" y="11717"/>
                  <a:pt x="2433" y="11814"/>
                  <a:pt x="2406" y="11832"/>
                </a:cubicBezTo>
                <a:cubicBezTo>
                  <a:pt x="2366" y="11832"/>
                  <a:pt x="2347" y="11821"/>
                  <a:pt x="2332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28840" y="3751200"/>
            <a:ext cx="492120" cy="312840"/>
          </a:xfrm>
          <a:custGeom>
            <a:avLst/>
            <a:gdLst/>
            <a:ahLst/>
            <a:rect l="l" t="t" r="r" b="b"/>
            <a:pathLst>
              <a:path w="1365" h="869">
                <a:moveTo>
                  <a:pt x="4291" y="10641"/>
                </a:moveTo>
                <a:cubicBezTo>
                  <a:pt x="4328" y="10617"/>
                  <a:pt x="4316" y="10574"/>
                  <a:pt x="4316" y="10517"/>
                </a:cubicBezTo>
                <a:cubicBezTo>
                  <a:pt x="4316" y="10468"/>
                  <a:pt x="4284" y="10432"/>
                  <a:pt x="4242" y="10418"/>
                </a:cubicBezTo>
                <a:cubicBezTo>
                  <a:pt x="4204" y="10405"/>
                  <a:pt x="4093" y="10407"/>
                  <a:pt x="4068" y="10443"/>
                </a:cubicBezTo>
                <a:cubicBezTo>
                  <a:pt x="4021" y="10509"/>
                  <a:pt x="4014" y="10562"/>
                  <a:pt x="3994" y="10641"/>
                </a:cubicBezTo>
                <a:cubicBezTo>
                  <a:pt x="3986" y="10672"/>
                  <a:pt x="3947" y="10797"/>
                  <a:pt x="3969" y="10840"/>
                </a:cubicBezTo>
                <a:cubicBezTo>
                  <a:pt x="3977" y="10848"/>
                  <a:pt x="3986" y="10856"/>
                  <a:pt x="3994" y="10864"/>
                </a:cubicBezTo>
                <a:cubicBezTo>
                  <a:pt x="4044" y="10864"/>
                  <a:pt x="4076" y="10847"/>
                  <a:pt x="4118" y="10815"/>
                </a:cubicBezTo>
                <a:cubicBezTo>
                  <a:pt x="4166" y="10778"/>
                  <a:pt x="4231" y="10736"/>
                  <a:pt x="4266" y="10691"/>
                </a:cubicBezTo>
                <a:cubicBezTo>
                  <a:pt x="4308" y="10638"/>
                  <a:pt x="4316" y="10637"/>
                  <a:pt x="4316" y="10567"/>
                </a:cubicBezTo>
                <a:cubicBezTo>
                  <a:pt x="4356" y="10580"/>
                  <a:pt x="4349" y="10641"/>
                  <a:pt x="4341" y="10691"/>
                </a:cubicBezTo>
                <a:cubicBezTo>
                  <a:pt x="4324" y="10802"/>
                  <a:pt x="4280" y="10885"/>
                  <a:pt x="4242" y="10988"/>
                </a:cubicBezTo>
                <a:cubicBezTo>
                  <a:pt x="4209" y="11078"/>
                  <a:pt x="4192" y="11166"/>
                  <a:pt x="4192" y="11261"/>
                </a:cubicBezTo>
                <a:cubicBezTo>
                  <a:pt x="4192" y="11286"/>
                  <a:pt x="4192" y="11294"/>
                  <a:pt x="4217" y="11286"/>
                </a:cubicBezTo>
              </a:path>
              <a:path w="1365" h="869">
                <a:moveTo>
                  <a:pt x="4762" y="10418"/>
                </a:moveTo>
                <a:cubicBezTo>
                  <a:pt x="4762" y="10500"/>
                  <a:pt x="4751" y="10566"/>
                  <a:pt x="4738" y="10641"/>
                </a:cubicBezTo>
                <a:cubicBezTo>
                  <a:pt x="4725" y="10718"/>
                  <a:pt x="4698" y="10800"/>
                  <a:pt x="4663" y="10864"/>
                </a:cubicBezTo>
                <a:cubicBezTo>
                  <a:pt x="4628" y="10930"/>
                  <a:pt x="4625" y="11039"/>
                  <a:pt x="4614" y="11112"/>
                </a:cubicBezTo>
                <a:cubicBezTo>
                  <a:pt x="4611" y="11131"/>
                  <a:pt x="4627" y="11218"/>
                  <a:pt x="4638" y="11237"/>
                </a:cubicBezTo>
                <a:cubicBezTo>
                  <a:pt x="4673" y="11298"/>
                  <a:pt x="4726" y="11286"/>
                  <a:pt x="4787" y="11286"/>
                </a:cubicBezTo>
                <a:cubicBezTo>
                  <a:pt x="4844" y="11286"/>
                  <a:pt x="4874" y="11249"/>
                  <a:pt x="4911" y="11212"/>
                </a:cubicBezTo>
                <a:cubicBezTo>
                  <a:pt x="4950" y="11173"/>
                  <a:pt x="4972" y="11135"/>
                  <a:pt x="4986" y="11088"/>
                </a:cubicBezTo>
                <a:cubicBezTo>
                  <a:pt x="4994" y="11061"/>
                  <a:pt x="4986" y="11017"/>
                  <a:pt x="4986" y="10988"/>
                </a:cubicBezTo>
                <a:cubicBezTo>
                  <a:pt x="4940" y="10988"/>
                  <a:pt x="4922" y="10982"/>
                  <a:pt x="4887" y="11013"/>
                </a:cubicBezTo>
                <a:cubicBezTo>
                  <a:pt x="4845" y="11050"/>
                  <a:pt x="4768" y="11108"/>
                  <a:pt x="4762" y="11162"/>
                </a:cubicBezTo>
                <a:cubicBezTo>
                  <a:pt x="4756" y="11216"/>
                  <a:pt x="4773" y="11208"/>
                  <a:pt x="4812" y="11237"/>
                </a:cubicBezTo>
              </a:path>
              <a:path w="1365" h="869">
                <a:moveTo>
                  <a:pt x="5184" y="10691"/>
                </a:moveTo>
                <a:cubicBezTo>
                  <a:pt x="5163" y="10719"/>
                  <a:pt x="5133" y="10765"/>
                  <a:pt x="5184" y="10790"/>
                </a:cubicBezTo>
                <a:cubicBezTo>
                  <a:pt x="5234" y="10815"/>
                  <a:pt x="5250" y="10755"/>
                  <a:pt x="5283" y="10740"/>
                </a:cubicBezTo>
                <a:cubicBezTo>
                  <a:pt x="5321" y="10723"/>
                  <a:pt x="5372" y="10697"/>
                  <a:pt x="5308" y="10641"/>
                </a:cubicBezTo>
                <a:cubicBezTo>
                  <a:pt x="5283" y="10641"/>
                  <a:pt x="5275" y="10641"/>
                  <a:pt x="5259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14800" y="3510000"/>
            <a:ext cx="3875040" cy="696960"/>
          </a:xfrm>
          <a:custGeom>
            <a:avLst/>
            <a:gdLst/>
            <a:ahLst/>
            <a:rect l="l" t="t" r="r" b="b"/>
            <a:pathLst>
              <a:path w="10766" h="1936">
                <a:moveTo>
                  <a:pt x="9723" y="10145"/>
                </a:moveTo>
                <a:cubicBezTo>
                  <a:pt x="9713" y="10132"/>
                  <a:pt x="9686" y="10084"/>
                  <a:pt x="9674" y="10071"/>
                </a:cubicBezTo>
                <a:cubicBezTo>
                  <a:pt x="9627" y="10020"/>
                  <a:pt x="9577" y="10075"/>
                  <a:pt x="9525" y="10046"/>
                </a:cubicBezTo>
                <a:cubicBezTo>
                  <a:pt x="9397" y="9975"/>
                  <a:pt x="9449" y="10014"/>
                  <a:pt x="9327" y="10046"/>
                </a:cubicBezTo>
                <a:cubicBezTo>
                  <a:pt x="9196" y="10080"/>
                  <a:pt x="9149" y="10121"/>
                  <a:pt x="9054" y="10195"/>
                </a:cubicBezTo>
                <a:cubicBezTo>
                  <a:pt x="9013" y="10227"/>
                  <a:pt x="8917" y="10278"/>
                  <a:pt x="8930" y="10344"/>
                </a:cubicBezTo>
                <a:cubicBezTo>
                  <a:pt x="8940" y="10397"/>
                  <a:pt x="9007" y="10430"/>
                  <a:pt x="9054" y="10443"/>
                </a:cubicBezTo>
                <a:cubicBezTo>
                  <a:pt x="9137" y="10466"/>
                  <a:pt x="9180" y="10492"/>
                  <a:pt x="9277" y="10492"/>
                </a:cubicBezTo>
                <a:cubicBezTo>
                  <a:pt x="9400" y="10492"/>
                  <a:pt x="9486" y="10540"/>
                  <a:pt x="9599" y="10567"/>
                </a:cubicBezTo>
                <a:cubicBezTo>
                  <a:pt x="9713" y="10595"/>
                  <a:pt x="9786" y="10574"/>
                  <a:pt x="9897" y="10641"/>
                </a:cubicBezTo>
                <a:cubicBezTo>
                  <a:pt x="9975" y="10689"/>
                  <a:pt x="10066" y="10765"/>
                  <a:pt x="10120" y="10840"/>
                </a:cubicBezTo>
                <a:cubicBezTo>
                  <a:pt x="10164" y="10901"/>
                  <a:pt x="10190" y="10989"/>
                  <a:pt x="10170" y="11063"/>
                </a:cubicBezTo>
                <a:cubicBezTo>
                  <a:pt x="10145" y="11156"/>
                  <a:pt x="10095" y="11274"/>
                  <a:pt x="10021" y="11336"/>
                </a:cubicBezTo>
                <a:cubicBezTo>
                  <a:pt x="9955" y="11391"/>
                  <a:pt x="9879" y="11430"/>
                  <a:pt x="9798" y="11460"/>
                </a:cubicBezTo>
                <a:cubicBezTo>
                  <a:pt x="9708" y="11494"/>
                  <a:pt x="9620" y="11485"/>
                  <a:pt x="9525" y="11485"/>
                </a:cubicBezTo>
                <a:cubicBezTo>
                  <a:pt x="9429" y="11485"/>
                  <a:pt x="9365" y="11477"/>
                  <a:pt x="9277" y="11435"/>
                </a:cubicBezTo>
                <a:cubicBezTo>
                  <a:pt x="9218" y="11407"/>
                  <a:pt x="9168" y="11328"/>
                  <a:pt x="9153" y="11261"/>
                </a:cubicBezTo>
                <a:cubicBezTo>
                  <a:pt x="9153" y="11245"/>
                  <a:pt x="9153" y="11228"/>
                  <a:pt x="9153" y="11212"/>
                </a:cubicBezTo>
              </a:path>
              <a:path w="10766" h="1936">
                <a:moveTo>
                  <a:pt x="10666" y="10418"/>
                </a:moveTo>
                <a:cubicBezTo>
                  <a:pt x="10676" y="10552"/>
                  <a:pt x="10691" y="10679"/>
                  <a:pt x="10691" y="10815"/>
                </a:cubicBezTo>
                <a:cubicBezTo>
                  <a:pt x="10691" y="10957"/>
                  <a:pt x="10716" y="11093"/>
                  <a:pt x="10716" y="11237"/>
                </a:cubicBezTo>
                <a:cubicBezTo>
                  <a:pt x="10716" y="11255"/>
                  <a:pt x="10693" y="11485"/>
                  <a:pt x="10740" y="11485"/>
                </a:cubicBezTo>
                <a:cubicBezTo>
                  <a:pt x="10768" y="11457"/>
                  <a:pt x="10777" y="11443"/>
                  <a:pt x="10765" y="11410"/>
                </a:cubicBezTo>
              </a:path>
              <a:path w="10766" h="1936">
                <a:moveTo>
                  <a:pt x="10790" y="9823"/>
                </a:moveTo>
                <a:cubicBezTo>
                  <a:pt x="10798" y="9823"/>
                  <a:pt x="10807" y="9823"/>
                  <a:pt x="10815" y="9823"/>
                </a:cubicBezTo>
              </a:path>
              <a:path w="10766" h="1936">
                <a:moveTo>
                  <a:pt x="11336" y="10220"/>
                </a:moveTo>
                <a:cubicBezTo>
                  <a:pt x="11336" y="10363"/>
                  <a:pt x="11350" y="10503"/>
                  <a:pt x="11361" y="10641"/>
                </a:cubicBezTo>
                <a:cubicBezTo>
                  <a:pt x="11376" y="10831"/>
                  <a:pt x="11370" y="11024"/>
                  <a:pt x="11385" y="11212"/>
                </a:cubicBezTo>
                <a:cubicBezTo>
                  <a:pt x="11393" y="11305"/>
                  <a:pt x="11366" y="11392"/>
                  <a:pt x="11361" y="11485"/>
                </a:cubicBezTo>
                <a:cubicBezTo>
                  <a:pt x="11361" y="11493"/>
                  <a:pt x="11361" y="11501"/>
                  <a:pt x="11361" y="11509"/>
                </a:cubicBezTo>
                <a:cubicBezTo>
                  <a:pt x="11353" y="11340"/>
                  <a:pt x="11323" y="11155"/>
                  <a:pt x="11361" y="10988"/>
                </a:cubicBezTo>
                <a:cubicBezTo>
                  <a:pt x="11391" y="10855"/>
                  <a:pt x="11446" y="10607"/>
                  <a:pt x="11509" y="10492"/>
                </a:cubicBezTo>
                <a:cubicBezTo>
                  <a:pt x="11557" y="10404"/>
                  <a:pt x="11636" y="10218"/>
                  <a:pt x="11708" y="10145"/>
                </a:cubicBezTo>
                <a:cubicBezTo>
                  <a:pt x="11763" y="10090"/>
                  <a:pt x="11812" y="10083"/>
                  <a:pt x="11881" y="10071"/>
                </a:cubicBezTo>
                <a:cubicBezTo>
                  <a:pt x="11916" y="10133"/>
                  <a:pt x="11935" y="10140"/>
                  <a:pt x="11956" y="10220"/>
                </a:cubicBezTo>
                <a:cubicBezTo>
                  <a:pt x="11994" y="10367"/>
                  <a:pt x="12026" y="10489"/>
                  <a:pt x="12030" y="10641"/>
                </a:cubicBezTo>
                <a:cubicBezTo>
                  <a:pt x="12033" y="10776"/>
                  <a:pt x="12055" y="10902"/>
                  <a:pt x="12055" y="11038"/>
                </a:cubicBezTo>
                <a:cubicBezTo>
                  <a:pt x="12055" y="11160"/>
                  <a:pt x="12083" y="11307"/>
                  <a:pt x="12154" y="11410"/>
                </a:cubicBezTo>
                <a:cubicBezTo>
                  <a:pt x="12189" y="11461"/>
                  <a:pt x="12292" y="11520"/>
                  <a:pt x="12353" y="11534"/>
                </a:cubicBezTo>
                <a:cubicBezTo>
                  <a:pt x="12369" y="11534"/>
                  <a:pt x="12386" y="11534"/>
                  <a:pt x="12402" y="11534"/>
                </a:cubicBezTo>
              </a:path>
              <a:path w="10766" h="1936">
                <a:moveTo>
                  <a:pt x="13295" y="9748"/>
                </a:moveTo>
                <a:cubicBezTo>
                  <a:pt x="13295" y="9814"/>
                  <a:pt x="13307" y="9991"/>
                  <a:pt x="13271" y="10046"/>
                </a:cubicBezTo>
                <a:cubicBezTo>
                  <a:pt x="13226" y="10115"/>
                  <a:pt x="13130" y="10201"/>
                  <a:pt x="13097" y="10294"/>
                </a:cubicBezTo>
                <a:cubicBezTo>
                  <a:pt x="13059" y="10401"/>
                  <a:pt x="13036" y="10469"/>
                  <a:pt x="12973" y="10567"/>
                </a:cubicBezTo>
                <a:cubicBezTo>
                  <a:pt x="12948" y="10606"/>
                  <a:pt x="12957" y="10581"/>
                  <a:pt x="12998" y="10641"/>
                </a:cubicBezTo>
                <a:cubicBezTo>
                  <a:pt x="13087" y="10619"/>
                  <a:pt x="13118" y="10592"/>
                  <a:pt x="13221" y="10592"/>
                </a:cubicBezTo>
                <a:cubicBezTo>
                  <a:pt x="13370" y="10592"/>
                  <a:pt x="13483" y="10599"/>
                  <a:pt x="13618" y="10641"/>
                </a:cubicBezTo>
                <a:cubicBezTo>
                  <a:pt x="13683" y="10661"/>
                  <a:pt x="13683" y="10632"/>
                  <a:pt x="13717" y="10592"/>
                </a:cubicBezTo>
              </a:path>
              <a:path w="10766" h="1936">
                <a:moveTo>
                  <a:pt x="13791" y="9823"/>
                </a:moveTo>
                <a:cubicBezTo>
                  <a:pt x="13801" y="9941"/>
                  <a:pt x="13794" y="10025"/>
                  <a:pt x="13791" y="10145"/>
                </a:cubicBezTo>
                <a:cubicBezTo>
                  <a:pt x="13785" y="10386"/>
                  <a:pt x="13729" y="10623"/>
                  <a:pt x="13717" y="10864"/>
                </a:cubicBezTo>
                <a:cubicBezTo>
                  <a:pt x="13706" y="11072"/>
                  <a:pt x="13692" y="11276"/>
                  <a:pt x="13692" y="11485"/>
                </a:cubicBezTo>
                <a:cubicBezTo>
                  <a:pt x="13692" y="11563"/>
                  <a:pt x="13681" y="11610"/>
                  <a:pt x="13667" y="11683"/>
                </a:cubicBezTo>
                <a:cubicBezTo>
                  <a:pt x="13684" y="11597"/>
                  <a:pt x="13692" y="11524"/>
                  <a:pt x="13692" y="11435"/>
                </a:cubicBezTo>
              </a:path>
              <a:path w="10766" h="1936">
                <a:moveTo>
                  <a:pt x="14213" y="10145"/>
                </a:moveTo>
                <a:cubicBezTo>
                  <a:pt x="14256" y="10024"/>
                  <a:pt x="14290" y="9978"/>
                  <a:pt x="14412" y="9922"/>
                </a:cubicBezTo>
                <a:cubicBezTo>
                  <a:pt x="14467" y="9897"/>
                  <a:pt x="14619" y="9801"/>
                  <a:pt x="14684" y="9823"/>
                </a:cubicBezTo>
                <a:cubicBezTo>
                  <a:pt x="14832" y="9872"/>
                  <a:pt x="14896" y="9908"/>
                  <a:pt x="14957" y="10046"/>
                </a:cubicBezTo>
                <a:cubicBezTo>
                  <a:pt x="15006" y="10156"/>
                  <a:pt x="14998" y="10308"/>
                  <a:pt x="14957" y="10418"/>
                </a:cubicBezTo>
                <a:cubicBezTo>
                  <a:pt x="14894" y="10588"/>
                  <a:pt x="14798" y="10735"/>
                  <a:pt x="14709" y="10889"/>
                </a:cubicBezTo>
                <a:cubicBezTo>
                  <a:pt x="14649" y="10993"/>
                  <a:pt x="14610" y="11105"/>
                  <a:pt x="14560" y="11212"/>
                </a:cubicBezTo>
                <a:cubicBezTo>
                  <a:pt x="14540" y="11252"/>
                  <a:pt x="14532" y="11259"/>
                  <a:pt x="14536" y="11286"/>
                </a:cubicBezTo>
                <a:cubicBezTo>
                  <a:pt x="14601" y="11286"/>
                  <a:pt x="14650" y="11269"/>
                  <a:pt x="14709" y="11261"/>
                </a:cubicBezTo>
                <a:cubicBezTo>
                  <a:pt x="14828" y="11245"/>
                  <a:pt x="14940" y="11282"/>
                  <a:pt x="15056" y="11286"/>
                </a:cubicBezTo>
                <a:cubicBezTo>
                  <a:pt x="15167" y="11290"/>
                  <a:pt x="15271" y="11289"/>
                  <a:pt x="15379" y="11261"/>
                </a:cubicBezTo>
                <a:cubicBezTo>
                  <a:pt x="15419" y="11250"/>
                  <a:pt x="15443" y="11229"/>
                  <a:pt x="15478" y="11212"/>
                </a:cubicBezTo>
              </a:path>
              <a:path w="10766" h="1936">
                <a:moveTo>
                  <a:pt x="15925" y="10294"/>
                </a:moveTo>
                <a:cubicBezTo>
                  <a:pt x="16057" y="10294"/>
                  <a:pt x="16140" y="10312"/>
                  <a:pt x="16272" y="10344"/>
                </a:cubicBezTo>
                <a:cubicBezTo>
                  <a:pt x="16308" y="10353"/>
                  <a:pt x="16358" y="10344"/>
                  <a:pt x="16396" y="10344"/>
                </a:cubicBezTo>
              </a:path>
              <a:path w="10766" h="1936">
                <a:moveTo>
                  <a:pt x="15974" y="10567"/>
                </a:moveTo>
                <a:cubicBezTo>
                  <a:pt x="16197" y="10567"/>
                  <a:pt x="16421" y="10567"/>
                  <a:pt x="16644" y="10567"/>
                </a:cubicBezTo>
              </a:path>
              <a:path w="10766" h="1936">
                <a:moveTo>
                  <a:pt x="17909" y="10046"/>
                </a:moveTo>
                <a:cubicBezTo>
                  <a:pt x="17909" y="9982"/>
                  <a:pt x="17934" y="9920"/>
                  <a:pt x="17859" y="9897"/>
                </a:cubicBezTo>
                <a:cubicBezTo>
                  <a:pt x="17787" y="9874"/>
                  <a:pt x="17698" y="9817"/>
                  <a:pt x="17611" y="9823"/>
                </a:cubicBezTo>
                <a:cubicBezTo>
                  <a:pt x="17558" y="9827"/>
                  <a:pt x="17406" y="9892"/>
                  <a:pt x="17363" y="9922"/>
                </a:cubicBezTo>
                <a:cubicBezTo>
                  <a:pt x="17305" y="9961"/>
                  <a:pt x="17281" y="10010"/>
                  <a:pt x="17264" y="10071"/>
                </a:cubicBezTo>
                <a:cubicBezTo>
                  <a:pt x="17234" y="10179"/>
                  <a:pt x="17342" y="10224"/>
                  <a:pt x="17413" y="10269"/>
                </a:cubicBezTo>
                <a:cubicBezTo>
                  <a:pt x="17501" y="10325"/>
                  <a:pt x="17606" y="10353"/>
                  <a:pt x="17686" y="10418"/>
                </a:cubicBezTo>
                <a:cubicBezTo>
                  <a:pt x="17783" y="10497"/>
                  <a:pt x="17860" y="10627"/>
                  <a:pt x="17909" y="10740"/>
                </a:cubicBezTo>
                <a:cubicBezTo>
                  <a:pt x="17953" y="10842"/>
                  <a:pt x="17959" y="10929"/>
                  <a:pt x="17959" y="11038"/>
                </a:cubicBezTo>
                <a:cubicBezTo>
                  <a:pt x="17959" y="11188"/>
                  <a:pt x="17885" y="11284"/>
                  <a:pt x="17760" y="11361"/>
                </a:cubicBezTo>
                <a:cubicBezTo>
                  <a:pt x="17688" y="11405"/>
                  <a:pt x="17571" y="11446"/>
                  <a:pt x="17487" y="11435"/>
                </a:cubicBezTo>
                <a:cubicBezTo>
                  <a:pt x="17380" y="11421"/>
                  <a:pt x="17250" y="11377"/>
                  <a:pt x="17165" y="11311"/>
                </a:cubicBezTo>
                <a:cubicBezTo>
                  <a:pt x="17063" y="11232"/>
                  <a:pt x="17044" y="11130"/>
                  <a:pt x="17016" y="11013"/>
                </a:cubicBezTo>
              </a:path>
              <a:path w="10766" h="1936">
                <a:moveTo>
                  <a:pt x="18256" y="10567"/>
                </a:moveTo>
                <a:cubicBezTo>
                  <a:pt x="18226" y="10707"/>
                  <a:pt x="18231" y="10843"/>
                  <a:pt x="18231" y="10988"/>
                </a:cubicBezTo>
                <a:cubicBezTo>
                  <a:pt x="18231" y="11096"/>
                  <a:pt x="18213" y="11183"/>
                  <a:pt x="18207" y="11286"/>
                </a:cubicBezTo>
                <a:cubicBezTo>
                  <a:pt x="18205" y="11319"/>
                  <a:pt x="18207" y="11352"/>
                  <a:pt x="18207" y="11385"/>
                </a:cubicBezTo>
              </a:path>
              <a:path w="10766" h="1936">
                <a:moveTo>
                  <a:pt x="18529" y="9748"/>
                </a:moveTo>
                <a:cubicBezTo>
                  <a:pt x="18572" y="9748"/>
                  <a:pt x="18554" y="9784"/>
                  <a:pt x="18554" y="9823"/>
                </a:cubicBezTo>
              </a:path>
              <a:path w="10766" h="1936">
                <a:moveTo>
                  <a:pt x="18852" y="10195"/>
                </a:moveTo>
                <a:cubicBezTo>
                  <a:pt x="18833" y="10447"/>
                  <a:pt x="18801" y="10692"/>
                  <a:pt x="18777" y="10939"/>
                </a:cubicBezTo>
                <a:cubicBezTo>
                  <a:pt x="18769" y="11020"/>
                  <a:pt x="18777" y="11105"/>
                  <a:pt x="18777" y="11187"/>
                </a:cubicBezTo>
                <a:cubicBezTo>
                  <a:pt x="18792" y="11165"/>
                  <a:pt x="18810" y="11138"/>
                  <a:pt x="18827" y="11088"/>
                </a:cubicBezTo>
                <a:cubicBezTo>
                  <a:pt x="18883" y="10926"/>
                  <a:pt x="18899" y="10752"/>
                  <a:pt x="18951" y="10592"/>
                </a:cubicBezTo>
                <a:cubicBezTo>
                  <a:pt x="18996" y="10454"/>
                  <a:pt x="19067" y="10297"/>
                  <a:pt x="19149" y="10195"/>
                </a:cubicBezTo>
                <a:cubicBezTo>
                  <a:pt x="19228" y="10096"/>
                  <a:pt x="19241" y="10052"/>
                  <a:pt x="19372" y="10046"/>
                </a:cubicBezTo>
                <a:cubicBezTo>
                  <a:pt x="19456" y="10042"/>
                  <a:pt x="19527" y="10053"/>
                  <a:pt x="19571" y="10145"/>
                </a:cubicBezTo>
                <a:cubicBezTo>
                  <a:pt x="19606" y="10218"/>
                  <a:pt x="19596" y="10360"/>
                  <a:pt x="19596" y="10443"/>
                </a:cubicBezTo>
                <a:cubicBezTo>
                  <a:pt x="19596" y="10587"/>
                  <a:pt x="19556" y="10721"/>
                  <a:pt x="19546" y="10864"/>
                </a:cubicBezTo>
                <a:cubicBezTo>
                  <a:pt x="19536" y="11006"/>
                  <a:pt x="19536" y="11153"/>
                  <a:pt x="19546" y="11286"/>
                </a:cubicBezTo>
                <a:cubicBezTo>
                  <a:pt x="19548" y="11312"/>
                  <a:pt x="19556" y="11465"/>
                  <a:pt x="19621" y="11460"/>
                </a:cubicBezTo>
                <a:cubicBezTo>
                  <a:pt x="19661" y="11440"/>
                  <a:pt x="19667" y="11431"/>
                  <a:pt x="19695" y="114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3760" y="3438360"/>
            <a:ext cx="660240" cy="588960"/>
          </a:xfrm>
          <a:custGeom>
            <a:avLst/>
            <a:gdLst/>
            <a:ahLst/>
            <a:rect l="l" t="t" r="r" b="b"/>
            <a:pathLst>
              <a:path w="1837" h="1638">
                <a:moveTo>
                  <a:pt x="21034" y="9847"/>
                </a:moveTo>
                <a:cubicBezTo>
                  <a:pt x="21014" y="9749"/>
                  <a:pt x="21007" y="9661"/>
                  <a:pt x="20910" y="9599"/>
                </a:cubicBezTo>
                <a:cubicBezTo>
                  <a:pt x="20830" y="9548"/>
                  <a:pt x="20758" y="9550"/>
                  <a:pt x="20662" y="9550"/>
                </a:cubicBezTo>
                <a:cubicBezTo>
                  <a:pt x="20545" y="9550"/>
                  <a:pt x="20511" y="9620"/>
                  <a:pt x="20439" y="9699"/>
                </a:cubicBezTo>
                <a:cubicBezTo>
                  <a:pt x="20339" y="9810"/>
                  <a:pt x="20249" y="9977"/>
                  <a:pt x="20365" y="10120"/>
                </a:cubicBezTo>
                <a:cubicBezTo>
                  <a:pt x="20463" y="10241"/>
                  <a:pt x="20518" y="10287"/>
                  <a:pt x="20662" y="10294"/>
                </a:cubicBezTo>
                <a:cubicBezTo>
                  <a:pt x="20737" y="10297"/>
                  <a:pt x="20836" y="10274"/>
                  <a:pt x="20886" y="10220"/>
                </a:cubicBezTo>
                <a:cubicBezTo>
                  <a:pt x="20935" y="10167"/>
                  <a:pt x="20991" y="10105"/>
                  <a:pt x="21034" y="10046"/>
                </a:cubicBezTo>
                <a:cubicBezTo>
                  <a:pt x="21057" y="10015"/>
                  <a:pt x="21049" y="10013"/>
                  <a:pt x="21084" y="9996"/>
                </a:cubicBezTo>
                <a:cubicBezTo>
                  <a:pt x="21075" y="10074"/>
                  <a:pt x="21061" y="10117"/>
                  <a:pt x="21034" y="10195"/>
                </a:cubicBezTo>
                <a:cubicBezTo>
                  <a:pt x="20996" y="10307"/>
                  <a:pt x="20920" y="10403"/>
                  <a:pt x="20886" y="10517"/>
                </a:cubicBezTo>
                <a:cubicBezTo>
                  <a:pt x="20838" y="10678"/>
                  <a:pt x="20802" y="10850"/>
                  <a:pt x="20836" y="11013"/>
                </a:cubicBezTo>
                <a:cubicBezTo>
                  <a:pt x="20847" y="11064"/>
                  <a:pt x="20880" y="11161"/>
                  <a:pt x="20935" y="11187"/>
                </a:cubicBezTo>
                <a:cubicBezTo>
                  <a:pt x="20984" y="11210"/>
                  <a:pt x="21025" y="11171"/>
                  <a:pt x="21059" y="11162"/>
                </a:cubicBezTo>
              </a:path>
              <a:path w="1837" h="1638">
                <a:moveTo>
                  <a:pt x="21530" y="9674"/>
                </a:moveTo>
                <a:cubicBezTo>
                  <a:pt x="21474" y="9771"/>
                  <a:pt x="21441" y="9864"/>
                  <a:pt x="21406" y="9971"/>
                </a:cubicBezTo>
                <a:cubicBezTo>
                  <a:pt x="21365" y="10097"/>
                  <a:pt x="21331" y="10216"/>
                  <a:pt x="21307" y="10344"/>
                </a:cubicBezTo>
                <a:cubicBezTo>
                  <a:pt x="21283" y="10473"/>
                  <a:pt x="21279" y="10589"/>
                  <a:pt x="21307" y="10716"/>
                </a:cubicBezTo>
                <a:cubicBezTo>
                  <a:pt x="21330" y="10818"/>
                  <a:pt x="21415" y="10910"/>
                  <a:pt x="21481" y="10988"/>
                </a:cubicBezTo>
                <a:cubicBezTo>
                  <a:pt x="21541" y="11059"/>
                  <a:pt x="21661" y="11102"/>
                  <a:pt x="21754" y="11088"/>
                </a:cubicBezTo>
                <a:cubicBezTo>
                  <a:pt x="21869" y="11071"/>
                  <a:pt x="21987" y="10980"/>
                  <a:pt x="22076" y="10914"/>
                </a:cubicBezTo>
                <a:cubicBezTo>
                  <a:pt x="22129" y="10875"/>
                  <a:pt x="22148" y="10800"/>
                  <a:pt x="22151" y="10740"/>
                </a:cubicBezTo>
                <a:cubicBezTo>
                  <a:pt x="22158" y="10613"/>
                  <a:pt x="22137" y="10593"/>
                  <a:pt x="22076" y="10492"/>
                </a:cubicBezTo>
                <a:cubicBezTo>
                  <a:pt x="22038" y="10430"/>
                  <a:pt x="21950" y="10374"/>
                  <a:pt x="21878" y="10368"/>
                </a:cubicBezTo>
                <a:cubicBezTo>
                  <a:pt x="21791" y="10360"/>
                  <a:pt x="21713" y="10375"/>
                  <a:pt x="21654" y="10443"/>
                </a:cubicBezTo>
                <a:cubicBezTo>
                  <a:pt x="21590" y="10517"/>
                  <a:pt x="21560" y="10624"/>
                  <a:pt x="21530" y="10716"/>
                </a:cubicBezTo>
                <a:cubicBezTo>
                  <a:pt x="21504" y="10795"/>
                  <a:pt x="21515" y="10848"/>
                  <a:pt x="21555" y="109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27160" y="4983120"/>
            <a:ext cx="411120" cy="250920"/>
          </a:xfrm>
          <a:custGeom>
            <a:avLst/>
            <a:gdLst/>
            <a:ahLst/>
            <a:rect l="l" t="t" r="r" b="b"/>
            <a:pathLst>
              <a:path w="1142" h="696">
                <a:moveTo>
                  <a:pt x="5655" y="13841"/>
                </a:moveTo>
                <a:cubicBezTo>
                  <a:pt x="5633" y="13893"/>
                  <a:pt x="5631" y="13911"/>
                  <a:pt x="5631" y="13965"/>
                </a:cubicBezTo>
                <a:cubicBezTo>
                  <a:pt x="5631" y="14014"/>
                  <a:pt x="5642" y="14024"/>
                  <a:pt x="5655" y="14064"/>
                </a:cubicBezTo>
                <a:cubicBezTo>
                  <a:pt x="5655" y="14072"/>
                  <a:pt x="5655" y="14081"/>
                  <a:pt x="5655" y="14089"/>
                </a:cubicBezTo>
                <a:cubicBezTo>
                  <a:pt x="5698" y="14100"/>
                  <a:pt x="5722" y="14129"/>
                  <a:pt x="5755" y="14163"/>
                </a:cubicBezTo>
                <a:cubicBezTo>
                  <a:pt x="5785" y="14194"/>
                  <a:pt x="5835" y="14209"/>
                  <a:pt x="5879" y="14213"/>
                </a:cubicBezTo>
                <a:cubicBezTo>
                  <a:pt x="5904" y="14213"/>
                  <a:pt x="5912" y="14213"/>
                  <a:pt x="5904" y="14188"/>
                </a:cubicBezTo>
              </a:path>
              <a:path w="1142" h="696">
                <a:moveTo>
                  <a:pt x="5953" y="13841"/>
                </a:moveTo>
                <a:cubicBezTo>
                  <a:pt x="5953" y="13888"/>
                  <a:pt x="5931" y="13920"/>
                  <a:pt x="5928" y="13965"/>
                </a:cubicBezTo>
                <a:cubicBezTo>
                  <a:pt x="5919" y="14103"/>
                  <a:pt x="5916" y="14265"/>
                  <a:pt x="5953" y="14387"/>
                </a:cubicBezTo>
                <a:cubicBezTo>
                  <a:pt x="5965" y="14426"/>
                  <a:pt x="5944" y="14475"/>
                  <a:pt x="5978" y="14436"/>
                </a:cubicBezTo>
                <a:cubicBezTo>
                  <a:pt x="5986" y="14428"/>
                  <a:pt x="5995" y="14420"/>
                  <a:pt x="6003" y="14412"/>
                </a:cubicBezTo>
              </a:path>
              <a:path w="1142" h="696">
                <a:moveTo>
                  <a:pt x="6176" y="13940"/>
                </a:moveTo>
                <a:cubicBezTo>
                  <a:pt x="6244" y="13920"/>
                  <a:pt x="6272" y="13904"/>
                  <a:pt x="6325" y="13940"/>
                </a:cubicBezTo>
                <a:cubicBezTo>
                  <a:pt x="6383" y="13979"/>
                  <a:pt x="6348" y="13967"/>
                  <a:pt x="6375" y="14015"/>
                </a:cubicBezTo>
                <a:cubicBezTo>
                  <a:pt x="6383" y="14023"/>
                  <a:pt x="6392" y="14031"/>
                  <a:pt x="6400" y="14039"/>
                </a:cubicBezTo>
                <a:cubicBezTo>
                  <a:pt x="6376" y="14079"/>
                  <a:pt x="6374" y="14127"/>
                  <a:pt x="6350" y="14163"/>
                </a:cubicBezTo>
                <a:cubicBezTo>
                  <a:pt x="6320" y="14207"/>
                  <a:pt x="6270" y="14264"/>
                  <a:pt x="6251" y="14312"/>
                </a:cubicBezTo>
                <a:cubicBezTo>
                  <a:pt x="6236" y="14350"/>
                  <a:pt x="6263" y="14435"/>
                  <a:pt x="6276" y="14461"/>
                </a:cubicBezTo>
                <a:cubicBezTo>
                  <a:pt x="6283" y="14475"/>
                  <a:pt x="6359" y="14529"/>
                  <a:pt x="6375" y="14536"/>
                </a:cubicBezTo>
                <a:cubicBezTo>
                  <a:pt x="6413" y="14553"/>
                  <a:pt x="6469" y="14524"/>
                  <a:pt x="6499" y="14511"/>
                </a:cubicBezTo>
              </a:path>
              <a:path w="1142" h="696">
                <a:moveTo>
                  <a:pt x="6648" y="14015"/>
                </a:moveTo>
                <a:cubicBezTo>
                  <a:pt x="6613" y="14061"/>
                  <a:pt x="6616" y="14064"/>
                  <a:pt x="6648" y="14089"/>
                </a:cubicBezTo>
                <a:cubicBezTo>
                  <a:pt x="6670" y="14106"/>
                  <a:pt x="6713" y="14133"/>
                  <a:pt x="6747" y="14114"/>
                </a:cubicBezTo>
                <a:cubicBezTo>
                  <a:pt x="6805" y="14082"/>
                  <a:pt x="6743" y="14026"/>
                  <a:pt x="6722" y="139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1360" y="4249800"/>
            <a:ext cx="1955880" cy="644400"/>
          </a:xfrm>
          <a:custGeom>
            <a:avLst/>
            <a:gdLst/>
            <a:ahLst/>
            <a:rect l="l" t="t" r="r" b="b"/>
            <a:pathLst>
              <a:path w="5434" h="1787">
                <a:moveTo>
                  <a:pt x="9475" y="12229"/>
                </a:moveTo>
                <a:cubicBezTo>
                  <a:pt x="9553" y="12224"/>
                  <a:pt x="9624" y="12220"/>
                  <a:pt x="9699" y="12204"/>
                </a:cubicBezTo>
                <a:cubicBezTo>
                  <a:pt x="9850" y="12173"/>
                  <a:pt x="9992" y="12115"/>
                  <a:pt x="10145" y="12080"/>
                </a:cubicBezTo>
                <a:cubicBezTo>
                  <a:pt x="10401" y="12022"/>
                  <a:pt x="10658" y="11957"/>
                  <a:pt x="10914" y="11906"/>
                </a:cubicBezTo>
                <a:cubicBezTo>
                  <a:pt x="11165" y="11856"/>
                  <a:pt x="11429" y="11856"/>
                  <a:pt x="11683" y="11832"/>
                </a:cubicBezTo>
                <a:cubicBezTo>
                  <a:pt x="12022" y="11799"/>
                  <a:pt x="12360" y="11807"/>
                  <a:pt x="12700" y="11807"/>
                </a:cubicBezTo>
                <a:cubicBezTo>
                  <a:pt x="12975" y="11807"/>
                  <a:pt x="13246" y="11818"/>
                  <a:pt x="13519" y="11832"/>
                </a:cubicBezTo>
                <a:cubicBezTo>
                  <a:pt x="13717" y="11842"/>
                  <a:pt x="13917" y="11853"/>
                  <a:pt x="14114" y="11857"/>
                </a:cubicBezTo>
                <a:cubicBezTo>
                  <a:pt x="14273" y="11860"/>
                  <a:pt x="14425" y="11881"/>
                  <a:pt x="14585" y="11881"/>
                </a:cubicBezTo>
                <a:cubicBezTo>
                  <a:pt x="14670" y="11881"/>
                  <a:pt x="14801" y="11883"/>
                  <a:pt x="14883" y="11906"/>
                </a:cubicBezTo>
                <a:cubicBezTo>
                  <a:pt x="14907" y="11913"/>
                  <a:pt x="14859" y="11923"/>
                  <a:pt x="14883" y="11931"/>
                </a:cubicBezTo>
              </a:path>
              <a:path w="5434" h="1787">
                <a:moveTo>
                  <a:pt x="11832" y="12427"/>
                </a:moveTo>
                <a:cubicBezTo>
                  <a:pt x="11832" y="12562"/>
                  <a:pt x="11819" y="12697"/>
                  <a:pt x="11807" y="12824"/>
                </a:cubicBezTo>
                <a:cubicBezTo>
                  <a:pt x="11795" y="12949"/>
                  <a:pt x="11807" y="13074"/>
                  <a:pt x="11782" y="13196"/>
                </a:cubicBezTo>
                <a:cubicBezTo>
                  <a:pt x="11766" y="13277"/>
                  <a:pt x="11753" y="13365"/>
                  <a:pt x="11733" y="13444"/>
                </a:cubicBezTo>
                <a:cubicBezTo>
                  <a:pt x="11725" y="13474"/>
                  <a:pt x="11693" y="13513"/>
                  <a:pt x="11683" y="13543"/>
                </a:cubicBezTo>
                <a:cubicBezTo>
                  <a:pt x="11661" y="13511"/>
                  <a:pt x="11649" y="13506"/>
                  <a:pt x="11633" y="13444"/>
                </a:cubicBezTo>
                <a:cubicBezTo>
                  <a:pt x="11608" y="13346"/>
                  <a:pt x="11602" y="13269"/>
                  <a:pt x="11584" y="13171"/>
                </a:cubicBezTo>
                <a:cubicBezTo>
                  <a:pt x="11564" y="13061"/>
                  <a:pt x="11559" y="12962"/>
                  <a:pt x="11559" y="12849"/>
                </a:cubicBezTo>
                <a:cubicBezTo>
                  <a:pt x="11559" y="12730"/>
                  <a:pt x="11550" y="12616"/>
                  <a:pt x="11584" y="12502"/>
                </a:cubicBezTo>
                <a:cubicBezTo>
                  <a:pt x="11624" y="12368"/>
                  <a:pt x="11726" y="12213"/>
                  <a:pt x="11857" y="12154"/>
                </a:cubicBezTo>
                <a:cubicBezTo>
                  <a:pt x="11939" y="12117"/>
                  <a:pt x="12008" y="12098"/>
                  <a:pt x="12080" y="12129"/>
                </a:cubicBezTo>
                <a:cubicBezTo>
                  <a:pt x="12088" y="12137"/>
                  <a:pt x="12097" y="12146"/>
                  <a:pt x="12105" y="12154"/>
                </a:cubicBezTo>
                <a:cubicBezTo>
                  <a:pt x="12120" y="12217"/>
                  <a:pt x="12125" y="12229"/>
                  <a:pt x="12080" y="12303"/>
                </a:cubicBezTo>
                <a:cubicBezTo>
                  <a:pt x="12020" y="12402"/>
                  <a:pt x="11938" y="12449"/>
                  <a:pt x="11857" y="12526"/>
                </a:cubicBezTo>
                <a:cubicBezTo>
                  <a:pt x="11810" y="12571"/>
                  <a:pt x="11741" y="12621"/>
                  <a:pt x="11683" y="12650"/>
                </a:cubicBezTo>
                <a:cubicBezTo>
                  <a:pt x="11675" y="12650"/>
                  <a:pt x="11666" y="12650"/>
                  <a:pt x="11658" y="12650"/>
                </a:cubicBezTo>
                <a:cubicBezTo>
                  <a:pt x="11733" y="12645"/>
                  <a:pt x="11809" y="12644"/>
                  <a:pt x="11881" y="12626"/>
                </a:cubicBezTo>
                <a:cubicBezTo>
                  <a:pt x="11973" y="12603"/>
                  <a:pt x="12082" y="12583"/>
                  <a:pt x="12179" y="12601"/>
                </a:cubicBezTo>
                <a:cubicBezTo>
                  <a:pt x="12305" y="12624"/>
                  <a:pt x="12394" y="12667"/>
                  <a:pt x="12477" y="12750"/>
                </a:cubicBezTo>
                <a:cubicBezTo>
                  <a:pt x="12548" y="12821"/>
                  <a:pt x="12572" y="12874"/>
                  <a:pt x="12576" y="12973"/>
                </a:cubicBezTo>
                <a:cubicBezTo>
                  <a:pt x="12580" y="13085"/>
                  <a:pt x="12502" y="13168"/>
                  <a:pt x="12427" y="13246"/>
                </a:cubicBezTo>
                <a:cubicBezTo>
                  <a:pt x="12337" y="13340"/>
                  <a:pt x="12225" y="13417"/>
                  <a:pt x="12105" y="13469"/>
                </a:cubicBezTo>
                <a:cubicBezTo>
                  <a:pt x="12003" y="13513"/>
                  <a:pt x="11897" y="13568"/>
                  <a:pt x="11782" y="13543"/>
                </a:cubicBezTo>
                <a:cubicBezTo>
                  <a:pt x="11644" y="13513"/>
                  <a:pt x="11664" y="13411"/>
                  <a:pt x="11658" y="13295"/>
                </a:cubicBezTo>
              </a:path>
              <a:path w="5434" h="1787">
                <a:moveTo>
                  <a:pt x="11857" y="12254"/>
                </a:moveTo>
                <a:cubicBezTo>
                  <a:pt x="11857" y="12667"/>
                  <a:pt x="11857" y="13081"/>
                  <a:pt x="11857" y="13494"/>
                </a:cubicBezTo>
                <a:cubicBezTo>
                  <a:pt x="11845" y="13536"/>
                  <a:pt x="11838" y="13632"/>
                  <a:pt x="11857" y="13593"/>
                </a:cubicBezTo>
                <a:cubicBezTo>
                  <a:pt x="11915" y="13477"/>
                  <a:pt x="11848" y="13254"/>
                  <a:pt x="11881" y="13122"/>
                </a:cubicBezTo>
                <a:cubicBezTo>
                  <a:pt x="11909" y="13010"/>
                  <a:pt x="11928" y="12877"/>
                  <a:pt x="11981" y="12774"/>
                </a:cubicBezTo>
                <a:cubicBezTo>
                  <a:pt x="12025" y="12688"/>
                  <a:pt x="12070" y="12623"/>
                  <a:pt x="12154" y="12576"/>
                </a:cubicBezTo>
                <a:cubicBezTo>
                  <a:pt x="12249" y="12523"/>
                  <a:pt x="12302" y="12520"/>
                  <a:pt x="12402" y="12551"/>
                </a:cubicBezTo>
                <a:cubicBezTo>
                  <a:pt x="12487" y="12577"/>
                  <a:pt x="12591" y="12607"/>
                  <a:pt x="12650" y="12675"/>
                </a:cubicBezTo>
                <a:cubicBezTo>
                  <a:pt x="12695" y="12728"/>
                  <a:pt x="12741" y="12851"/>
                  <a:pt x="12725" y="12923"/>
                </a:cubicBezTo>
                <a:cubicBezTo>
                  <a:pt x="12693" y="13068"/>
                  <a:pt x="12642" y="13162"/>
                  <a:pt x="12526" y="13246"/>
                </a:cubicBezTo>
                <a:cubicBezTo>
                  <a:pt x="12433" y="13314"/>
                  <a:pt x="12295" y="13402"/>
                  <a:pt x="12179" y="13419"/>
                </a:cubicBezTo>
                <a:cubicBezTo>
                  <a:pt x="12066" y="13436"/>
                  <a:pt x="11957" y="13441"/>
                  <a:pt x="11857" y="13419"/>
                </a:cubicBezTo>
                <a:cubicBezTo>
                  <a:pt x="11829" y="13419"/>
                  <a:pt x="11818" y="13417"/>
                  <a:pt x="11807" y="13395"/>
                </a:cubicBezTo>
                <a:cubicBezTo>
                  <a:pt x="11823" y="13379"/>
                  <a:pt x="11847" y="13344"/>
                  <a:pt x="11881" y="13320"/>
                </a:cubicBezTo>
                <a:cubicBezTo>
                  <a:pt x="11958" y="13266"/>
                  <a:pt x="12046" y="13265"/>
                  <a:pt x="12129" y="13246"/>
                </a:cubicBezTo>
                <a:cubicBezTo>
                  <a:pt x="12229" y="13223"/>
                  <a:pt x="12361" y="13191"/>
                  <a:pt x="12452" y="13146"/>
                </a:cubicBezTo>
                <a:cubicBezTo>
                  <a:pt x="12514" y="13115"/>
                  <a:pt x="12631" y="13049"/>
                  <a:pt x="12675" y="12998"/>
                </a:cubicBezTo>
                <a:cubicBezTo>
                  <a:pt x="12715" y="12952"/>
                  <a:pt x="12802" y="12766"/>
                  <a:pt x="12799" y="12700"/>
                </a:cubicBezTo>
                <a:cubicBezTo>
                  <a:pt x="12796" y="12630"/>
                  <a:pt x="12743" y="12599"/>
                  <a:pt x="12700" y="12551"/>
                </a:cubicBezTo>
                <a:cubicBezTo>
                  <a:pt x="12640" y="12528"/>
                  <a:pt x="12569" y="12511"/>
                  <a:pt x="12502" y="12526"/>
                </a:cubicBezTo>
                <a:cubicBezTo>
                  <a:pt x="12445" y="12538"/>
                  <a:pt x="12364" y="12572"/>
                  <a:pt x="12303" y="12601"/>
                </a:cubicBezTo>
                <a:cubicBezTo>
                  <a:pt x="12229" y="12636"/>
                  <a:pt x="12204" y="12713"/>
                  <a:pt x="12154" y="12774"/>
                </a:cubicBezTo>
                <a:cubicBezTo>
                  <a:pt x="12086" y="12856"/>
                  <a:pt x="12064" y="12945"/>
                  <a:pt x="12030" y="13047"/>
                </a:cubicBezTo>
                <a:cubicBezTo>
                  <a:pt x="12000" y="13138"/>
                  <a:pt x="11954" y="13237"/>
                  <a:pt x="11906" y="13320"/>
                </a:cubicBezTo>
                <a:cubicBezTo>
                  <a:pt x="11857" y="13405"/>
                  <a:pt x="11859" y="13399"/>
                  <a:pt x="11807" y="13444"/>
                </a:cubicBezTo>
                <a:cubicBezTo>
                  <a:pt x="11807" y="13362"/>
                  <a:pt x="11823" y="13299"/>
                  <a:pt x="11832" y="13221"/>
                </a:cubicBezTo>
                <a:cubicBezTo>
                  <a:pt x="11846" y="13096"/>
                  <a:pt x="11854" y="12973"/>
                  <a:pt x="11881" y="12849"/>
                </a:cubicBezTo>
                <a:cubicBezTo>
                  <a:pt x="11910" y="12717"/>
                  <a:pt x="11909" y="12584"/>
                  <a:pt x="11931" y="12452"/>
                </a:cubicBezTo>
                <a:cubicBezTo>
                  <a:pt x="11956" y="12303"/>
                  <a:pt x="11999" y="12133"/>
                  <a:pt x="11981" y="11981"/>
                </a:cubicBezTo>
                <a:cubicBezTo>
                  <a:pt x="11958" y="11958"/>
                  <a:pt x="11950" y="11954"/>
                  <a:pt x="11956" y="11931"/>
                </a:cubicBezTo>
                <a:cubicBezTo>
                  <a:pt x="11937" y="11982"/>
                  <a:pt x="11931" y="12018"/>
                  <a:pt x="11931" y="12080"/>
                </a:cubicBezTo>
                <a:cubicBezTo>
                  <a:pt x="11931" y="12257"/>
                  <a:pt x="11921" y="12427"/>
                  <a:pt x="11906" y="12601"/>
                </a:cubicBezTo>
                <a:cubicBezTo>
                  <a:pt x="11894" y="12742"/>
                  <a:pt x="11867" y="12881"/>
                  <a:pt x="11857" y="13022"/>
                </a:cubicBezTo>
                <a:cubicBezTo>
                  <a:pt x="11849" y="13133"/>
                  <a:pt x="11832" y="13233"/>
                  <a:pt x="11832" y="13345"/>
                </a:cubicBezTo>
                <a:cubicBezTo>
                  <a:pt x="11832" y="13457"/>
                  <a:pt x="11830" y="13377"/>
                  <a:pt x="11857" y="13395"/>
                </a:cubicBezTo>
                <a:cubicBezTo>
                  <a:pt x="11857" y="13291"/>
                  <a:pt x="11839" y="13198"/>
                  <a:pt x="11832" y="13097"/>
                </a:cubicBezTo>
                <a:cubicBezTo>
                  <a:pt x="11820" y="12911"/>
                  <a:pt x="11843" y="12733"/>
                  <a:pt x="11857" y="12551"/>
                </a:cubicBezTo>
                <a:cubicBezTo>
                  <a:pt x="11869" y="12392"/>
                  <a:pt x="11929" y="12260"/>
                  <a:pt x="11956" y="12105"/>
                </a:cubicBezTo>
                <a:cubicBezTo>
                  <a:pt x="11967" y="12044"/>
                  <a:pt x="11980" y="12007"/>
                  <a:pt x="12005" y="11956"/>
                </a:cubicBezTo>
                <a:cubicBezTo>
                  <a:pt x="12005" y="11997"/>
                  <a:pt x="12011" y="11989"/>
                  <a:pt x="12005" y="12030"/>
                </a:cubicBezTo>
                <a:cubicBezTo>
                  <a:pt x="11987" y="12152"/>
                  <a:pt x="11963" y="12284"/>
                  <a:pt x="11931" y="12402"/>
                </a:cubicBezTo>
                <a:cubicBezTo>
                  <a:pt x="11904" y="12504"/>
                  <a:pt x="11872" y="12620"/>
                  <a:pt x="11857" y="12725"/>
                </a:cubicBezTo>
                <a:cubicBezTo>
                  <a:pt x="11841" y="12832"/>
                  <a:pt x="11821" y="12940"/>
                  <a:pt x="11807" y="13047"/>
                </a:cubicBezTo>
                <a:cubicBezTo>
                  <a:pt x="11799" y="13106"/>
                  <a:pt x="11789" y="13162"/>
                  <a:pt x="11782" y="13221"/>
                </a:cubicBezTo>
                <a:cubicBezTo>
                  <a:pt x="11805" y="13175"/>
                  <a:pt x="11836" y="13126"/>
                  <a:pt x="11857" y="13072"/>
                </a:cubicBezTo>
                <a:cubicBezTo>
                  <a:pt x="11896" y="12972"/>
                  <a:pt x="11941" y="12861"/>
                  <a:pt x="12005" y="12774"/>
                </a:cubicBezTo>
                <a:cubicBezTo>
                  <a:pt x="12084" y="12666"/>
                  <a:pt x="12173" y="12581"/>
                  <a:pt x="12278" y="12502"/>
                </a:cubicBezTo>
                <a:cubicBezTo>
                  <a:pt x="12377" y="12428"/>
                  <a:pt x="12466" y="12442"/>
                  <a:pt x="12576" y="12452"/>
                </a:cubicBezTo>
                <a:cubicBezTo>
                  <a:pt x="12664" y="12460"/>
                  <a:pt x="12711" y="12539"/>
                  <a:pt x="12774" y="12601"/>
                </a:cubicBezTo>
                <a:cubicBezTo>
                  <a:pt x="12854" y="12680"/>
                  <a:pt x="12849" y="12743"/>
                  <a:pt x="12849" y="12849"/>
                </a:cubicBezTo>
                <a:cubicBezTo>
                  <a:pt x="12849" y="12978"/>
                  <a:pt x="12806" y="13072"/>
                  <a:pt x="12725" y="13171"/>
                </a:cubicBezTo>
                <a:cubicBezTo>
                  <a:pt x="12651" y="13262"/>
                  <a:pt x="12529" y="13318"/>
                  <a:pt x="12427" y="13370"/>
                </a:cubicBezTo>
                <a:cubicBezTo>
                  <a:pt x="12354" y="13407"/>
                  <a:pt x="12211" y="13478"/>
                  <a:pt x="12129" y="13469"/>
                </a:cubicBezTo>
                <a:cubicBezTo>
                  <a:pt x="12034" y="13459"/>
                  <a:pt x="12041" y="13358"/>
                  <a:pt x="12030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61080" y="4295880"/>
            <a:ext cx="706680" cy="401400"/>
          </a:xfrm>
          <a:custGeom>
            <a:avLst/>
            <a:gdLst/>
            <a:ahLst/>
            <a:rect l="l" t="t" r="r" b="b"/>
            <a:pathLst>
              <a:path w="1961" h="1117">
                <a:moveTo>
                  <a:pt x="19670" y="12080"/>
                </a:moveTo>
                <a:cubicBezTo>
                  <a:pt x="19696" y="12089"/>
                  <a:pt x="19716" y="12098"/>
                  <a:pt x="19720" y="12129"/>
                </a:cubicBezTo>
                <a:cubicBezTo>
                  <a:pt x="19726" y="12180"/>
                  <a:pt x="19741" y="12201"/>
                  <a:pt x="19745" y="12254"/>
                </a:cubicBezTo>
                <a:cubicBezTo>
                  <a:pt x="19752" y="12338"/>
                  <a:pt x="19734" y="12401"/>
                  <a:pt x="19720" y="12477"/>
                </a:cubicBezTo>
                <a:cubicBezTo>
                  <a:pt x="19709" y="12540"/>
                  <a:pt x="19722" y="12617"/>
                  <a:pt x="19695" y="12675"/>
                </a:cubicBezTo>
                <a:cubicBezTo>
                  <a:pt x="19672" y="12725"/>
                  <a:pt x="19651" y="12794"/>
                  <a:pt x="19645" y="12849"/>
                </a:cubicBezTo>
                <a:cubicBezTo>
                  <a:pt x="19637" y="12921"/>
                  <a:pt x="19629" y="12877"/>
                  <a:pt x="19645" y="12849"/>
                </a:cubicBezTo>
                <a:cubicBezTo>
                  <a:pt x="19671" y="12803"/>
                  <a:pt x="19674" y="12751"/>
                  <a:pt x="19695" y="12700"/>
                </a:cubicBezTo>
                <a:cubicBezTo>
                  <a:pt x="19716" y="12648"/>
                  <a:pt x="19740" y="12594"/>
                  <a:pt x="19769" y="12551"/>
                </a:cubicBezTo>
                <a:cubicBezTo>
                  <a:pt x="19808" y="12494"/>
                  <a:pt x="19847" y="12429"/>
                  <a:pt x="19893" y="12378"/>
                </a:cubicBezTo>
                <a:cubicBezTo>
                  <a:pt x="19932" y="12335"/>
                  <a:pt x="19976" y="12305"/>
                  <a:pt x="20017" y="12278"/>
                </a:cubicBezTo>
                <a:cubicBezTo>
                  <a:pt x="20053" y="12254"/>
                  <a:pt x="20078" y="12217"/>
                  <a:pt x="20117" y="12204"/>
                </a:cubicBezTo>
                <a:cubicBezTo>
                  <a:pt x="20154" y="12192"/>
                  <a:pt x="20163" y="12182"/>
                  <a:pt x="20191" y="12179"/>
                </a:cubicBezTo>
                <a:cubicBezTo>
                  <a:pt x="20216" y="12179"/>
                  <a:pt x="20224" y="12179"/>
                  <a:pt x="20241" y="12179"/>
                </a:cubicBezTo>
              </a:path>
              <a:path w="1961" h="1117">
                <a:moveTo>
                  <a:pt x="18678" y="12129"/>
                </a:moveTo>
                <a:cubicBezTo>
                  <a:pt x="18731" y="12024"/>
                  <a:pt x="18763" y="12019"/>
                  <a:pt x="18876" y="11981"/>
                </a:cubicBezTo>
                <a:cubicBezTo>
                  <a:pt x="18968" y="11950"/>
                  <a:pt x="19052" y="11956"/>
                  <a:pt x="19149" y="11956"/>
                </a:cubicBezTo>
                <a:cubicBezTo>
                  <a:pt x="19253" y="11956"/>
                  <a:pt x="19277" y="12020"/>
                  <a:pt x="19323" y="12105"/>
                </a:cubicBezTo>
                <a:cubicBezTo>
                  <a:pt x="19367" y="12188"/>
                  <a:pt x="19340" y="12290"/>
                  <a:pt x="19323" y="12378"/>
                </a:cubicBezTo>
                <a:cubicBezTo>
                  <a:pt x="19301" y="12494"/>
                  <a:pt x="19262" y="12601"/>
                  <a:pt x="19199" y="12700"/>
                </a:cubicBezTo>
                <a:cubicBezTo>
                  <a:pt x="19134" y="12803"/>
                  <a:pt x="19078" y="12905"/>
                  <a:pt x="18976" y="12973"/>
                </a:cubicBezTo>
                <a:cubicBezTo>
                  <a:pt x="18888" y="13032"/>
                  <a:pt x="18832" y="13047"/>
                  <a:pt x="18728" y="13047"/>
                </a:cubicBezTo>
                <a:cubicBezTo>
                  <a:pt x="18670" y="13047"/>
                  <a:pt x="18590" y="13024"/>
                  <a:pt x="18554" y="12973"/>
                </a:cubicBezTo>
                <a:cubicBezTo>
                  <a:pt x="18512" y="12915"/>
                  <a:pt x="18488" y="12821"/>
                  <a:pt x="18504" y="12750"/>
                </a:cubicBezTo>
                <a:cubicBezTo>
                  <a:pt x="18525" y="12654"/>
                  <a:pt x="18542" y="12581"/>
                  <a:pt x="18653" y="12551"/>
                </a:cubicBezTo>
                <a:cubicBezTo>
                  <a:pt x="18719" y="12533"/>
                  <a:pt x="18794" y="12551"/>
                  <a:pt x="18852" y="12576"/>
                </a:cubicBezTo>
                <a:cubicBezTo>
                  <a:pt x="18912" y="12602"/>
                  <a:pt x="18968" y="12671"/>
                  <a:pt x="19000" y="12725"/>
                </a:cubicBezTo>
                <a:cubicBezTo>
                  <a:pt x="19035" y="12784"/>
                  <a:pt x="19054" y="12847"/>
                  <a:pt x="19100" y="12898"/>
                </a:cubicBezTo>
                <a:cubicBezTo>
                  <a:pt x="19133" y="12936"/>
                  <a:pt x="19137" y="12946"/>
                  <a:pt x="19174" y="12973"/>
                </a:cubicBezTo>
              </a:path>
              <a:path w="1961" h="1117">
                <a:moveTo>
                  <a:pt x="20191" y="12055"/>
                </a:moveTo>
                <a:cubicBezTo>
                  <a:pt x="20165" y="11925"/>
                  <a:pt x="20188" y="12021"/>
                  <a:pt x="20117" y="11956"/>
                </a:cubicBezTo>
                <a:cubicBezTo>
                  <a:pt x="20071" y="11914"/>
                  <a:pt x="19998" y="11938"/>
                  <a:pt x="19943" y="11956"/>
                </a:cubicBezTo>
                <a:cubicBezTo>
                  <a:pt x="19882" y="11976"/>
                  <a:pt x="19811" y="12043"/>
                  <a:pt x="19794" y="12105"/>
                </a:cubicBezTo>
                <a:cubicBezTo>
                  <a:pt x="19763" y="12216"/>
                  <a:pt x="19831" y="12306"/>
                  <a:pt x="19869" y="12402"/>
                </a:cubicBezTo>
                <a:cubicBezTo>
                  <a:pt x="19907" y="12497"/>
                  <a:pt x="19960" y="12577"/>
                  <a:pt x="19993" y="12675"/>
                </a:cubicBezTo>
                <a:cubicBezTo>
                  <a:pt x="20020" y="12756"/>
                  <a:pt x="20037" y="12845"/>
                  <a:pt x="19993" y="12923"/>
                </a:cubicBezTo>
                <a:cubicBezTo>
                  <a:pt x="19977" y="12952"/>
                  <a:pt x="19930" y="13036"/>
                  <a:pt x="19893" y="13047"/>
                </a:cubicBezTo>
                <a:cubicBezTo>
                  <a:pt x="19840" y="13062"/>
                  <a:pt x="19784" y="13043"/>
                  <a:pt x="19745" y="13022"/>
                </a:cubicBezTo>
                <a:cubicBezTo>
                  <a:pt x="19686" y="12991"/>
                  <a:pt x="19699" y="12998"/>
                  <a:pt x="19695" y="12923"/>
                </a:cubicBezTo>
                <a:cubicBezTo>
                  <a:pt x="19689" y="12810"/>
                  <a:pt x="19784" y="12747"/>
                  <a:pt x="19844" y="12675"/>
                </a:cubicBezTo>
                <a:cubicBezTo>
                  <a:pt x="19933" y="12567"/>
                  <a:pt x="20047" y="12529"/>
                  <a:pt x="20166" y="12452"/>
                </a:cubicBezTo>
                <a:cubicBezTo>
                  <a:pt x="20278" y="12379"/>
                  <a:pt x="20375" y="12320"/>
                  <a:pt x="20439" y="12204"/>
                </a:cubicBezTo>
                <a:cubicBezTo>
                  <a:pt x="20479" y="12133"/>
                  <a:pt x="20469" y="12089"/>
                  <a:pt x="20414" y="12030"/>
                </a:cubicBezTo>
                <a:cubicBezTo>
                  <a:pt x="20345" y="11956"/>
                  <a:pt x="20263" y="11944"/>
                  <a:pt x="20166" y="11931"/>
                </a:cubicBezTo>
                <a:cubicBezTo>
                  <a:pt x="20115" y="11931"/>
                  <a:pt x="20096" y="11932"/>
                  <a:pt x="20067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27320" y="4894200"/>
            <a:ext cx="1473480" cy="544680"/>
          </a:xfrm>
          <a:custGeom>
            <a:avLst/>
            <a:gdLst/>
            <a:ahLst/>
            <a:rect l="l" t="t" r="r" b="b"/>
            <a:pathLst>
              <a:path w="4094" h="1514">
                <a:moveTo>
                  <a:pt x="11807" y="14139"/>
                </a:moveTo>
                <a:cubicBezTo>
                  <a:pt x="11798" y="14074"/>
                  <a:pt x="11769" y="14033"/>
                  <a:pt x="11708" y="13990"/>
                </a:cubicBezTo>
                <a:cubicBezTo>
                  <a:pt x="11621" y="13929"/>
                  <a:pt x="11490" y="13891"/>
                  <a:pt x="11385" y="13915"/>
                </a:cubicBezTo>
                <a:cubicBezTo>
                  <a:pt x="11326" y="13929"/>
                  <a:pt x="11278" y="13974"/>
                  <a:pt x="11237" y="14015"/>
                </a:cubicBezTo>
                <a:cubicBezTo>
                  <a:pt x="11194" y="14057"/>
                  <a:pt x="11188" y="14085"/>
                  <a:pt x="11212" y="14139"/>
                </a:cubicBezTo>
                <a:cubicBezTo>
                  <a:pt x="11268" y="14266"/>
                  <a:pt x="11302" y="14253"/>
                  <a:pt x="11435" y="14312"/>
                </a:cubicBezTo>
                <a:cubicBezTo>
                  <a:pt x="11524" y="14351"/>
                  <a:pt x="11619" y="14373"/>
                  <a:pt x="11708" y="14412"/>
                </a:cubicBezTo>
                <a:cubicBezTo>
                  <a:pt x="11833" y="14466"/>
                  <a:pt x="11875" y="14492"/>
                  <a:pt x="11931" y="14610"/>
                </a:cubicBezTo>
                <a:cubicBezTo>
                  <a:pt x="11971" y="14693"/>
                  <a:pt x="11963" y="14771"/>
                  <a:pt x="11931" y="14858"/>
                </a:cubicBezTo>
                <a:cubicBezTo>
                  <a:pt x="11911" y="14913"/>
                  <a:pt x="11813" y="15014"/>
                  <a:pt x="11757" y="15032"/>
                </a:cubicBezTo>
                <a:cubicBezTo>
                  <a:pt x="11650" y="15065"/>
                  <a:pt x="11515" y="15070"/>
                  <a:pt x="11410" y="15032"/>
                </a:cubicBezTo>
                <a:cubicBezTo>
                  <a:pt x="11331" y="15003"/>
                  <a:pt x="11241" y="14940"/>
                  <a:pt x="11212" y="14858"/>
                </a:cubicBezTo>
                <a:cubicBezTo>
                  <a:pt x="11181" y="14773"/>
                  <a:pt x="11187" y="14698"/>
                  <a:pt x="11187" y="14610"/>
                </a:cubicBezTo>
              </a:path>
              <a:path w="4094" h="1514">
                <a:moveTo>
                  <a:pt x="12278" y="14139"/>
                </a:moveTo>
                <a:cubicBezTo>
                  <a:pt x="12306" y="14276"/>
                  <a:pt x="12304" y="14373"/>
                  <a:pt x="12278" y="14511"/>
                </a:cubicBezTo>
                <a:cubicBezTo>
                  <a:pt x="12249" y="14660"/>
                  <a:pt x="12218" y="14807"/>
                  <a:pt x="12204" y="14957"/>
                </a:cubicBezTo>
                <a:cubicBezTo>
                  <a:pt x="12199" y="15011"/>
                  <a:pt x="12169" y="15156"/>
                  <a:pt x="12229" y="15056"/>
                </a:cubicBezTo>
              </a:path>
              <a:path w="4094" h="1514">
                <a:moveTo>
                  <a:pt x="12427" y="13866"/>
                </a:moveTo>
                <a:cubicBezTo>
                  <a:pt x="12427" y="13818"/>
                  <a:pt x="12444" y="13841"/>
                  <a:pt x="12452" y="13866"/>
                </a:cubicBezTo>
              </a:path>
              <a:path w="4094" h="1514">
                <a:moveTo>
                  <a:pt x="12774" y="14114"/>
                </a:moveTo>
                <a:cubicBezTo>
                  <a:pt x="12756" y="14283"/>
                  <a:pt x="12719" y="14444"/>
                  <a:pt x="12700" y="14610"/>
                </a:cubicBezTo>
                <a:cubicBezTo>
                  <a:pt x="12687" y="14726"/>
                  <a:pt x="12674" y="14844"/>
                  <a:pt x="12650" y="14957"/>
                </a:cubicBezTo>
                <a:cubicBezTo>
                  <a:pt x="12634" y="15029"/>
                  <a:pt x="12629" y="15032"/>
                  <a:pt x="12601" y="15081"/>
                </a:cubicBezTo>
                <a:cubicBezTo>
                  <a:pt x="12615" y="15040"/>
                  <a:pt x="12620" y="15050"/>
                  <a:pt x="12626" y="15007"/>
                </a:cubicBezTo>
                <a:cubicBezTo>
                  <a:pt x="12657" y="14796"/>
                  <a:pt x="12675" y="14612"/>
                  <a:pt x="12750" y="14412"/>
                </a:cubicBezTo>
                <a:cubicBezTo>
                  <a:pt x="12795" y="14292"/>
                  <a:pt x="12869" y="14146"/>
                  <a:pt x="12973" y="14064"/>
                </a:cubicBezTo>
                <a:cubicBezTo>
                  <a:pt x="13015" y="14031"/>
                  <a:pt x="13090" y="14000"/>
                  <a:pt x="13146" y="14015"/>
                </a:cubicBezTo>
                <a:cubicBezTo>
                  <a:pt x="13232" y="14039"/>
                  <a:pt x="13243" y="14112"/>
                  <a:pt x="13246" y="14188"/>
                </a:cubicBezTo>
                <a:cubicBezTo>
                  <a:pt x="13250" y="14302"/>
                  <a:pt x="13240" y="14425"/>
                  <a:pt x="13221" y="14536"/>
                </a:cubicBezTo>
                <a:cubicBezTo>
                  <a:pt x="13199" y="14668"/>
                  <a:pt x="13160" y="14801"/>
                  <a:pt x="13146" y="14932"/>
                </a:cubicBezTo>
                <a:cubicBezTo>
                  <a:pt x="13136" y="15026"/>
                  <a:pt x="13131" y="15057"/>
                  <a:pt x="13171" y="15056"/>
                </a:cubicBezTo>
              </a:path>
              <a:path w="4094" h="1514">
                <a:moveTo>
                  <a:pt x="13643" y="13643"/>
                </a:moveTo>
                <a:cubicBezTo>
                  <a:pt x="13657" y="13838"/>
                  <a:pt x="13651" y="13891"/>
                  <a:pt x="13593" y="14064"/>
                </a:cubicBezTo>
                <a:cubicBezTo>
                  <a:pt x="13563" y="14152"/>
                  <a:pt x="13543" y="14219"/>
                  <a:pt x="13543" y="14312"/>
                </a:cubicBezTo>
                <a:cubicBezTo>
                  <a:pt x="13543" y="14367"/>
                  <a:pt x="13569" y="14405"/>
                  <a:pt x="13618" y="14436"/>
                </a:cubicBezTo>
                <a:cubicBezTo>
                  <a:pt x="13673" y="14472"/>
                  <a:pt x="13728" y="14461"/>
                  <a:pt x="13791" y="14461"/>
                </a:cubicBezTo>
                <a:cubicBezTo>
                  <a:pt x="13844" y="14461"/>
                  <a:pt x="13896" y="14420"/>
                  <a:pt x="13940" y="14412"/>
                </a:cubicBezTo>
                <a:cubicBezTo>
                  <a:pt x="13999" y="14401"/>
                  <a:pt x="14024" y="14390"/>
                  <a:pt x="14064" y="14337"/>
                </a:cubicBezTo>
                <a:cubicBezTo>
                  <a:pt x="14117" y="14266"/>
                  <a:pt x="14128" y="14198"/>
                  <a:pt x="14139" y="14114"/>
                </a:cubicBezTo>
              </a:path>
              <a:path w="4094" h="1514">
                <a:moveTo>
                  <a:pt x="14288" y="13593"/>
                </a:moveTo>
                <a:cubicBezTo>
                  <a:pt x="14288" y="13698"/>
                  <a:pt x="14287" y="13788"/>
                  <a:pt x="14263" y="13891"/>
                </a:cubicBezTo>
                <a:cubicBezTo>
                  <a:pt x="14225" y="14054"/>
                  <a:pt x="14223" y="14221"/>
                  <a:pt x="14188" y="14387"/>
                </a:cubicBezTo>
                <a:cubicBezTo>
                  <a:pt x="14157" y="14532"/>
                  <a:pt x="14143" y="14684"/>
                  <a:pt x="14139" y="14833"/>
                </a:cubicBezTo>
                <a:cubicBezTo>
                  <a:pt x="14137" y="14889"/>
                  <a:pt x="14140" y="15018"/>
                  <a:pt x="14188" y="14982"/>
                </a:cubicBezTo>
                <a:cubicBezTo>
                  <a:pt x="14216" y="14954"/>
                  <a:pt x="14225" y="14941"/>
                  <a:pt x="14213" y="14908"/>
                </a:cubicBezTo>
              </a:path>
              <a:path w="4094" h="1514">
                <a:moveTo>
                  <a:pt x="14511" y="14064"/>
                </a:moveTo>
                <a:cubicBezTo>
                  <a:pt x="14578" y="13981"/>
                  <a:pt x="14589" y="13937"/>
                  <a:pt x="14684" y="13866"/>
                </a:cubicBezTo>
                <a:cubicBezTo>
                  <a:pt x="14768" y="13803"/>
                  <a:pt x="14855" y="13772"/>
                  <a:pt x="14957" y="13767"/>
                </a:cubicBezTo>
                <a:cubicBezTo>
                  <a:pt x="15035" y="13763"/>
                  <a:pt x="15050" y="13789"/>
                  <a:pt x="15081" y="13841"/>
                </a:cubicBezTo>
                <a:cubicBezTo>
                  <a:pt x="15127" y="13920"/>
                  <a:pt x="15096" y="14011"/>
                  <a:pt x="15056" y="14089"/>
                </a:cubicBezTo>
                <a:cubicBezTo>
                  <a:pt x="14990" y="14217"/>
                  <a:pt x="14907" y="14339"/>
                  <a:pt x="14833" y="14461"/>
                </a:cubicBezTo>
                <a:cubicBezTo>
                  <a:pt x="14770" y="14564"/>
                  <a:pt x="14729" y="14648"/>
                  <a:pt x="14684" y="14759"/>
                </a:cubicBezTo>
                <a:cubicBezTo>
                  <a:pt x="14663" y="14812"/>
                  <a:pt x="14606" y="14874"/>
                  <a:pt x="14610" y="14932"/>
                </a:cubicBezTo>
                <a:cubicBezTo>
                  <a:pt x="14615" y="15009"/>
                  <a:pt x="14729" y="14985"/>
                  <a:pt x="14759" y="14982"/>
                </a:cubicBezTo>
                <a:cubicBezTo>
                  <a:pt x="14842" y="14973"/>
                  <a:pt x="14928" y="14980"/>
                  <a:pt x="15007" y="14957"/>
                </a:cubicBezTo>
                <a:cubicBezTo>
                  <a:pt x="15076" y="14937"/>
                  <a:pt x="15166" y="14940"/>
                  <a:pt x="15230" y="14908"/>
                </a:cubicBezTo>
                <a:cubicBezTo>
                  <a:pt x="15255" y="14883"/>
                  <a:pt x="15263" y="14875"/>
                  <a:pt x="15280" y="148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4956120"/>
            <a:ext cx="669960" cy="357120"/>
          </a:xfrm>
          <a:custGeom>
            <a:avLst/>
            <a:gdLst/>
            <a:ahLst/>
            <a:rect l="l" t="t" r="r" b="b"/>
            <a:pathLst>
              <a:path w="1861" h="993">
                <a:moveTo>
                  <a:pt x="15974" y="13990"/>
                </a:moveTo>
                <a:cubicBezTo>
                  <a:pt x="15929" y="13990"/>
                  <a:pt x="15906" y="13988"/>
                  <a:pt x="15900" y="14039"/>
                </a:cubicBezTo>
                <a:cubicBezTo>
                  <a:pt x="15894" y="14092"/>
                  <a:pt x="15897" y="14118"/>
                  <a:pt x="15925" y="14139"/>
                </a:cubicBezTo>
                <a:cubicBezTo>
                  <a:pt x="15965" y="14168"/>
                  <a:pt x="16004" y="14167"/>
                  <a:pt x="16049" y="14139"/>
                </a:cubicBezTo>
                <a:cubicBezTo>
                  <a:pt x="16066" y="14129"/>
                  <a:pt x="16123" y="14064"/>
                  <a:pt x="16123" y="14064"/>
                </a:cubicBezTo>
                <a:cubicBezTo>
                  <a:pt x="16123" y="14056"/>
                  <a:pt x="16123" y="14047"/>
                  <a:pt x="16123" y="14039"/>
                </a:cubicBezTo>
                <a:cubicBezTo>
                  <a:pt x="16110" y="14003"/>
                  <a:pt x="16093" y="14015"/>
                  <a:pt x="16049" y="14015"/>
                </a:cubicBezTo>
                <a:cubicBezTo>
                  <a:pt x="16007" y="14015"/>
                  <a:pt x="15989" y="14020"/>
                  <a:pt x="15974" y="14064"/>
                </a:cubicBezTo>
                <a:cubicBezTo>
                  <a:pt x="15961" y="14102"/>
                  <a:pt x="15974" y="14106"/>
                  <a:pt x="15999" y="14114"/>
                </a:cubicBezTo>
              </a:path>
              <a:path w="1861" h="993">
                <a:moveTo>
                  <a:pt x="16495" y="13915"/>
                </a:moveTo>
                <a:cubicBezTo>
                  <a:pt x="16536" y="13875"/>
                  <a:pt x="16574" y="13850"/>
                  <a:pt x="16619" y="13816"/>
                </a:cubicBezTo>
                <a:cubicBezTo>
                  <a:pt x="16664" y="13782"/>
                  <a:pt x="16733" y="13770"/>
                  <a:pt x="16793" y="13767"/>
                </a:cubicBezTo>
                <a:cubicBezTo>
                  <a:pt x="16857" y="13764"/>
                  <a:pt x="16875" y="13799"/>
                  <a:pt x="16917" y="13841"/>
                </a:cubicBezTo>
                <a:cubicBezTo>
                  <a:pt x="16966" y="13890"/>
                  <a:pt x="16942" y="13958"/>
                  <a:pt x="16917" y="14015"/>
                </a:cubicBezTo>
                <a:cubicBezTo>
                  <a:pt x="16875" y="14109"/>
                  <a:pt x="16804" y="14160"/>
                  <a:pt x="16743" y="14238"/>
                </a:cubicBezTo>
                <a:cubicBezTo>
                  <a:pt x="16682" y="14316"/>
                  <a:pt x="16590" y="14377"/>
                  <a:pt x="16545" y="14461"/>
                </a:cubicBezTo>
                <a:cubicBezTo>
                  <a:pt x="16531" y="14488"/>
                  <a:pt x="16552" y="14570"/>
                  <a:pt x="16570" y="14585"/>
                </a:cubicBezTo>
                <a:cubicBezTo>
                  <a:pt x="16625" y="14631"/>
                  <a:pt x="16684" y="14661"/>
                  <a:pt x="16743" y="14684"/>
                </a:cubicBezTo>
                <a:cubicBezTo>
                  <a:pt x="16806" y="14709"/>
                  <a:pt x="16848" y="14709"/>
                  <a:pt x="16917" y="14709"/>
                </a:cubicBezTo>
                <a:cubicBezTo>
                  <a:pt x="16945" y="14709"/>
                  <a:pt x="16956" y="14707"/>
                  <a:pt x="16966" y="14684"/>
                </a:cubicBezTo>
              </a:path>
              <a:path w="1861" h="993">
                <a:moveTo>
                  <a:pt x="17611" y="13990"/>
                </a:moveTo>
                <a:cubicBezTo>
                  <a:pt x="17577" y="13850"/>
                  <a:pt x="17573" y="13807"/>
                  <a:pt x="17413" y="13791"/>
                </a:cubicBezTo>
                <a:cubicBezTo>
                  <a:pt x="17376" y="13787"/>
                  <a:pt x="17299" y="13820"/>
                  <a:pt x="17289" y="13866"/>
                </a:cubicBezTo>
                <a:cubicBezTo>
                  <a:pt x="17270" y="13957"/>
                  <a:pt x="17307" y="14010"/>
                  <a:pt x="17338" y="14089"/>
                </a:cubicBezTo>
                <a:cubicBezTo>
                  <a:pt x="17378" y="14192"/>
                  <a:pt x="17417" y="14288"/>
                  <a:pt x="17462" y="14387"/>
                </a:cubicBezTo>
                <a:cubicBezTo>
                  <a:pt x="17508" y="14488"/>
                  <a:pt x="17512" y="14549"/>
                  <a:pt x="17512" y="14660"/>
                </a:cubicBezTo>
                <a:cubicBezTo>
                  <a:pt x="17512" y="14690"/>
                  <a:pt x="17468" y="14746"/>
                  <a:pt x="17438" y="14759"/>
                </a:cubicBezTo>
                <a:cubicBezTo>
                  <a:pt x="17408" y="14772"/>
                  <a:pt x="17330" y="14768"/>
                  <a:pt x="17314" y="14734"/>
                </a:cubicBezTo>
                <a:cubicBezTo>
                  <a:pt x="17286" y="14675"/>
                  <a:pt x="17288" y="14651"/>
                  <a:pt x="17314" y="14585"/>
                </a:cubicBezTo>
                <a:cubicBezTo>
                  <a:pt x="17359" y="14471"/>
                  <a:pt x="17431" y="14358"/>
                  <a:pt x="17512" y="14263"/>
                </a:cubicBezTo>
                <a:cubicBezTo>
                  <a:pt x="17585" y="14177"/>
                  <a:pt x="17667" y="14103"/>
                  <a:pt x="17735" y="14015"/>
                </a:cubicBezTo>
                <a:cubicBezTo>
                  <a:pt x="17769" y="13971"/>
                  <a:pt x="17768" y="13959"/>
                  <a:pt x="17735" y="139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5537160"/>
            <a:ext cx="1527120" cy="463680"/>
          </a:xfrm>
          <a:custGeom>
            <a:avLst/>
            <a:gdLst/>
            <a:ahLst/>
            <a:rect l="l" t="t" r="r" b="b"/>
            <a:pathLst>
              <a:path w="4242" h="1291">
                <a:moveTo>
                  <a:pt x="13122" y="15825"/>
                </a:moveTo>
                <a:cubicBezTo>
                  <a:pt x="13107" y="15807"/>
                  <a:pt x="13091" y="15787"/>
                  <a:pt x="13072" y="15751"/>
                </a:cubicBezTo>
                <a:cubicBezTo>
                  <a:pt x="13049" y="15707"/>
                  <a:pt x="13034" y="15704"/>
                  <a:pt x="12998" y="15677"/>
                </a:cubicBezTo>
                <a:cubicBezTo>
                  <a:pt x="12947" y="15639"/>
                  <a:pt x="12887" y="15613"/>
                  <a:pt x="12824" y="15602"/>
                </a:cubicBezTo>
                <a:cubicBezTo>
                  <a:pt x="12762" y="15592"/>
                  <a:pt x="12679" y="15594"/>
                  <a:pt x="12626" y="15627"/>
                </a:cubicBezTo>
                <a:cubicBezTo>
                  <a:pt x="12580" y="15655"/>
                  <a:pt x="12531" y="15682"/>
                  <a:pt x="12502" y="15701"/>
                </a:cubicBezTo>
                <a:cubicBezTo>
                  <a:pt x="12519" y="15737"/>
                  <a:pt x="12522" y="15769"/>
                  <a:pt x="12551" y="15801"/>
                </a:cubicBezTo>
                <a:cubicBezTo>
                  <a:pt x="12592" y="15845"/>
                  <a:pt x="12671" y="15832"/>
                  <a:pt x="12725" y="15850"/>
                </a:cubicBezTo>
                <a:cubicBezTo>
                  <a:pt x="12806" y="15877"/>
                  <a:pt x="12910" y="15912"/>
                  <a:pt x="12998" y="15925"/>
                </a:cubicBezTo>
                <a:cubicBezTo>
                  <a:pt x="13117" y="15943"/>
                  <a:pt x="13170" y="15973"/>
                  <a:pt x="13271" y="16024"/>
                </a:cubicBezTo>
                <a:cubicBezTo>
                  <a:pt x="13363" y="16071"/>
                  <a:pt x="13426" y="16086"/>
                  <a:pt x="13494" y="16173"/>
                </a:cubicBezTo>
                <a:cubicBezTo>
                  <a:pt x="13548" y="16243"/>
                  <a:pt x="13562" y="16295"/>
                  <a:pt x="13519" y="16371"/>
                </a:cubicBezTo>
                <a:cubicBezTo>
                  <a:pt x="13475" y="16448"/>
                  <a:pt x="13393" y="16463"/>
                  <a:pt x="13320" y="16495"/>
                </a:cubicBezTo>
                <a:cubicBezTo>
                  <a:pt x="13250" y="16525"/>
                  <a:pt x="13150" y="16557"/>
                  <a:pt x="13072" y="16545"/>
                </a:cubicBezTo>
                <a:cubicBezTo>
                  <a:pt x="12989" y="16533"/>
                  <a:pt x="12896" y="16519"/>
                  <a:pt x="12824" y="16470"/>
                </a:cubicBezTo>
                <a:cubicBezTo>
                  <a:pt x="12756" y="16424"/>
                  <a:pt x="12774" y="16342"/>
                  <a:pt x="12774" y="16272"/>
                </a:cubicBezTo>
              </a:path>
              <a:path w="4242" h="1291">
                <a:moveTo>
                  <a:pt x="13791" y="15900"/>
                </a:moveTo>
                <a:cubicBezTo>
                  <a:pt x="13841" y="16156"/>
                  <a:pt x="13820" y="16224"/>
                  <a:pt x="13791" y="16470"/>
                </a:cubicBezTo>
                <a:cubicBezTo>
                  <a:pt x="13783" y="16541"/>
                  <a:pt x="13671" y="16669"/>
                  <a:pt x="13742" y="16669"/>
                </a:cubicBezTo>
                <a:cubicBezTo>
                  <a:pt x="13750" y="16661"/>
                  <a:pt x="13759" y="16652"/>
                  <a:pt x="13767" y="16644"/>
                </a:cubicBezTo>
              </a:path>
              <a:path w="4242" h="1291">
                <a:moveTo>
                  <a:pt x="13891" y="15602"/>
                </a:moveTo>
                <a:cubicBezTo>
                  <a:pt x="13899" y="15602"/>
                  <a:pt x="13907" y="15602"/>
                  <a:pt x="13915" y="15602"/>
                </a:cubicBezTo>
              </a:path>
              <a:path w="4242" h="1291">
                <a:moveTo>
                  <a:pt x="14163" y="15900"/>
                </a:moveTo>
                <a:cubicBezTo>
                  <a:pt x="14141" y="16084"/>
                  <a:pt x="14114" y="16261"/>
                  <a:pt x="14114" y="16446"/>
                </a:cubicBezTo>
                <a:cubicBezTo>
                  <a:pt x="14114" y="16454"/>
                  <a:pt x="14114" y="16462"/>
                  <a:pt x="14114" y="16470"/>
                </a:cubicBezTo>
                <a:cubicBezTo>
                  <a:pt x="14127" y="16421"/>
                  <a:pt x="14148" y="16376"/>
                  <a:pt x="14163" y="16321"/>
                </a:cubicBezTo>
                <a:cubicBezTo>
                  <a:pt x="14202" y="16184"/>
                  <a:pt x="14237" y="16057"/>
                  <a:pt x="14288" y="15925"/>
                </a:cubicBezTo>
                <a:cubicBezTo>
                  <a:pt x="14319" y="15843"/>
                  <a:pt x="14372" y="15718"/>
                  <a:pt x="14461" y="15677"/>
                </a:cubicBezTo>
                <a:cubicBezTo>
                  <a:pt x="14552" y="15635"/>
                  <a:pt x="14611" y="15647"/>
                  <a:pt x="14684" y="15701"/>
                </a:cubicBezTo>
                <a:cubicBezTo>
                  <a:pt x="14732" y="15737"/>
                  <a:pt x="14775" y="15844"/>
                  <a:pt x="14784" y="15900"/>
                </a:cubicBezTo>
                <a:cubicBezTo>
                  <a:pt x="14800" y="16005"/>
                  <a:pt x="14713" y="16435"/>
                  <a:pt x="14808" y="16495"/>
                </a:cubicBezTo>
                <a:cubicBezTo>
                  <a:pt x="14816" y="16495"/>
                  <a:pt x="14825" y="16495"/>
                  <a:pt x="14833" y="16495"/>
                </a:cubicBezTo>
              </a:path>
              <a:path w="4242" h="1291">
                <a:moveTo>
                  <a:pt x="15577" y="15627"/>
                </a:moveTo>
                <a:cubicBezTo>
                  <a:pt x="15568" y="15414"/>
                  <a:pt x="15613" y="15465"/>
                  <a:pt x="15478" y="15404"/>
                </a:cubicBezTo>
                <a:cubicBezTo>
                  <a:pt x="15431" y="15383"/>
                  <a:pt x="15325" y="15385"/>
                  <a:pt x="15280" y="15429"/>
                </a:cubicBezTo>
                <a:cubicBezTo>
                  <a:pt x="15228" y="15480"/>
                  <a:pt x="15209" y="15585"/>
                  <a:pt x="15205" y="15652"/>
                </a:cubicBezTo>
                <a:cubicBezTo>
                  <a:pt x="15200" y="15746"/>
                  <a:pt x="15206" y="15830"/>
                  <a:pt x="15280" y="15900"/>
                </a:cubicBezTo>
                <a:cubicBezTo>
                  <a:pt x="15324" y="15942"/>
                  <a:pt x="15419" y="15965"/>
                  <a:pt x="15478" y="15949"/>
                </a:cubicBezTo>
                <a:cubicBezTo>
                  <a:pt x="15564" y="15926"/>
                  <a:pt x="15650" y="15843"/>
                  <a:pt x="15701" y="15776"/>
                </a:cubicBezTo>
                <a:cubicBezTo>
                  <a:pt x="15734" y="15733"/>
                  <a:pt x="15745" y="15691"/>
                  <a:pt x="15776" y="15652"/>
                </a:cubicBezTo>
                <a:cubicBezTo>
                  <a:pt x="15776" y="15726"/>
                  <a:pt x="15761" y="15778"/>
                  <a:pt x="15751" y="15850"/>
                </a:cubicBezTo>
                <a:cubicBezTo>
                  <a:pt x="15734" y="15970"/>
                  <a:pt x="15739" y="16103"/>
                  <a:pt x="15726" y="16222"/>
                </a:cubicBezTo>
                <a:cubicBezTo>
                  <a:pt x="15720" y="16274"/>
                  <a:pt x="15698" y="16462"/>
                  <a:pt x="15751" y="16495"/>
                </a:cubicBezTo>
                <a:cubicBezTo>
                  <a:pt x="15759" y="16495"/>
                  <a:pt x="15768" y="16495"/>
                  <a:pt x="15776" y="16495"/>
                </a:cubicBezTo>
              </a:path>
              <a:path w="4242" h="1291">
                <a:moveTo>
                  <a:pt x="16247" y="15429"/>
                </a:moveTo>
                <a:cubicBezTo>
                  <a:pt x="16206" y="15529"/>
                  <a:pt x="16203" y="15624"/>
                  <a:pt x="16173" y="15726"/>
                </a:cubicBezTo>
                <a:cubicBezTo>
                  <a:pt x="16142" y="15832"/>
                  <a:pt x="16127" y="15938"/>
                  <a:pt x="16123" y="16049"/>
                </a:cubicBezTo>
                <a:cubicBezTo>
                  <a:pt x="16119" y="16154"/>
                  <a:pt x="16129" y="16226"/>
                  <a:pt x="16173" y="16321"/>
                </a:cubicBezTo>
                <a:cubicBezTo>
                  <a:pt x="16200" y="16378"/>
                  <a:pt x="16253" y="16454"/>
                  <a:pt x="16321" y="16470"/>
                </a:cubicBezTo>
                <a:cubicBezTo>
                  <a:pt x="16389" y="16486"/>
                  <a:pt x="16490" y="16475"/>
                  <a:pt x="16545" y="16446"/>
                </a:cubicBezTo>
                <a:cubicBezTo>
                  <a:pt x="16583" y="16426"/>
                  <a:pt x="16674" y="16385"/>
                  <a:pt x="16694" y="16346"/>
                </a:cubicBezTo>
                <a:cubicBezTo>
                  <a:pt x="16727" y="16283"/>
                  <a:pt x="16743" y="16218"/>
                  <a:pt x="16743" y="16148"/>
                </a:cubicBezTo>
                <a:cubicBezTo>
                  <a:pt x="16743" y="16073"/>
                  <a:pt x="16734" y="16068"/>
                  <a:pt x="16694" y="16024"/>
                </a:cubicBezTo>
                <a:cubicBezTo>
                  <a:pt x="16672" y="16000"/>
                  <a:pt x="16634" y="15951"/>
                  <a:pt x="16594" y="15974"/>
                </a:cubicBezTo>
                <a:cubicBezTo>
                  <a:pt x="16546" y="16002"/>
                  <a:pt x="16479" y="16051"/>
                  <a:pt x="16446" y="16098"/>
                </a:cubicBezTo>
                <a:cubicBezTo>
                  <a:pt x="16403" y="16159"/>
                  <a:pt x="16335" y="16250"/>
                  <a:pt x="16321" y="16321"/>
                </a:cubicBezTo>
                <a:cubicBezTo>
                  <a:pt x="16321" y="16346"/>
                  <a:pt x="16321" y="16371"/>
                  <a:pt x="16321" y="163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35800" y="5392800"/>
            <a:ext cx="260280" cy="125280"/>
          </a:xfrm>
          <a:custGeom>
            <a:avLst/>
            <a:gdLst/>
            <a:ahLst/>
            <a:rect l="l" t="t" r="r" b="b"/>
            <a:pathLst>
              <a:path w="720" h="348">
                <a:moveTo>
                  <a:pt x="18231" y="14982"/>
                </a:moveTo>
                <a:cubicBezTo>
                  <a:pt x="18442" y="14982"/>
                  <a:pt x="18674" y="14951"/>
                  <a:pt x="18876" y="15007"/>
                </a:cubicBezTo>
              </a:path>
              <a:path w="720" h="348">
                <a:moveTo>
                  <a:pt x="18157" y="15280"/>
                </a:moveTo>
                <a:cubicBezTo>
                  <a:pt x="18172" y="15339"/>
                  <a:pt x="18197" y="15329"/>
                  <a:pt x="18256" y="15329"/>
                </a:cubicBezTo>
                <a:cubicBezTo>
                  <a:pt x="18339" y="15329"/>
                  <a:pt x="18400" y="15315"/>
                  <a:pt x="18479" y="15304"/>
                </a:cubicBezTo>
                <a:cubicBezTo>
                  <a:pt x="18566" y="15291"/>
                  <a:pt x="18656" y="15304"/>
                  <a:pt x="18728" y="15329"/>
                </a:cubicBezTo>
                <a:cubicBezTo>
                  <a:pt x="18763" y="15341"/>
                  <a:pt x="18798" y="15317"/>
                  <a:pt x="18827" y="153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15120" y="5089680"/>
            <a:ext cx="625680" cy="598320"/>
          </a:xfrm>
          <a:custGeom>
            <a:avLst/>
            <a:gdLst/>
            <a:ahLst/>
            <a:rect l="l" t="t" r="r" b="b"/>
            <a:pathLst>
              <a:path w="1738" h="1663">
                <a:moveTo>
                  <a:pt x="20067" y="14139"/>
                </a:moveTo>
                <a:cubicBezTo>
                  <a:pt x="20129" y="14173"/>
                  <a:pt x="20121" y="14165"/>
                  <a:pt x="20141" y="14238"/>
                </a:cubicBezTo>
                <a:cubicBezTo>
                  <a:pt x="20174" y="14358"/>
                  <a:pt x="20145" y="14438"/>
                  <a:pt x="20141" y="14560"/>
                </a:cubicBezTo>
                <a:cubicBezTo>
                  <a:pt x="20134" y="14758"/>
                  <a:pt x="20104" y="14961"/>
                  <a:pt x="20067" y="15156"/>
                </a:cubicBezTo>
                <a:cubicBezTo>
                  <a:pt x="20045" y="15275"/>
                  <a:pt x="20042" y="15382"/>
                  <a:pt x="20042" y="15503"/>
                </a:cubicBezTo>
                <a:cubicBezTo>
                  <a:pt x="20042" y="15581"/>
                  <a:pt x="20061" y="15656"/>
                  <a:pt x="20092" y="15726"/>
                </a:cubicBezTo>
                <a:cubicBezTo>
                  <a:pt x="20115" y="15777"/>
                  <a:pt x="20111" y="15768"/>
                  <a:pt x="20166" y="15776"/>
                </a:cubicBezTo>
              </a:path>
              <a:path w="1738" h="1663">
                <a:moveTo>
                  <a:pt x="21481" y="14635"/>
                </a:moveTo>
                <a:cubicBezTo>
                  <a:pt x="21544" y="14520"/>
                  <a:pt x="21606" y="14502"/>
                  <a:pt x="21555" y="14387"/>
                </a:cubicBezTo>
                <a:cubicBezTo>
                  <a:pt x="21513" y="14293"/>
                  <a:pt x="21449" y="14270"/>
                  <a:pt x="21357" y="14238"/>
                </a:cubicBezTo>
                <a:cubicBezTo>
                  <a:pt x="21248" y="14200"/>
                  <a:pt x="21186" y="14215"/>
                  <a:pt x="21084" y="14263"/>
                </a:cubicBezTo>
                <a:cubicBezTo>
                  <a:pt x="20970" y="14317"/>
                  <a:pt x="20970" y="14473"/>
                  <a:pt x="20985" y="14585"/>
                </a:cubicBezTo>
                <a:cubicBezTo>
                  <a:pt x="21006" y="14742"/>
                  <a:pt x="21073" y="14880"/>
                  <a:pt x="21109" y="15032"/>
                </a:cubicBezTo>
                <a:cubicBezTo>
                  <a:pt x="21146" y="15186"/>
                  <a:pt x="21158" y="15321"/>
                  <a:pt x="21158" y="15478"/>
                </a:cubicBezTo>
                <a:cubicBezTo>
                  <a:pt x="21158" y="15569"/>
                  <a:pt x="21116" y="15770"/>
                  <a:pt x="21010" y="15801"/>
                </a:cubicBezTo>
                <a:cubicBezTo>
                  <a:pt x="20973" y="15812"/>
                  <a:pt x="20935" y="15801"/>
                  <a:pt x="20910" y="15776"/>
                </a:cubicBezTo>
                <a:cubicBezTo>
                  <a:pt x="20889" y="15754"/>
                  <a:pt x="20880" y="15686"/>
                  <a:pt x="20886" y="15652"/>
                </a:cubicBezTo>
                <a:cubicBezTo>
                  <a:pt x="20910" y="15510"/>
                  <a:pt x="21042" y="15383"/>
                  <a:pt x="21134" y="15280"/>
                </a:cubicBezTo>
                <a:cubicBezTo>
                  <a:pt x="21221" y="15183"/>
                  <a:pt x="21335" y="15117"/>
                  <a:pt x="21431" y="15032"/>
                </a:cubicBezTo>
                <a:cubicBezTo>
                  <a:pt x="21517" y="14956"/>
                  <a:pt x="21576" y="14866"/>
                  <a:pt x="21654" y="14784"/>
                </a:cubicBezTo>
                <a:cubicBezTo>
                  <a:pt x="21724" y="14711"/>
                  <a:pt x="21725" y="14647"/>
                  <a:pt x="21754" y="14560"/>
                </a:cubicBezTo>
                <a:cubicBezTo>
                  <a:pt x="21777" y="14492"/>
                  <a:pt x="21771" y="14528"/>
                  <a:pt x="21754" y="14461"/>
                </a:cubicBezTo>
              </a:path>
              <a:path w="1738" h="1663">
                <a:moveTo>
                  <a:pt x="21754" y="15776"/>
                </a:moveTo>
                <a:cubicBezTo>
                  <a:pt x="21762" y="15784"/>
                  <a:pt x="21771" y="15793"/>
                  <a:pt x="21779" y="158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34200" y="5133960"/>
            <a:ext cx="349560" cy="706320"/>
          </a:xfrm>
          <a:custGeom>
            <a:avLst/>
            <a:gdLst/>
            <a:ahLst/>
            <a:rect l="l" t="t" r="r" b="b"/>
            <a:pathLst>
              <a:path w="968" h="1960">
                <a:moveTo>
                  <a:pt x="23267" y="14932"/>
                </a:moveTo>
                <a:cubicBezTo>
                  <a:pt x="23348" y="14768"/>
                  <a:pt x="23347" y="14770"/>
                  <a:pt x="23292" y="14610"/>
                </a:cubicBezTo>
                <a:cubicBezTo>
                  <a:pt x="23229" y="14429"/>
                  <a:pt x="23114" y="14341"/>
                  <a:pt x="22920" y="14288"/>
                </a:cubicBezTo>
                <a:cubicBezTo>
                  <a:pt x="22879" y="14288"/>
                  <a:pt x="22837" y="14288"/>
                  <a:pt x="22796" y="14288"/>
                </a:cubicBezTo>
                <a:cubicBezTo>
                  <a:pt x="22737" y="14365"/>
                  <a:pt x="22709" y="14452"/>
                  <a:pt x="22721" y="14560"/>
                </a:cubicBezTo>
                <a:cubicBezTo>
                  <a:pt x="22738" y="14707"/>
                  <a:pt x="22791" y="14861"/>
                  <a:pt x="22820" y="15007"/>
                </a:cubicBezTo>
                <a:cubicBezTo>
                  <a:pt x="22858" y="15198"/>
                  <a:pt x="22891" y="15382"/>
                  <a:pt x="22895" y="15577"/>
                </a:cubicBezTo>
                <a:cubicBezTo>
                  <a:pt x="22898" y="15734"/>
                  <a:pt x="22859" y="15874"/>
                  <a:pt x="22820" y="16024"/>
                </a:cubicBezTo>
                <a:cubicBezTo>
                  <a:pt x="22795" y="16121"/>
                  <a:pt x="22789" y="16185"/>
                  <a:pt x="22696" y="16222"/>
                </a:cubicBezTo>
                <a:cubicBezTo>
                  <a:pt x="22671" y="16222"/>
                  <a:pt x="22663" y="16222"/>
                  <a:pt x="22647" y="16222"/>
                </a:cubicBezTo>
                <a:cubicBezTo>
                  <a:pt x="22621" y="16171"/>
                  <a:pt x="22600" y="16138"/>
                  <a:pt x="22597" y="16073"/>
                </a:cubicBezTo>
                <a:cubicBezTo>
                  <a:pt x="22593" y="15970"/>
                  <a:pt x="22642" y="15886"/>
                  <a:pt x="22696" y="15801"/>
                </a:cubicBezTo>
                <a:cubicBezTo>
                  <a:pt x="22756" y="15705"/>
                  <a:pt x="22840" y="15633"/>
                  <a:pt x="22920" y="15553"/>
                </a:cubicBezTo>
                <a:cubicBezTo>
                  <a:pt x="23002" y="15470"/>
                  <a:pt x="23085" y="15381"/>
                  <a:pt x="23192" y="15329"/>
                </a:cubicBezTo>
                <a:cubicBezTo>
                  <a:pt x="23303" y="15275"/>
                  <a:pt x="23372" y="15212"/>
                  <a:pt x="23440" y="15106"/>
                </a:cubicBezTo>
                <a:cubicBezTo>
                  <a:pt x="23522" y="14978"/>
                  <a:pt x="23560" y="14883"/>
                  <a:pt x="23564" y="14734"/>
                </a:cubicBezTo>
                <a:cubicBezTo>
                  <a:pt x="23569" y="14547"/>
                  <a:pt x="23475" y="14422"/>
                  <a:pt x="23391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1800" y="4803840"/>
            <a:ext cx="500040" cy="349200"/>
          </a:xfrm>
          <a:custGeom>
            <a:avLst/>
            <a:gdLst/>
            <a:ahLst/>
            <a:rect l="l" t="t" r="r" b="b"/>
            <a:pathLst>
              <a:path w="1390" h="968">
                <a:moveTo>
                  <a:pt x="2629" y="13841"/>
                </a:moveTo>
                <a:cubicBezTo>
                  <a:pt x="2603" y="13884"/>
                  <a:pt x="2550" y="13946"/>
                  <a:pt x="2530" y="13990"/>
                </a:cubicBezTo>
                <a:cubicBezTo>
                  <a:pt x="2514" y="14025"/>
                  <a:pt x="2518" y="14003"/>
                  <a:pt x="2505" y="14039"/>
                </a:cubicBezTo>
                <a:cubicBezTo>
                  <a:pt x="2555" y="14039"/>
                  <a:pt x="2564" y="14050"/>
                  <a:pt x="2604" y="14064"/>
                </a:cubicBezTo>
                <a:cubicBezTo>
                  <a:pt x="2654" y="14081"/>
                  <a:pt x="2698" y="14089"/>
                  <a:pt x="2753" y="14089"/>
                </a:cubicBezTo>
                <a:cubicBezTo>
                  <a:pt x="2781" y="14089"/>
                  <a:pt x="2792" y="14087"/>
                  <a:pt x="2803" y="14064"/>
                </a:cubicBezTo>
              </a:path>
              <a:path w="1390" h="968">
                <a:moveTo>
                  <a:pt x="2877" y="13717"/>
                </a:moveTo>
                <a:cubicBezTo>
                  <a:pt x="2885" y="13725"/>
                  <a:pt x="2894" y="13734"/>
                  <a:pt x="2902" y="13742"/>
                </a:cubicBezTo>
                <a:cubicBezTo>
                  <a:pt x="2869" y="13786"/>
                  <a:pt x="2877" y="13808"/>
                  <a:pt x="2877" y="13866"/>
                </a:cubicBezTo>
                <a:cubicBezTo>
                  <a:pt x="2877" y="13931"/>
                  <a:pt x="2856" y="13976"/>
                  <a:pt x="2853" y="14039"/>
                </a:cubicBezTo>
                <a:cubicBezTo>
                  <a:pt x="2849" y="14111"/>
                  <a:pt x="2861" y="14148"/>
                  <a:pt x="2877" y="14213"/>
                </a:cubicBezTo>
                <a:cubicBezTo>
                  <a:pt x="2880" y="14225"/>
                  <a:pt x="2864" y="14324"/>
                  <a:pt x="2902" y="14312"/>
                </a:cubicBezTo>
                <a:cubicBezTo>
                  <a:pt x="2904" y="14312"/>
                  <a:pt x="2925" y="14247"/>
                  <a:pt x="2927" y="14238"/>
                </a:cubicBezTo>
              </a:path>
              <a:path w="1390" h="968">
                <a:moveTo>
                  <a:pt x="3150" y="13791"/>
                </a:moveTo>
                <a:cubicBezTo>
                  <a:pt x="3168" y="13773"/>
                  <a:pt x="3243" y="13726"/>
                  <a:pt x="3249" y="13717"/>
                </a:cubicBezTo>
                <a:cubicBezTo>
                  <a:pt x="3270" y="13685"/>
                  <a:pt x="3273" y="13692"/>
                  <a:pt x="3324" y="13692"/>
                </a:cubicBezTo>
                <a:cubicBezTo>
                  <a:pt x="3367" y="13692"/>
                  <a:pt x="3394" y="13728"/>
                  <a:pt x="3398" y="13767"/>
                </a:cubicBezTo>
                <a:cubicBezTo>
                  <a:pt x="3405" y="13827"/>
                  <a:pt x="3388" y="13846"/>
                  <a:pt x="3373" y="13891"/>
                </a:cubicBezTo>
                <a:cubicBezTo>
                  <a:pt x="3360" y="13929"/>
                  <a:pt x="3345" y="13984"/>
                  <a:pt x="3324" y="14015"/>
                </a:cubicBezTo>
                <a:cubicBezTo>
                  <a:pt x="3303" y="14045"/>
                  <a:pt x="3255" y="14102"/>
                  <a:pt x="3249" y="14114"/>
                </a:cubicBezTo>
                <a:cubicBezTo>
                  <a:pt x="3235" y="14141"/>
                  <a:pt x="3203" y="14190"/>
                  <a:pt x="3249" y="14213"/>
                </a:cubicBezTo>
                <a:cubicBezTo>
                  <a:pt x="3289" y="14233"/>
                  <a:pt x="3349" y="14252"/>
                  <a:pt x="3398" y="14263"/>
                </a:cubicBezTo>
                <a:cubicBezTo>
                  <a:pt x="3436" y="14272"/>
                  <a:pt x="3445" y="14259"/>
                  <a:pt x="3473" y="14238"/>
                </a:cubicBezTo>
              </a:path>
              <a:path w="1390" h="968">
                <a:moveTo>
                  <a:pt x="3770" y="13395"/>
                </a:moveTo>
                <a:cubicBezTo>
                  <a:pt x="3742" y="13404"/>
                  <a:pt x="3725" y="13429"/>
                  <a:pt x="3721" y="13469"/>
                </a:cubicBezTo>
                <a:cubicBezTo>
                  <a:pt x="3718" y="13493"/>
                  <a:pt x="3721" y="13519"/>
                  <a:pt x="3721" y="13543"/>
                </a:cubicBezTo>
                <a:cubicBezTo>
                  <a:pt x="3778" y="13543"/>
                  <a:pt x="3820" y="13552"/>
                  <a:pt x="3845" y="13519"/>
                </a:cubicBezTo>
                <a:cubicBezTo>
                  <a:pt x="3869" y="13488"/>
                  <a:pt x="3871" y="13476"/>
                  <a:pt x="3894" y="13444"/>
                </a:cubicBezTo>
                <a:cubicBezTo>
                  <a:pt x="3863" y="13402"/>
                  <a:pt x="3859" y="13396"/>
                  <a:pt x="3820" y="13370"/>
                </a:cubicBezTo>
                <a:cubicBezTo>
                  <a:pt x="3812" y="13362"/>
                  <a:pt x="3803" y="13353"/>
                  <a:pt x="3795" y="133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66920" y="5340240"/>
            <a:ext cx="625320" cy="268560"/>
          </a:xfrm>
          <a:custGeom>
            <a:avLst/>
            <a:gdLst/>
            <a:ahLst/>
            <a:rect l="l" t="t" r="r" b="b"/>
            <a:pathLst>
              <a:path w="1737" h="745">
                <a:moveTo>
                  <a:pt x="3795" y="14982"/>
                </a:moveTo>
                <a:cubicBezTo>
                  <a:pt x="3798" y="14974"/>
                  <a:pt x="3837" y="14913"/>
                  <a:pt x="3845" y="14908"/>
                </a:cubicBezTo>
                <a:cubicBezTo>
                  <a:pt x="3865" y="14895"/>
                  <a:pt x="3885" y="14869"/>
                  <a:pt x="3919" y="14858"/>
                </a:cubicBezTo>
                <a:cubicBezTo>
                  <a:pt x="3935" y="14853"/>
                  <a:pt x="4010" y="14829"/>
                  <a:pt x="4018" y="14833"/>
                </a:cubicBezTo>
                <a:cubicBezTo>
                  <a:pt x="4050" y="14848"/>
                  <a:pt x="4113" y="14865"/>
                  <a:pt x="4142" y="14883"/>
                </a:cubicBezTo>
                <a:cubicBezTo>
                  <a:pt x="4168" y="14899"/>
                  <a:pt x="4189" y="14955"/>
                  <a:pt x="4192" y="14982"/>
                </a:cubicBezTo>
                <a:cubicBezTo>
                  <a:pt x="4198" y="15034"/>
                  <a:pt x="4179" y="15065"/>
                  <a:pt x="4167" y="15106"/>
                </a:cubicBezTo>
                <a:cubicBezTo>
                  <a:pt x="4153" y="15153"/>
                  <a:pt x="4101" y="15214"/>
                  <a:pt x="4068" y="15255"/>
                </a:cubicBezTo>
                <a:cubicBezTo>
                  <a:pt x="4040" y="15290"/>
                  <a:pt x="4001" y="15322"/>
                  <a:pt x="3969" y="15354"/>
                </a:cubicBezTo>
                <a:cubicBezTo>
                  <a:pt x="3938" y="15386"/>
                  <a:pt x="3905" y="15394"/>
                  <a:pt x="3870" y="15429"/>
                </a:cubicBezTo>
                <a:cubicBezTo>
                  <a:pt x="3837" y="15462"/>
                  <a:pt x="3845" y="15483"/>
                  <a:pt x="3845" y="15528"/>
                </a:cubicBezTo>
                <a:cubicBezTo>
                  <a:pt x="3886" y="15528"/>
                  <a:pt x="3909" y="15539"/>
                  <a:pt x="3944" y="15553"/>
                </a:cubicBezTo>
                <a:cubicBezTo>
                  <a:pt x="4008" y="15579"/>
                  <a:pt x="4048" y="15577"/>
                  <a:pt x="4118" y="15577"/>
                </a:cubicBezTo>
                <a:cubicBezTo>
                  <a:pt x="4167" y="15577"/>
                  <a:pt x="4217" y="15577"/>
                  <a:pt x="4266" y="15577"/>
                </a:cubicBezTo>
              </a:path>
              <a:path w="1737" h="745">
                <a:moveTo>
                  <a:pt x="4887" y="14957"/>
                </a:moveTo>
                <a:cubicBezTo>
                  <a:pt x="4879" y="14904"/>
                  <a:pt x="4874" y="14865"/>
                  <a:pt x="4812" y="14858"/>
                </a:cubicBezTo>
                <a:cubicBezTo>
                  <a:pt x="4754" y="14852"/>
                  <a:pt x="4680" y="14845"/>
                  <a:pt x="4638" y="14883"/>
                </a:cubicBezTo>
                <a:cubicBezTo>
                  <a:pt x="4589" y="14928"/>
                  <a:pt x="4625" y="14954"/>
                  <a:pt x="4638" y="15007"/>
                </a:cubicBezTo>
                <a:cubicBezTo>
                  <a:pt x="4657" y="15085"/>
                  <a:pt x="4693" y="15092"/>
                  <a:pt x="4738" y="15156"/>
                </a:cubicBezTo>
                <a:cubicBezTo>
                  <a:pt x="4788" y="15228"/>
                  <a:pt x="4847" y="15301"/>
                  <a:pt x="4887" y="15379"/>
                </a:cubicBezTo>
                <a:cubicBezTo>
                  <a:pt x="4914" y="15432"/>
                  <a:pt x="4911" y="15471"/>
                  <a:pt x="4911" y="15528"/>
                </a:cubicBezTo>
                <a:cubicBezTo>
                  <a:pt x="4911" y="15559"/>
                  <a:pt x="4871" y="15573"/>
                  <a:pt x="4837" y="15577"/>
                </a:cubicBezTo>
                <a:cubicBezTo>
                  <a:pt x="4814" y="15579"/>
                  <a:pt x="4749" y="15551"/>
                  <a:pt x="4738" y="15528"/>
                </a:cubicBezTo>
                <a:cubicBezTo>
                  <a:pt x="4724" y="15499"/>
                  <a:pt x="4694" y="15441"/>
                  <a:pt x="4713" y="15404"/>
                </a:cubicBezTo>
                <a:cubicBezTo>
                  <a:pt x="4735" y="15360"/>
                  <a:pt x="4756" y="15300"/>
                  <a:pt x="4787" y="15255"/>
                </a:cubicBezTo>
                <a:cubicBezTo>
                  <a:pt x="4818" y="15210"/>
                  <a:pt x="4848" y="15170"/>
                  <a:pt x="4887" y="15131"/>
                </a:cubicBezTo>
                <a:cubicBezTo>
                  <a:pt x="4920" y="15098"/>
                  <a:pt x="4960" y="15047"/>
                  <a:pt x="4986" y="15007"/>
                </a:cubicBezTo>
                <a:cubicBezTo>
                  <a:pt x="5013" y="14965"/>
                  <a:pt x="5025" y="14943"/>
                  <a:pt x="5060" y="14908"/>
                </a:cubicBezTo>
              </a:path>
              <a:path w="1737" h="745">
                <a:moveTo>
                  <a:pt x="5531" y="14833"/>
                </a:moveTo>
                <a:cubicBezTo>
                  <a:pt x="5531" y="14889"/>
                  <a:pt x="5522" y="14911"/>
                  <a:pt x="5507" y="14957"/>
                </a:cubicBezTo>
                <a:cubicBezTo>
                  <a:pt x="5495" y="14994"/>
                  <a:pt x="5503" y="15047"/>
                  <a:pt x="5482" y="15081"/>
                </a:cubicBezTo>
                <a:cubicBezTo>
                  <a:pt x="5459" y="15104"/>
                  <a:pt x="5451" y="15108"/>
                  <a:pt x="5457" y="151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03640" y="5830920"/>
            <a:ext cx="9360" cy="142920"/>
          </a:xfrm>
          <a:custGeom>
            <a:avLst/>
            <a:gdLst/>
            <a:ahLst/>
            <a:rect l="l" t="t" r="r" b="b"/>
            <a:pathLst>
              <a:path w="25" h="398">
                <a:moveTo>
                  <a:pt x="6400" y="16594"/>
                </a:moveTo>
                <a:cubicBezTo>
                  <a:pt x="6428" y="16557"/>
                  <a:pt x="6424" y="16542"/>
                  <a:pt x="6424" y="16495"/>
                </a:cubicBezTo>
                <a:cubicBezTo>
                  <a:pt x="6424" y="16454"/>
                  <a:pt x="6424" y="16412"/>
                  <a:pt x="6424" y="16371"/>
                </a:cubicBezTo>
                <a:cubicBezTo>
                  <a:pt x="6388" y="16358"/>
                  <a:pt x="6400" y="16341"/>
                  <a:pt x="6400" y="16297"/>
                </a:cubicBezTo>
                <a:cubicBezTo>
                  <a:pt x="6400" y="16264"/>
                  <a:pt x="6400" y="16230"/>
                  <a:pt x="6400" y="161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26120" y="4143240"/>
            <a:ext cx="1820880" cy="108000"/>
          </a:xfrm>
          <a:custGeom>
            <a:avLst/>
            <a:gdLst/>
            <a:ahLst/>
            <a:rect l="l" t="t" r="r" b="b"/>
            <a:pathLst>
              <a:path w="5061" h="299">
                <a:moveTo>
                  <a:pt x="17016" y="11807"/>
                </a:moveTo>
                <a:cubicBezTo>
                  <a:pt x="17088" y="11784"/>
                  <a:pt x="17184" y="11760"/>
                  <a:pt x="17264" y="11733"/>
                </a:cubicBezTo>
                <a:cubicBezTo>
                  <a:pt x="17411" y="11684"/>
                  <a:pt x="17534" y="11660"/>
                  <a:pt x="17686" y="11633"/>
                </a:cubicBezTo>
                <a:cubicBezTo>
                  <a:pt x="17999" y="11577"/>
                  <a:pt x="18336" y="11570"/>
                  <a:pt x="18653" y="11559"/>
                </a:cubicBezTo>
                <a:cubicBezTo>
                  <a:pt x="19091" y="11544"/>
                  <a:pt x="19534" y="11558"/>
                  <a:pt x="19968" y="11584"/>
                </a:cubicBezTo>
                <a:cubicBezTo>
                  <a:pt x="20337" y="11606"/>
                  <a:pt x="20718" y="11587"/>
                  <a:pt x="21084" y="11559"/>
                </a:cubicBezTo>
                <a:cubicBezTo>
                  <a:pt x="21217" y="11549"/>
                  <a:pt x="21350" y="11545"/>
                  <a:pt x="21481" y="11534"/>
                </a:cubicBezTo>
                <a:cubicBezTo>
                  <a:pt x="21668" y="11518"/>
                  <a:pt x="21930" y="11565"/>
                  <a:pt x="22076" y="11509"/>
                </a:cubicBezTo>
                <a:cubicBezTo>
                  <a:pt x="22068" y="11509"/>
                  <a:pt x="22059" y="11509"/>
                  <a:pt x="22051" y="115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38760" y="5500800"/>
            <a:ext cx="1785600" cy="9360"/>
          </a:xfrm>
          <a:custGeom>
            <a:avLst/>
            <a:gdLst/>
            <a:ahLst/>
            <a:rect l="l" t="t" r="r" b="b"/>
            <a:pathLst>
              <a:path w="4962" h="25">
                <a:moveTo>
                  <a:pt x="10939" y="15280"/>
                </a:moveTo>
                <a:cubicBezTo>
                  <a:pt x="11003" y="15291"/>
                  <a:pt x="11046" y="15299"/>
                  <a:pt x="11112" y="15304"/>
                </a:cubicBezTo>
                <a:cubicBezTo>
                  <a:pt x="12089" y="15375"/>
                  <a:pt x="13115" y="15325"/>
                  <a:pt x="14089" y="15280"/>
                </a:cubicBezTo>
                <a:cubicBezTo>
                  <a:pt x="14404" y="15266"/>
                  <a:pt x="14720" y="15285"/>
                  <a:pt x="15032" y="15304"/>
                </a:cubicBezTo>
                <a:cubicBezTo>
                  <a:pt x="15319" y="15321"/>
                  <a:pt x="15612" y="15304"/>
                  <a:pt x="15900" y="153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4.  The angles of elevation to a plane from two points A and B on level ground are 55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 and 72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 respectively.  A and B are 2.2 miles apart and the plane is east of both points.  How far is the plane from point B?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120" y="3652920"/>
            <a:ext cx="1714680" cy="731880"/>
          </a:xfrm>
          <a:custGeom>
            <a:avLst/>
            <a:gdLst/>
            <a:ahLst/>
            <a:rect l="l" t="t" r="r" b="b"/>
            <a:pathLst>
              <a:path w="4764" h="2035">
                <a:moveTo>
                  <a:pt x="1488" y="10368"/>
                </a:moveTo>
                <a:cubicBezTo>
                  <a:pt x="1488" y="10385"/>
                  <a:pt x="1488" y="10401"/>
                  <a:pt x="1488" y="10418"/>
                </a:cubicBezTo>
                <a:cubicBezTo>
                  <a:pt x="1481" y="10373"/>
                  <a:pt x="1482" y="10349"/>
                  <a:pt x="1439" y="10344"/>
                </a:cubicBezTo>
                <a:cubicBezTo>
                  <a:pt x="1390" y="10338"/>
                  <a:pt x="1378" y="10355"/>
                  <a:pt x="1339" y="10368"/>
                </a:cubicBezTo>
                <a:cubicBezTo>
                  <a:pt x="1293" y="10383"/>
                  <a:pt x="1281" y="10409"/>
                  <a:pt x="1240" y="10418"/>
                </a:cubicBezTo>
                <a:cubicBezTo>
                  <a:pt x="1207" y="10425"/>
                  <a:pt x="1151" y="10475"/>
                  <a:pt x="1141" y="10492"/>
                </a:cubicBezTo>
                <a:cubicBezTo>
                  <a:pt x="1141" y="10525"/>
                  <a:pt x="1141" y="10542"/>
                  <a:pt x="1141" y="10567"/>
                </a:cubicBezTo>
                <a:cubicBezTo>
                  <a:pt x="1180" y="10567"/>
                  <a:pt x="1215" y="10556"/>
                  <a:pt x="1240" y="10592"/>
                </a:cubicBezTo>
                <a:cubicBezTo>
                  <a:pt x="1268" y="10632"/>
                  <a:pt x="1333" y="10700"/>
                  <a:pt x="1389" y="10716"/>
                </a:cubicBezTo>
                <a:cubicBezTo>
                  <a:pt x="1441" y="10731"/>
                  <a:pt x="1502" y="10779"/>
                  <a:pt x="1538" y="10840"/>
                </a:cubicBezTo>
                <a:cubicBezTo>
                  <a:pt x="1553" y="10865"/>
                  <a:pt x="1538" y="10927"/>
                  <a:pt x="1513" y="10939"/>
                </a:cubicBezTo>
                <a:cubicBezTo>
                  <a:pt x="1474" y="10958"/>
                  <a:pt x="1438" y="10942"/>
                  <a:pt x="1414" y="10939"/>
                </a:cubicBezTo>
                <a:cubicBezTo>
                  <a:pt x="1363" y="10932"/>
                  <a:pt x="1314" y="10919"/>
                  <a:pt x="1265" y="10914"/>
                </a:cubicBezTo>
                <a:cubicBezTo>
                  <a:pt x="1220" y="10909"/>
                  <a:pt x="1208" y="10872"/>
                  <a:pt x="1191" y="10864"/>
                </a:cubicBezTo>
                <a:cubicBezTo>
                  <a:pt x="1155" y="10846"/>
                  <a:pt x="1159" y="10857"/>
                  <a:pt x="1191" y="10815"/>
                </a:cubicBezTo>
              </a:path>
              <a:path w="4764" h="2035">
                <a:moveTo>
                  <a:pt x="1811" y="10517"/>
                </a:moveTo>
                <a:cubicBezTo>
                  <a:pt x="1795" y="10614"/>
                  <a:pt x="1786" y="10693"/>
                  <a:pt x="1786" y="10790"/>
                </a:cubicBezTo>
                <a:cubicBezTo>
                  <a:pt x="1786" y="10800"/>
                  <a:pt x="1803" y="10907"/>
                  <a:pt x="1811" y="10914"/>
                </a:cubicBezTo>
                <a:cubicBezTo>
                  <a:pt x="1828" y="10928"/>
                  <a:pt x="1854" y="10903"/>
                  <a:pt x="1811" y="10889"/>
                </a:cubicBezTo>
              </a:path>
              <a:path w="4764" h="2035">
                <a:moveTo>
                  <a:pt x="1860" y="10269"/>
                </a:moveTo>
                <a:cubicBezTo>
                  <a:pt x="1868" y="10253"/>
                  <a:pt x="1877" y="10236"/>
                  <a:pt x="1885" y="10220"/>
                </a:cubicBezTo>
              </a:path>
              <a:path w="4764" h="2035">
                <a:moveTo>
                  <a:pt x="2034" y="10691"/>
                </a:moveTo>
                <a:cubicBezTo>
                  <a:pt x="2034" y="10761"/>
                  <a:pt x="2057" y="10939"/>
                  <a:pt x="2009" y="10889"/>
                </a:cubicBezTo>
                <a:cubicBezTo>
                  <a:pt x="1982" y="10861"/>
                  <a:pt x="2031" y="10806"/>
                  <a:pt x="2034" y="10790"/>
                </a:cubicBezTo>
                <a:cubicBezTo>
                  <a:pt x="2044" y="10746"/>
                  <a:pt x="2051" y="10684"/>
                  <a:pt x="2059" y="10641"/>
                </a:cubicBezTo>
                <a:cubicBezTo>
                  <a:pt x="2064" y="10611"/>
                  <a:pt x="2085" y="10511"/>
                  <a:pt x="2108" y="10492"/>
                </a:cubicBezTo>
                <a:cubicBezTo>
                  <a:pt x="2136" y="10468"/>
                  <a:pt x="2264" y="10490"/>
                  <a:pt x="2282" y="10517"/>
                </a:cubicBezTo>
                <a:cubicBezTo>
                  <a:pt x="2326" y="10580"/>
                  <a:pt x="2325" y="10618"/>
                  <a:pt x="2356" y="10691"/>
                </a:cubicBezTo>
                <a:cubicBezTo>
                  <a:pt x="2379" y="10746"/>
                  <a:pt x="2401" y="10798"/>
                  <a:pt x="2406" y="10864"/>
                </a:cubicBezTo>
                <a:cubicBezTo>
                  <a:pt x="2409" y="10901"/>
                  <a:pt x="2405" y="10990"/>
                  <a:pt x="2431" y="10964"/>
                </a:cubicBezTo>
                <a:cubicBezTo>
                  <a:pt x="2431" y="10939"/>
                  <a:pt x="2431" y="10931"/>
                  <a:pt x="2431" y="10914"/>
                </a:cubicBezTo>
              </a:path>
              <a:path w="4764" h="2035">
                <a:moveTo>
                  <a:pt x="2778" y="10269"/>
                </a:moveTo>
                <a:cubicBezTo>
                  <a:pt x="2847" y="10269"/>
                  <a:pt x="2887" y="10278"/>
                  <a:pt x="2952" y="10294"/>
                </a:cubicBezTo>
                <a:cubicBezTo>
                  <a:pt x="2997" y="10305"/>
                  <a:pt x="3012" y="10273"/>
                  <a:pt x="3051" y="10269"/>
                </a:cubicBezTo>
                <a:cubicBezTo>
                  <a:pt x="3059" y="10269"/>
                  <a:pt x="3068" y="10269"/>
                  <a:pt x="3076" y="10269"/>
                </a:cubicBezTo>
              </a:path>
              <a:path w="4764" h="2035">
                <a:moveTo>
                  <a:pt x="2778" y="10294"/>
                </a:moveTo>
                <a:cubicBezTo>
                  <a:pt x="2738" y="10367"/>
                  <a:pt x="2711" y="10414"/>
                  <a:pt x="2704" y="10492"/>
                </a:cubicBezTo>
                <a:cubicBezTo>
                  <a:pt x="2700" y="10540"/>
                  <a:pt x="2700" y="10548"/>
                  <a:pt x="2729" y="10567"/>
                </a:cubicBezTo>
                <a:cubicBezTo>
                  <a:pt x="2760" y="10545"/>
                  <a:pt x="2749" y="10510"/>
                  <a:pt x="2803" y="10492"/>
                </a:cubicBezTo>
                <a:cubicBezTo>
                  <a:pt x="2853" y="10475"/>
                  <a:pt x="2890" y="10505"/>
                  <a:pt x="2927" y="10517"/>
                </a:cubicBezTo>
                <a:cubicBezTo>
                  <a:pt x="2953" y="10526"/>
                  <a:pt x="2979" y="10599"/>
                  <a:pt x="3001" y="10641"/>
                </a:cubicBezTo>
                <a:cubicBezTo>
                  <a:pt x="3012" y="10662"/>
                  <a:pt x="3053" y="10779"/>
                  <a:pt x="3051" y="10790"/>
                </a:cubicBezTo>
                <a:cubicBezTo>
                  <a:pt x="3040" y="10843"/>
                  <a:pt x="3014" y="10856"/>
                  <a:pt x="2977" y="10889"/>
                </a:cubicBezTo>
                <a:cubicBezTo>
                  <a:pt x="2942" y="10921"/>
                  <a:pt x="2923" y="10914"/>
                  <a:pt x="2877" y="10914"/>
                </a:cubicBezTo>
                <a:cubicBezTo>
                  <a:pt x="2817" y="10914"/>
                  <a:pt x="2803" y="10895"/>
                  <a:pt x="2753" y="10889"/>
                </a:cubicBezTo>
                <a:cubicBezTo>
                  <a:pt x="2712" y="10884"/>
                  <a:pt x="2743" y="10877"/>
                  <a:pt x="2704" y="10864"/>
                </a:cubicBezTo>
              </a:path>
              <a:path w="4764" h="2035">
                <a:moveTo>
                  <a:pt x="3274" y="10269"/>
                </a:moveTo>
                <a:cubicBezTo>
                  <a:pt x="3365" y="10269"/>
                  <a:pt x="3456" y="10269"/>
                  <a:pt x="3547" y="10269"/>
                </a:cubicBezTo>
              </a:path>
              <a:path w="4764" h="2035">
                <a:moveTo>
                  <a:pt x="3299" y="10294"/>
                </a:moveTo>
                <a:cubicBezTo>
                  <a:pt x="3273" y="10354"/>
                  <a:pt x="3287" y="10439"/>
                  <a:pt x="3249" y="10492"/>
                </a:cubicBezTo>
                <a:cubicBezTo>
                  <a:pt x="3225" y="10525"/>
                  <a:pt x="3225" y="10487"/>
                  <a:pt x="3225" y="10567"/>
                </a:cubicBezTo>
                <a:cubicBezTo>
                  <a:pt x="3261" y="10548"/>
                  <a:pt x="3279" y="10507"/>
                  <a:pt x="3324" y="10492"/>
                </a:cubicBezTo>
                <a:cubicBezTo>
                  <a:pt x="3369" y="10477"/>
                  <a:pt x="3390" y="10506"/>
                  <a:pt x="3423" y="10517"/>
                </a:cubicBezTo>
                <a:cubicBezTo>
                  <a:pt x="3469" y="10532"/>
                  <a:pt x="3513" y="10586"/>
                  <a:pt x="3522" y="10641"/>
                </a:cubicBezTo>
                <a:cubicBezTo>
                  <a:pt x="3530" y="10689"/>
                  <a:pt x="3567" y="10788"/>
                  <a:pt x="3547" y="10840"/>
                </a:cubicBezTo>
                <a:cubicBezTo>
                  <a:pt x="3533" y="10876"/>
                  <a:pt x="3455" y="10928"/>
                  <a:pt x="3423" y="10939"/>
                </a:cubicBezTo>
                <a:cubicBezTo>
                  <a:pt x="3371" y="10956"/>
                  <a:pt x="3331" y="10964"/>
                  <a:pt x="3274" y="10964"/>
                </a:cubicBezTo>
                <a:cubicBezTo>
                  <a:pt x="3250" y="10964"/>
                  <a:pt x="3187" y="10938"/>
                  <a:pt x="3175" y="10914"/>
                </a:cubicBezTo>
                <a:cubicBezTo>
                  <a:pt x="3175" y="10886"/>
                  <a:pt x="3177" y="10875"/>
                  <a:pt x="3200" y="10864"/>
                </a:cubicBezTo>
              </a:path>
              <a:path w="4764" h="2035">
                <a:moveTo>
                  <a:pt x="3820" y="10195"/>
                </a:moveTo>
                <a:cubicBezTo>
                  <a:pt x="3776" y="10292"/>
                  <a:pt x="3770" y="10255"/>
                  <a:pt x="3770" y="10368"/>
                </a:cubicBezTo>
                <a:cubicBezTo>
                  <a:pt x="3770" y="10412"/>
                  <a:pt x="3806" y="10465"/>
                  <a:pt x="3870" y="10443"/>
                </a:cubicBezTo>
                <a:cubicBezTo>
                  <a:pt x="3923" y="10425"/>
                  <a:pt x="3934" y="10410"/>
                  <a:pt x="3969" y="10368"/>
                </a:cubicBezTo>
                <a:cubicBezTo>
                  <a:pt x="4000" y="10331"/>
                  <a:pt x="4022" y="10228"/>
                  <a:pt x="3969" y="10195"/>
                </a:cubicBezTo>
                <a:cubicBezTo>
                  <a:pt x="3944" y="10180"/>
                  <a:pt x="3893" y="10150"/>
                  <a:pt x="3870" y="10145"/>
                </a:cubicBezTo>
                <a:cubicBezTo>
                  <a:pt x="3830" y="10145"/>
                  <a:pt x="3811" y="10156"/>
                  <a:pt x="3795" y="10195"/>
                </a:cubicBezTo>
              </a:path>
              <a:path w="4764" h="2035">
                <a:moveTo>
                  <a:pt x="1439" y="11038"/>
                </a:moveTo>
                <a:cubicBezTo>
                  <a:pt x="1480" y="11063"/>
                  <a:pt x="1533" y="11080"/>
                  <a:pt x="1588" y="11088"/>
                </a:cubicBezTo>
                <a:cubicBezTo>
                  <a:pt x="1971" y="11143"/>
                  <a:pt x="2392" y="11087"/>
                  <a:pt x="2778" y="11112"/>
                </a:cubicBezTo>
                <a:cubicBezTo>
                  <a:pt x="2996" y="11126"/>
                  <a:pt x="3238" y="11135"/>
                  <a:pt x="3448" y="11088"/>
                </a:cubicBezTo>
                <a:cubicBezTo>
                  <a:pt x="3456" y="11088"/>
                  <a:pt x="3465" y="11088"/>
                  <a:pt x="3473" y="11088"/>
                </a:cubicBezTo>
                <a:cubicBezTo>
                  <a:pt x="3391" y="11074"/>
                  <a:pt x="3403" y="11070"/>
                  <a:pt x="3324" y="11088"/>
                </a:cubicBezTo>
              </a:path>
              <a:path w="4764" h="2035">
                <a:moveTo>
                  <a:pt x="2059" y="11485"/>
                </a:moveTo>
                <a:cubicBezTo>
                  <a:pt x="2089" y="11524"/>
                  <a:pt x="2100" y="11566"/>
                  <a:pt x="2133" y="11609"/>
                </a:cubicBezTo>
                <a:cubicBezTo>
                  <a:pt x="2174" y="11663"/>
                  <a:pt x="2196" y="11723"/>
                  <a:pt x="2232" y="11782"/>
                </a:cubicBezTo>
                <a:cubicBezTo>
                  <a:pt x="2292" y="11880"/>
                  <a:pt x="2357" y="11967"/>
                  <a:pt x="2431" y="12055"/>
                </a:cubicBezTo>
                <a:cubicBezTo>
                  <a:pt x="2466" y="12097"/>
                  <a:pt x="2490" y="12139"/>
                  <a:pt x="2530" y="12179"/>
                </a:cubicBezTo>
                <a:cubicBezTo>
                  <a:pt x="2530" y="12135"/>
                  <a:pt x="2532" y="12140"/>
                  <a:pt x="2505" y="12105"/>
                </a:cubicBezTo>
              </a:path>
              <a:path w="4764" h="2035">
                <a:moveTo>
                  <a:pt x="2480" y="11410"/>
                </a:moveTo>
                <a:cubicBezTo>
                  <a:pt x="2416" y="11474"/>
                  <a:pt x="2363" y="11542"/>
                  <a:pt x="2307" y="11609"/>
                </a:cubicBezTo>
                <a:cubicBezTo>
                  <a:pt x="2245" y="11683"/>
                  <a:pt x="2171" y="11737"/>
                  <a:pt x="2108" y="11807"/>
                </a:cubicBezTo>
                <a:cubicBezTo>
                  <a:pt x="2049" y="11872"/>
                  <a:pt x="1979" y="11883"/>
                  <a:pt x="1910" y="11931"/>
                </a:cubicBezTo>
                <a:cubicBezTo>
                  <a:pt x="1878" y="11953"/>
                  <a:pt x="1812" y="11969"/>
                  <a:pt x="1860" y="11931"/>
                </a:cubicBezTo>
                <a:cubicBezTo>
                  <a:pt x="1868" y="11931"/>
                  <a:pt x="1877" y="11931"/>
                  <a:pt x="1885" y="11931"/>
                </a:cubicBezTo>
              </a:path>
              <a:path w="4764" h="2035">
                <a:moveTo>
                  <a:pt x="3770" y="11212"/>
                </a:moveTo>
                <a:cubicBezTo>
                  <a:pt x="3875" y="11212"/>
                  <a:pt x="3966" y="11216"/>
                  <a:pt x="4068" y="11237"/>
                </a:cubicBezTo>
                <a:cubicBezTo>
                  <a:pt x="4128" y="11249"/>
                  <a:pt x="4204" y="11237"/>
                  <a:pt x="4266" y="11237"/>
                </a:cubicBezTo>
                <a:cubicBezTo>
                  <a:pt x="4242" y="11212"/>
                  <a:pt x="4234" y="11204"/>
                  <a:pt x="4217" y="11237"/>
                </a:cubicBezTo>
              </a:path>
              <a:path w="4764" h="2035">
                <a:moveTo>
                  <a:pt x="3696" y="11410"/>
                </a:moveTo>
                <a:cubicBezTo>
                  <a:pt x="3709" y="11450"/>
                  <a:pt x="3744" y="11435"/>
                  <a:pt x="3795" y="11435"/>
                </a:cubicBezTo>
                <a:cubicBezTo>
                  <a:pt x="3919" y="11435"/>
                  <a:pt x="4043" y="11435"/>
                  <a:pt x="4167" y="11435"/>
                </a:cubicBezTo>
              </a:path>
              <a:path w="4764" h="2035">
                <a:moveTo>
                  <a:pt x="4936" y="10517"/>
                </a:moveTo>
                <a:cubicBezTo>
                  <a:pt x="4936" y="10559"/>
                  <a:pt x="4928" y="10575"/>
                  <a:pt x="4961" y="10567"/>
                </a:cubicBezTo>
                <a:cubicBezTo>
                  <a:pt x="4921" y="10547"/>
                  <a:pt x="4914" y="10498"/>
                  <a:pt x="4862" y="10492"/>
                </a:cubicBezTo>
                <a:cubicBezTo>
                  <a:pt x="4809" y="10486"/>
                  <a:pt x="4826" y="10443"/>
                  <a:pt x="4762" y="10443"/>
                </a:cubicBezTo>
                <a:cubicBezTo>
                  <a:pt x="4682" y="10443"/>
                  <a:pt x="4724" y="10452"/>
                  <a:pt x="4663" y="10492"/>
                </a:cubicBezTo>
                <a:cubicBezTo>
                  <a:pt x="4626" y="10516"/>
                  <a:pt x="4592" y="10525"/>
                  <a:pt x="4614" y="10592"/>
                </a:cubicBezTo>
                <a:cubicBezTo>
                  <a:pt x="4627" y="10631"/>
                  <a:pt x="4705" y="10712"/>
                  <a:pt x="4738" y="10740"/>
                </a:cubicBezTo>
                <a:cubicBezTo>
                  <a:pt x="4819" y="10811"/>
                  <a:pt x="4890" y="10860"/>
                  <a:pt x="4936" y="10939"/>
                </a:cubicBezTo>
                <a:cubicBezTo>
                  <a:pt x="4964" y="10967"/>
                  <a:pt x="4973" y="10980"/>
                  <a:pt x="4961" y="11013"/>
                </a:cubicBezTo>
                <a:cubicBezTo>
                  <a:pt x="4916" y="11047"/>
                  <a:pt x="4872" y="11060"/>
                  <a:pt x="4812" y="11063"/>
                </a:cubicBezTo>
                <a:cubicBezTo>
                  <a:pt x="4739" y="11067"/>
                  <a:pt x="4680" y="11067"/>
                  <a:pt x="4614" y="11038"/>
                </a:cubicBezTo>
                <a:cubicBezTo>
                  <a:pt x="4580" y="11023"/>
                  <a:pt x="4537" y="10987"/>
                  <a:pt x="4564" y="10939"/>
                </a:cubicBezTo>
                <a:cubicBezTo>
                  <a:pt x="4605" y="10898"/>
                  <a:pt x="4630" y="10873"/>
                  <a:pt x="4663" y="10840"/>
                </a:cubicBezTo>
              </a:path>
              <a:path w="4764" h="2035">
                <a:moveTo>
                  <a:pt x="5234" y="10567"/>
                </a:moveTo>
                <a:cubicBezTo>
                  <a:pt x="5228" y="10642"/>
                  <a:pt x="5229" y="10743"/>
                  <a:pt x="5209" y="10815"/>
                </a:cubicBezTo>
                <a:cubicBezTo>
                  <a:pt x="5200" y="10846"/>
                  <a:pt x="5196" y="10940"/>
                  <a:pt x="5184" y="10964"/>
                </a:cubicBezTo>
                <a:cubicBezTo>
                  <a:pt x="5176" y="10972"/>
                  <a:pt x="5167" y="10980"/>
                  <a:pt x="5159" y="10988"/>
                </a:cubicBezTo>
                <a:cubicBezTo>
                  <a:pt x="5159" y="11069"/>
                  <a:pt x="5159" y="10891"/>
                  <a:pt x="5159" y="10889"/>
                </a:cubicBezTo>
              </a:path>
              <a:path w="4764" h="2035">
                <a:moveTo>
                  <a:pt x="5333" y="10344"/>
                </a:moveTo>
                <a:cubicBezTo>
                  <a:pt x="5372" y="10305"/>
                  <a:pt x="5373" y="10288"/>
                  <a:pt x="5407" y="10294"/>
                </a:cubicBezTo>
              </a:path>
              <a:path w="4764" h="2035">
                <a:moveTo>
                  <a:pt x="5383" y="10716"/>
                </a:moveTo>
                <a:cubicBezTo>
                  <a:pt x="5383" y="10807"/>
                  <a:pt x="5383" y="10897"/>
                  <a:pt x="5383" y="10988"/>
                </a:cubicBezTo>
                <a:cubicBezTo>
                  <a:pt x="5383" y="10943"/>
                  <a:pt x="5403" y="10929"/>
                  <a:pt x="5407" y="10889"/>
                </a:cubicBezTo>
                <a:cubicBezTo>
                  <a:pt x="5416" y="10807"/>
                  <a:pt x="5442" y="10766"/>
                  <a:pt x="5482" y="10691"/>
                </a:cubicBezTo>
                <a:cubicBezTo>
                  <a:pt x="5512" y="10635"/>
                  <a:pt x="5572" y="10602"/>
                  <a:pt x="5631" y="10592"/>
                </a:cubicBezTo>
                <a:cubicBezTo>
                  <a:pt x="5679" y="10584"/>
                  <a:pt x="5760" y="10608"/>
                  <a:pt x="5779" y="10641"/>
                </a:cubicBezTo>
                <a:cubicBezTo>
                  <a:pt x="5818" y="10708"/>
                  <a:pt x="5824" y="10801"/>
                  <a:pt x="5854" y="10864"/>
                </a:cubicBezTo>
                <a:cubicBezTo>
                  <a:pt x="5871" y="10901"/>
                  <a:pt x="5897" y="10951"/>
                  <a:pt x="5904" y="10988"/>
                </a:cubicBezTo>
                <a:cubicBezTo>
                  <a:pt x="5917" y="11051"/>
                  <a:pt x="5893" y="11081"/>
                  <a:pt x="5879" y="11137"/>
                </a:cubicBezTo>
                <a:cubicBezTo>
                  <a:pt x="5879" y="11177"/>
                  <a:pt x="5868" y="11196"/>
                  <a:pt x="5829" y="11212"/>
                </a:cubicBezTo>
              </a:path>
              <a:path w="4764" h="2035">
                <a:moveTo>
                  <a:pt x="3696" y="11013"/>
                </a:moveTo>
                <a:cubicBezTo>
                  <a:pt x="3679" y="11013"/>
                  <a:pt x="3663" y="11013"/>
                  <a:pt x="3646" y="11013"/>
                </a:cubicBezTo>
                <a:cubicBezTo>
                  <a:pt x="3705" y="11030"/>
                  <a:pt x="3785" y="11086"/>
                  <a:pt x="3845" y="11137"/>
                </a:cubicBezTo>
                <a:cubicBezTo>
                  <a:pt x="3954" y="11230"/>
                  <a:pt x="4066" y="11291"/>
                  <a:pt x="4192" y="11361"/>
                </a:cubicBezTo>
                <a:cubicBezTo>
                  <a:pt x="4320" y="11433"/>
                  <a:pt x="4445" y="11508"/>
                  <a:pt x="4564" y="11584"/>
                </a:cubicBezTo>
                <a:cubicBezTo>
                  <a:pt x="4603" y="11609"/>
                  <a:pt x="4679" y="11656"/>
                  <a:pt x="4638" y="11633"/>
                </a:cubicBezTo>
                <a:cubicBezTo>
                  <a:pt x="4630" y="11625"/>
                  <a:pt x="4622" y="11617"/>
                  <a:pt x="4614" y="11609"/>
                </a:cubicBezTo>
              </a:path>
              <a:path w="4764" h="2035">
                <a:moveTo>
                  <a:pt x="3299" y="11584"/>
                </a:moveTo>
                <a:cubicBezTo>
                  <a:pt x="3404" y="11509"/>
                  <a:pt x="3506" y="11444"/>
                  <a:pt x="3621" y="11385"/>
                </a:cubicBezTo>
                <a:cubicBezTo>
                  <a:pt x="3770" y="11309"/>
                  <a:pt x="3919" y="11239"/>
                  <a:pt x="4068" y="11162"/>
                </a:cubicBezTo>
                <a:cubicBezTo>
                  <a:pt x="4184" y="11102"/>
                  <a:pt x="4298" y="11041"/>
                  <a:pt x="4415" y="10988"/>
                </a:cubicBezTo>
                <a:cubicBezTo>
                  <a:pt x="4457" y="10969"/>
                  <a:pt x="4457" y="10972"/>
                  <a:pt x="4490" y="10939"/>
                </a:cubicBezTo>
                <a:cubicBezTo>
                  <a:pt x="4462" y="10963"/>
                  <a:pt x="4412" y="11009"/>
                  <a:pt x="4366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8200" y="4081320"/>
            <a:ext cx="8609040" cy="2079720"/>
          </a:xfrm>
          <a:custGeom>
            <a:avLst/>
            <a:gdLst/>
            <a:ahLst/>
            <a:rect l="l" t="t" r="r" b="b"/>
            <a:pathLst>
              <a:path w="23913" h="5780">
                <a:moveTo>
                  <a:pt x="14312" y="13146"/>
                </a:moveTo>
                <a:cubicBezTo>
                  <a:pt x="14295" y="13106"/>
                  <a:pt x="14281" y="13063"/>
                  <a:pt x="14263" y="13022"/>
                </a:cubicBezTo>
                <a:cubicBezTo>
                  <a:pt x="14245" y="12980"/>
                  <a:pt x="14234" y="12940"/>
                  <a:pt x="14213" y="12898"/>
                </a:cubicBezTo>
                <a:cubicBezTo>
                  <a:pt x="14188" y="12848"/>
                  <a:pt x="14171" y="12804"/>
                  <a:pt x="14139" y="12750"/>
                </a:cubicBezTo>
                <a:cubicBezTo>
                  <a:pt x="14103" y="12689"/>
                  <a:pt x="14053" y="12636"/>
                  <a:pt x="14015" y="12576"/>
                </a:cubicBezTo>
                <a:cubicBezTo>
                  <a:pt x="13980" y="12521"/>
                  <a:pt x="13950" y="12455"/>
                  <a:pt x="13915" y="12402"/>
                </a:cubicBezTo>
                <a:cubicBezTo>
                  <a:pt x="13882" y="12353"/>
                  <a:pt x="13850" y="12326"/>
                  <a:pt x="13816" y="12278"/>
                </a:cubicBezTo>
                <a:cubicBezTo>
                  <a:pt x="13778" y="12224"/>
                  <a:pt x="13727" y="12167"/>
                  <a:pt x="13692" y="12129"/>
                </a:cubicBezTo>
                <a:cubicBezTo>
                  <a:pt x="13662" y="12096"/>
                  <a:pt x="13653" y="12065"/>
                  <a:pt x="13618" y="12030"/>
                </a:cubicBezTo>
                <a:cubicBezTo>
                  <a:pt x="13581" y="11992"/>
                  <a:pt x="13582" y="11992"/>
                  <a:pt x="13543" y="11956"/>
                </a:cubicBezTo>
                <a:cubicBezTo>
                  <a:pt x="13535" y="11956"/>
                  <a:pt x="13527" y="11956"/>
                  <a:pt x="13519" y="11956"/>
                </a:cubicBezTo>
                <a:cubicBezTo>
                  <a:pt x="13533" y="11952"/>
                  <a:pt x="13568" y="11912"/>
                  <a:pt x="13593" y="11906"/>
                </a:cubicBezTo>
                <a:cubicBezTo>
                  <a:pt x="13631" y="11897"/>
                  <a:pt x="13650" y="11887"/>
                  <a:pt x="13692" y="11881"/>
                </a:cubicBezTo>
                <a:cubicBezTo>
                  <a:pt x="13733" y="11875"/>
                  <a:pt x="13754" y="11864"/>
                  <a:pt x="13791" y="11857"/>
                </a:cubicBezTo>
                <a:cubicBezTo>
                  <a:pt x="13890" y="11838"/>
                  <a:pt x="13995" y="11842"/>
                  <a:pt x="14089" y="11832"/>
                </a:cubicBezTo>
                <a:cubicBezTo>
                  <a:pt x="14198" y="11820"/>
                  <a:pt x="14304" y="11812"/>
                  <a:pt x="14412" y="11807"/>
                </a:cubicBezTo>
                <a:cubicBezTo>
                  <a:pt x="14544" y="11801"/>
                  <a:pt x="14662" y="11795"/>
                  <a:pt x="14784" y="11782"/>
                </a:cubicBezTo>
                <a:cubicBezTo>
                  <a:pt x="14823" y="11778"/>
                  <a:pt x="14849" y="11755"/>
                  <a:pt x="14883" y="11757"/>
                </a:cubicBezTo>
                <a:cubicBezTo>
                  <a:pt x="14923" y="11759"/>
                  <a:pt x="14950" y="11725"/>
                  <a:pt x="14982" y="11733"/>
                </a:cubicBezTo>
                <a:cubicBezTo>
                  <a:pt x="15006" y="11739"/>
                  <a:pt x="15027" y="11742"/>
                  <a:pt x="15056" y="11757"/>
                </a:cubicBezTo>
                <a:cubicBezTo>
                  <a:pt x="15060" y="11759"/>
                  <a:pt x="15098" y="11826"/>
                  <a:pt x="15106" y="11832"/>
                </a:cubicBezTo>
                <a:cubicBezTo>
                  <a:pt x="15126" y="11847"/>
                  <a:pt x="15124" y="11879"/>
                  <a:pt x="15156" y="11906"/>
                </a:cubicBezTo>
                <a:cubicBezTo>
                  <a:pt x="15195" y="11939"/>
                  <a:pt x="15197" y="11975"/>
                  <a:pt x="15230" y="12005"/>
                </a:cubicBezTo>
                <a:cubicBezTo>
                  <a:pt x="15266" y="12038"/>
                  <a:pt x="15308" y="12087"/>
                  <a:pt x="15329" y="12105"/>
                </a:cubicBezTo>
                <a:cubicBezTo>
                  <a:pt x="15358" y="12131"/>
                  <a:pt x="15432" y="12186"/>
                  <a:pt x="15453" y="12204"/>
                </a:cubicBezTo>
                <a:cubicBezTo>
                  <a:pt x="15481" y="12227"/>
                  <a:pt x="15531" y="12234"/>
                  <a:pt x="15553" y="12254"/>
                </a:cubicBezTo>
                <a:cubicBezTo>
                  <a:pt x="15590" y="12288"/>
                  <a:pt x="15606" y="12318"/>
                  <a:pt x="15652" y="12353"/>
                </a:cubicBezTo>
                <a:cubicBezTo>
                  <a:pt x="15683" y="12377"/>
                  <a:pt x="15711" y="12415"/>
                  <a:pt x="15726" y="12427"/>
                </a:cubicBezTo>
                <a:cubicBezTo>
                  <a:pt x="15760" y="12455"/>
                  <a:pt x="15788" y="12472"/>
                  <a:pt x="15825" y="12502"/>
                </a:cubicBezTo>
                <a:cubicBezTo>
                  <a:pt x="15866" y="12535"/>
                  <a:pt x="15932" y="12564"/>
                  <a:pt x="15974" y="12601"/>
                </a:cubicBezTo>
                <a:cubicBezTo>
                  <a:pt x="15989" y="12614"/>
                  <a:pt x="16022" y="12648"/>
                  <a:pt x="16049" y="12675"/>
                </a:cubicBezTo>
                <a:cubicBezTo>
                  <a:pt x="16125" y="12751"/>
                  <a:pt x="16199" y="12847"/>
                  <a:pt x="16272" y="12898"/>
                </a:cubicBezTo>
                <a:cubicBezTo>
                  <a:pt x="16315" y="12928"/>
                  <a:pt x="16295" y="12947"/>
                  <a:pt x="16346" y="12973"/>
                </a:cubicBezTo>
                <a:cubicBezTo>
                  <a:pt x="16381" y="12991"/>
                  <a:pt x="16447" y="12990"/>
                  <a:pt x="16470" y="12998"/>
                </a:cubicBezTo>
                <a:cubicBezTo>
                  <a:pt x="16502" y="13009"/>
                  <a:pt x="16538" y="13013"/>
                  <a:pt x="16570" y="13022"/>
                </a:cubicBezTo>
                <a:cubicBezTo>
                  <a:pt x="16607" y="13032"/>
                  <a:pt x="16629" y="13039"/>
                  <a:pt x="16669" y="13047"/>
                </a:cubicBezTo>
                <a:cubicBezTo>
                  <a:pt x="16707" y="13055"/>
                  <a:pt x="16733" y="13068"/>
                  <a:pt x="16768" y="13072"/>
                </a:cubicBezTo>
                <a:cubicBezTo>
                  <a:pt x="17298" y="13134"/>
                  <a:pt x="17876" y="13092"/>
                  <a:pt x="18405" y="13097"/>
                </a:cubicBezTo>
                <a:cubicBezTo>
                  <a:pt x="18742" y="13100"/>
                  <a:pt x="19091" y="13091"/>
                  <a:pt x="19397" y="13047"/>
                </a:cubicBezTo>
                <a:cubicBezTo>
                  <a:pt x="19372" y="13028"/>
                  <a:pt x="19344" y="13042"/>
                  <a:pt x="19323" y="13022"/>
                </a:cubicBezTo>
                <a:cubicBezTo>
                  <a:pt x="19309" y="13009"/>
                  <a:pt x="19267" y="12990"/>
                  <a:pt x="19248" y="12973"/>
                </a:cubicBezTo>
                <a:cubicBezTo>
                  <a:pt x="19218" y="12946"/>
                  <a:pt x="19157" y="12878"/>
                  <a:pt x="19124" y="12849"/>
                </a:cubicBezTo>
                <a:cubicBezTo>
                  <a:pt x="18993" y="12734"/>
                  <a:pt x="18860" y="12635"/>
                  <a:pt x="18728" y="12526"/>
                </a:cubicBezTo>
                <a:cubicBezTo>
                  <a:pt x="18555" y="12383"/>
                  <a:pt x="18386" y="12240"/>
                  <a:pt x="18207" y="12105"/>
                </a:cubicBezTo>
                <a:cubicBezTo>
                  <a:pt x="18150" y="12062"/>
                  <a:pt x="18087" y="12017"/>
                  <a:pt x="18033" y="11981"/>
                </a:cubicBezTo>
                <a:cubicBezTo>
                  <a:pt x="17980" y="11945"/>
                  <a:pt x="17962" y="11915"/>
                  <a:pt x="17909" y="11881"/>
                </a:cubicBezTo>
                <a:cubicBezTo>
                  <a:pt x="17866" y="11853"/>
                  <a:pt x="17831" y="11835"/>
                  <a:pt x="17785" y="11807"/>
                </a:cubicBezTo>
                <a:cubicBezTo>
                  <a:pt x="17730" y="11773"/>
                  <a:pt x="17668" y="11742"/>
                  <a:pt x="17611" y="11708"/>
                </a:cubicBezTo>
                <a:cubicBezTo>
                  <a:pt x="17564" y="11680"/>
                  <a:pt x="17503" y="11657"/>
                  <a:pt x="17462" y="11633"/>
                </a:cubicBezTo>
                <a:cubicBezTo>
                  <a:pt x="17428" y="11613"/>
                  <a:pt x="17397" y="11601"/>
                  <a:pt x="17363" y="11584"/>
                </a:cubicBezTo>
                <a:cubicBezTo>
                  <a:pt x="17321" y="11563"/>
                  <a:pt x="17320" y="11549"/>
                  <a:pt x="17289" y="11534"/>
                </a:cubicBezTo>
                <a:cubicBezTo>
                  <a:pt x="17248" y="11513"/>
                  <a:pt x="17206" y="11504"/>
                  <a:pt x="17165" y="11485"/>
                </a:cubicBezTo>
                <a:cubicBezTo>
                  <a:pt x="17147" y="11476"/>
                  <a:pt x="17118" y="11461"/>
                  <a:pt x="17115" y="11460"/>
                </a:cubicBezTo>
                <a:cubicBezTo>
                  <a:pt x="17169" y="11455"/>
                  <a:pt x="17212" y="11436"/>
                  <a:pt x="17239" y="11435"/>
                </a:cubicBezTo>
                <a:cubicBezTo>
                  <a:pt x="17412" y="11427"/>
                  <a:pt x="17573" y="11402"/>
                  <a:pt x="17686" y="11385"/>
                </a:cubicBezTo>
                <a:cubicBezTo>
                  <a:pt x="17733" y="11378"/>
                  <a:pt x="17726" y="11363"/>
                  <a:pt x="17760" y="11361"/>
                </a:cubicBezTo>
                <a:cubicBezTo>
                  <a:pt x="17802" y="11359"/>
                  <a:pt x="17777" y="11329"/>
                  <a:pt x="17835" y="11336"/>
                </a:cubicBezTo>
                <a:cubicBezTo>
                  <a:pt x="17876" y="11341"/>
                  <a:pt x="17898" y="11377"/>
                  <a:pt x="17934" y="11385"/>
                </a:cubicBezTo>
                <a:cubicBezTo>
                  <a:pt x="17973" y="11394"/>
                  <a:pt x="17998" y="11396"/>
                  <a:pt x="18033" y="11410"/>
                </a:cubicBezTo>
                <a:cubicBezTo>
                  <a:pt x="18064" y="11422"/>
                  <a:pt x="18104" y="11445"/>
                  <a:pt x="18132" y="11460"/>
                </a:cubicBezTo>
                <a:cubicBezTo>
                  <a:pt x="18195" y="11492"/>
                  <a:pt x="18184" y="11509"/>
                  <a:pt x="18231" y="11534"/>
                </a:cubicBezTo>
                <a:cubicBezTo>
                  <a:pt x="18274" y="11557"/>
                  <a:pt x="18307" y="11584"/>
                  <a:pt x="18355" y="11609"/>
                </a:cubicBezTo>
                <a:cubicBezTo>
                  <a:pt x="18392" y="11628"/>
                  <a:pt x="18439" y="11663"/>
                  <a:pt x="18479" y="11683"/>
                </a:cubicBezTo>
                <a:cubicBezTo>
                  <a:pt x="18516" y="11701"/>
                  <a:pt x="18565" y="11715"/>
                  <a:pt x="18604" y="11733"/>
                </a:cubicBezTo>
                <a:cubicBezTo>
                  <a:pt x="18661" y="11760"/>
                  <a:pt x="18694" y="11784"/>
                  <a:pt x="18752" y="11807"/>
                </a:cubicBezTo>
                <a:cubicBezTo>
                  <a:pt x="18794" y="11824"/>
                  <a:pt x="18835" y="11838"/>
                  <a:pt x="18876" y="11857"/>
                </a:cubicBezTo>
                <a:cubicBezTo>
                  <a:pt x="18923" y="11878"/>
                  <a:pt x="18977" y="11884"/>
                  <a:pt x="19025" y="11906"/>
                </a:cubicBezTo>
                <a:cubicBezTo>
                  <a:pt x="19119" y="11949"/>
                  <a:pt x="19208" y="11998"/>
                  <a:pt x="19298" y="12030"/>
                </a:cubicBezTo>
                <a:cubicBezTo>
                  <a:pt x="19346" y="12047"/>
                  <a:pt x="19402" y="12062"/>
                  <a:pt x="19447" y="12080"/>
                </a:cubicBezTo>
                <a:cubicBezTo>
                  <a:pt x="19508" y="12105"/>
                  <a:pt x="19584" y="12133"/>
                  <a:pt x="19645" y="12154"/>
                </a:cubicBezTo>
                <a:cubicBezTo>
                  <a:pt x="19695" y="12171"/>
                  <a:pt x="19742" y="12188"/>
                  <a:pt x="19794" y="12204"/>
                </a:cubicBezTo>
                <a:cubicBezTo>
                  <a:pt x="19837" y="12218"/>
                  <a:pt x="19872" y="12216"/>
                  <a:pt x="19918" y="12229"/>
                </a:cubicBezTo>
                <a:cubicBezTo>
                  <a:pt x="19967" y="12243"/>
                  <a:pt x="20037" y="12262"/>
                  <a:pt x="20092" y="12278"/>
                </a:cubicBezTo>
                <a:cubicBezTo>
                  <a:pt x="20139" y="12292"/>
                  <a:pt x="20193" y="12314"/>
                  <a:pt x="20241" y="12328"/>
                </a:cubicBezTo>
                <a:cubicBezTo>
                  <a:pt x="20282" y="12340"/>
                  <a:pt x="20321" y="12367"/>
                  <a:pt x="20365" y="12378"/>
                </a:cubicBezTo>
                <a:cubicBezTo>
                  <a:pt x="20402" y="12387"/>
                  <a:pt x="20429" y="12393"/>
                  <a:pt x="20464" y="12402"/>
                </a:cubicBezTo>
                <a:cubicBezTo>
                  <a:pt x="20501" y="12411"/>
                  <a:pt x="20523" y="12419"/>
                  <a:pt x="20563" y="12427"/>
                </a:cubicBezTo>
                <a:cubicBezTo>
                  <a:pt x="20635" y="12441"/>
                  <a:pt x="20695" y="12430"/>
                  <a:pt x="20762" y="12452"/>
                </a:cubicBezTo>
                <a:cubicBezTo>
                  <a:pt x="20838" y="12477"/>
                  <a:pt x="20879" y="12502"/>
                  <a:pt x="20935" y="12526"/>
                </a:cubicBezTo>
                <a:cubicBezTo>
                  <a:pt x="20960" y="12537"/>
                  <a:pt x="20972" y="12571"/>
                  <a:pt x="20985" y="12576"/>
                </a:cubicBezTo>
                <a:cubicBezTo>
                  <a:pt x="21010" y="12586"/>
                  <a:pt x="21055" y="12624"/>
                  <a:pt x="21059" y="12626"/>
                </a:cubicBezTo>
                <a:cubicBezTo>
                  <a:pt x="21100" y="12642"/>
                  <a:pt x="21140" y="12639"/>
                  <a:pt x="21183" y="12650"/>
                </a:cubicBezTo>
                <a:cubicBezTo>
                  <a:pt x="21219" y="12659"/>
                  <a:pt x="21243" y="12667"/>
                  <a:pt x="21282" y="12675"/>
                </a:cubicBezTo>
                <a:cubicBezTo>
                  <a:pt x="21359" y="12691"/>
                  <a:pt x="21422" y="12692"/>
                  <a:pt x="21481" y="12700"/>
                </a:cubicBezTo>
                <a:cubicBezTo>
                  <a:pt x="21578" y="12712"/>
                  <a:pt x="21652" y="12715"/>
                  <a:pt x="21754" y="12725"/>
                </a:cubicBezTo>
                <a:cubicBezTo>
                  <a:pt x="21837" y="12733"/>
                  <a:pt x="21899" y="12738"/>
                  <a:pt x="21977" y="12750"/>
                </a:cubicBezTo>
                <a:cubicBezTo>
                  <a:pt x="22049" y="12761"/>
                  <a:pt x="22112" y="12787"/>
                  <a:pt x="22175" y="12799"/>
                </a:cubicBezTo>
                <a:cubicBezTo>
                  <a:pt x="22215" y="12806"/>
                  <a:pt x="22238" y="12816"/>
                  <a:pt x="22275" y="12824"/>
                </a:cubicBezTo>
                <a:cubicBezTo>
                  <a:pt x="22314" y="12832"/>
                  <a:pt x="22338" y="12841"/>
                  <a:pt x="22374" y="12849"/>
                </a:cubicBezTo>
                <a:cubicBezTo>
                  <a:pt x="22411" y="12858"/>
                  <a:pt x="22438" y="12868"/>
                  <a:pt x="22473" y="12874"/>
                </a:cubicBezTo>
                <a:cubicBezTo>
                  <a:pt x="22553" y="12888"/>
                  <a:pt x="22615" y="12888"/>
                  <a:pt x="22696" y="12898"/>
                </a:cubicBezTo>
                <a:cubicBezTo>
                  <a:pt x="22734" y="12903"/>
                  <a:pt x="22755" y="12917"/>
                  <a:pt x="22796" y="12923"/>
                </a:cubicBezTo>
                <a:cubicBezTo>
                  <a:pt x="22908" y="12939"/>
                  <a:pt x="23013" y="12932"/>
                  <a:pt x="23118" y="12948"/>
                </a:cubicBezTo>
                <a:cubicBezTo>
                  <a:pt x="23167" y="12956"/>
                  <a:pt x="23199" y="12963"/>
                  <a:pt x="23242" y="12973"/>
                </a:cubicBezTo>
                <a:cubicBezTo>
                  <a:pt x="23303" y="12988"/>
                  <a:pt x="23362" y="13004"/>
                  <a:pt x="23416" y="13022"/>
                </a:cubicBezTo>
                <a:cubicBezTo>
                  <a:pt x="23451" y="13033"/>
                  <a:pt x="23481" y="13035"/>
                  <a:pt x="23515" y="13047"/>
                </a:cubicBezTo>
                <a:cubicBezTo>
                  <a:pt x="23561" y="13063"/>
                  <a:pt x="23599" y="13081"/>
                  <a:pt x="23639" y="13097"/>
                </a:cubicBezTo>
                <a:cubicBezTo>
                  <a:pt x="23684" y="13115"/>
                  <a:pt x="23715" y="13130"/>
                  <a:pt x="23763" y="13146"/>
                </a:cubicBezTo>
                <a:cubicBezTo>
                  <a:pt x="23808" y="13161"/>
                  <a:pt x="23867" y="13178"/>
                  <a:pt x="23912" y="13196"/>
                </a:cubicBezTo>
                <a:cubicBezTo>
                  <a:pt x="23954" y="13213"/>
                  <a:pt x="23994" y="13226"/>
                  <a:pt x="24036" y="13246"/>
                </a:cubicBezTo>
                <a:cubicBezTo>
                  <a:pt x="24081" y="13267"/>
                  <a:pt x="24136" y="13293"/>
                  <a:pt x="24185" y="13320"/>
                </a:cubicBezTo>
                <a:cubicBezTo>
                  <a:pt x="24224" y="13341"/>
                  <a:pt x="24247" y="13365"/>
                  <a:pt x="24284" y="13395"/>
                </a:cubicBezTo>
                <a:cubicBezTo>
                  <a:pt x="24327" y="13430"/>
                  <a:pt x="24362" y="13428"/>
                  <a:pt x="24408" y="13469"/>
                </a:cubicBezTo>
                <a:cubicBezTo>
                  <a:pt x="24453" y="13508"/>
                  <a:pt x="24503" y="13575"/>
                  <a:pt x="24532" y="13618"/>
                </a:cubicBezTo>
                <a:cubicBezTo>
                  <a:pt x="24558" y="13656"/>
                  <a:pt x="24587" y="13677"/>
                  <a:pt x="24606" y="13717"/>
                </a:cubicBezTo>
                <a:cubicBezTo>
                  <a:pt x="24622" y="13751"/>
                  <a:pt x="24621" y="13779"/>
                  <a:pt x="24631" y="13816"/>
                </a:cubicBezTo>
                <a:cubicBezTo>
                  <a:pt x="24645" y="13866"/>
                  <a:pt x="24656" y="13880"/>
                  <a:pt x="24656" y="13940"/>
                </a:cubicBezTo>
                <a:cubicBezTo>
                  <a:pt x="24656" y="13969"/>
                  <a:pt x="24639" y="14007"/>
                  <a:pt x="24631" y="14039"/>
                </a:cubicBezTo>
                <a:cubicBezTo>
                  <a:pt x="24617" y="14093"/>
                  <a:pt x="24626" y="14102"/>
                  <a:pt x="24606" y="14139"/>
                </a:cubicBezTo>
                <a:cubicBezTo>
                  <a:pt x="24588" y="14172"/>
                  <a:pt x="24521" y="14226"/>
                  <a:pt x="24507" y="14238"/>
                </a:cubicBezTo>
                <a:cubicBezTo>
                  <a:pt x="24498" y="14246"/>
                  <a:pt x="24434" y="14288"/>
                  <a:pt x="24433" y="14288"/>
                </a:cubicBezTo>
                <a:cubicBezTo>
                  <a:pt x="24410" y="14302"/>
                  <a:pt x="24359" y="14300"/>
                  <a:pt x="24333" y="14312"/>
                </a:cubicBezTo>
                <a:cubicBezTo>
                  <a:pt x="24293" y="14330"/>
                  <a:pt x="24254" y="14347"/>
                  <a:pt x="24209" y="14362"/>
                </a:cubicBezTo>
                <a:cubicBezTo>
                  <a:pt x="24173" y="14374"/>
                  <a:pt x="24149" y="14378"/>
                  <a:pt x="24110" y="14387"/>
                </a:cubicBezTo>
                <a:cubicBezTo>
                  <a:pt x="24073" y="14395"/>
                  <a:pt x="24046" y="14407"/>
                  <a:pt x="24011" y="14412"/>
                </a:cubicBezTo>
                <a:cubicBezTo>
                  <a:pt x="23757" y="14446"/>
                  <a:pt x="23470" y="14429"/>
                  <a:pt x="23217" y="14436"/>
                </a:cubicBezTo>
                <a:cubicBezTo>
                  <a:pt x="22748" y="14450"/>
                  <a:pt x="22285" y="14430"/>
                  <a:pt x="21828" y="14387"/>
                </a:cubicBezTo>
                <a:cubicBezTo>
                  <a:pt x="21742" y="14379"/>
                  <a:pt x="21667" y="14376"/>
                  <a:pt x="21580" y="14362"/>
                </a:cubicBezTo>
                <a:cubicBezTo>
                  <a:pt x="21514" y="14351"/>
                  <a:pt x="21459" y="14322"/>
                  <a:pt x="21406" y="14312"/>
                </a:cubicBezTo>
                <a:cubicBezTo>
                  <a:pt x="21324" y="14296"/>
                  <a:pt x="21231" y="14274"/>
                  <a:pt x="21158" y="14263"/>
                </a:cubicBezTo>
                <a:cubicBezTo>
                  <a:pt x="21094" y="14254"/>
                  <a:pt x="21022" y="14228"/>
                  <a:pt x="20960" y="14238"/>
                </a:cubicBezTo>
                <a:cubicBezTo>
                  <a:pt x="20910" y="14246"/>
                  <a:pt x="20922" y="14247"/>
                  <a:pt x="20886" y="14263"/>
                </a:cubicBezTo>
                <a:cubicBezTo>
                  <a:pt x="20805" y="14300"/>
                  <a:pt x="20860" y="14297"/>
                  <a:pt x="20811" y="14337"/>
                </a:cubicBezTo>
                <a:cubicBezTo>
                  <a:pt x="20784" y="14359"/>
                  <a:pt x="20785" y="14387"/>
                  <a:pt x="20762" y="14412"/>
                </a:cubicBezTo>
                <a:cubicBezTo>
                  <a:pt x="20735" y="14441"/>
                  <a:pt x="20701" y="14471"/>
                  <a:pt x="20687" y="14486"/>
                </a:cubicBezTo>
                <a:cubicBezTo>
                  <a:pt x="20652" y="14525"/>
                  <a:pt x="20661" y="14561"/>
                  <a:pt x="20638" y="14585"/>
                </a:cubicBezTo>
                <a:cubicBezTo>
                  <a:pt x="20603" y="14622"/>
                  <a:pt x="20599" y="14623"/>
                  <a:pt x="20563" y="14660"/>
                </a:cubicBezTo>
                <a:cubicBezTo>
                  <a:pt x="20536" y="14687"/>
                  <a:pt x="20466" y="14758"/>
                  <a:pt x="20439" y="14784"/>
                </a:cubicBezTo>
                <a:cubicBezTo>
                  <a:pt x="20405" y="14816"/>
                  <a:pt x="20340" y="14833"/>
                  <a:pt x="20315" y="14858"/>
                </a:cubicBezTo>
                <a:cubicBezTo>
                  <a:pt x="20247" y="14924"/>
                  <a:pt x="20187" y="14992"/>
                  <a:pt x="20117" y="15056"/>
                </a:cubicBezTo>
                <a:cubicBezTo>
                  <a:pt x="20071" y="15098"/>
                  <a:pt x="20038" y="15140"/>
                  <a:pt x="19993" y="15180"/>
                </a:cubicBezTo>
                <a:cubicBezTo>
                  <a:pt x="19890" y="15271"/>
                  <a:pt x="19780" y="15370"/>
                  <a:pt x="19670" y="15453"/>
                </a:cubicBezTo>
                <a:cubicBezTo>
                  <a:pt x="19538" y="15553"/>
                  <a:pt x="19410" y="15639"/>
                  <a:pt x="19298" y="15751"/>
                </a:cubicBezTo>
                <a:cubicBezTo>
                  <a:pt x="19227" y="15822"/>
                  <a:pt x="19164" y="15903"/>
                  <a:pt x="19100" y="15974"/>
                </a:cubicBezTo>
                <a:cubicBezTo>
                  <a:pt x="19059" y="16020"/>
                  <a:pt x="19022" y="16068"/>
                  <a:pt x="18976" y="16123"/>
                </a:cubicBezTo>
                <a:cubicBezTo>
                  <a:pt x="18907" y="16206"/>
                  <a:pt x="18820" y="16271"/>
                  <a:pt x="18752" y="16346"/>
                </a:cubicBezTo>
                <a:cubicBezTo>
                  <a:pt x="18674" y="16433"/>
                  <a:pt x="18607" y="16534"/>
                  <a:pt x="18529" y="16619"/>
                </a:cubicBezTo>
                <a:cubicBezTo>
                  <a:pt x="18440" y="16715"/>
                  <a:pt x="18336" y="16817"/>
                  <a:pt x="18256" y="16892"/>
                </a:cubicBezTo>
                <a:cubicBezTo>
                  <a:pt x="18240" y="16907"/>
                  <a:pt x="18214" y="16940"/>
                  <a:pt x="18182" y="16966"/>
                </a:cubicBezTo>
                <a:cubicBezTo>
                  <a:pt x="18146" y="16995"/>
                  <a:pt x="18118" y="17023"/>
                  <a:pt x="18083" y="17041"/>
                </a:cubicBezTo>
                <a:cubicBezTo>
                  <a:pt x="18040" y="17063"/>
                  <a:pt x="18044" y="17080"/>
                  <a:pt x="18008" y="17090"/>
                </a:cubicBezTo>
                <a:cubicBezTo>
                  <a:pt x="17976" y="17098"/>
                  <a:pt x="17938" y="17115"/>
                  <a:pt x="17909" y="17115"/>
                </a:cubicBezTo>
                <a:cubicBezTo>
                  <a:pt x="17874" y="17115"/>
                  <a:pt x="17806" y="17072"/>
                  <a:pt x="17785" y="17066"/>
                </a:cubicBezTo>
                <a:cubicBezTo>
                  <a:pt x="17749" y="17055"/>
                  <a:pt x="17755" y="17035"/>
                  <a:pt x="17711" y="17016"/>
                </a:cubicBezTo>
                <a:cubicBezTo>
                  <a:pt x="17678" y="17001"/>
                  <a:pt x="17679" y="16988"/>
                  <a:pt x="17636" y="16966"/>
                </a:cubicBezTo>
                <a:cubicBezTo>
                  <a:pt x="17589" y="16941"/>
                  <a:pt x="17530" y="16916"/>
                  <a:pt x="17487" y="16892"/>
                </a:cubicBezTo>
                <a:cubicBezTo>
                  <a:pt x="17451" y="16872"/>
                  <a:pt x="17426" y="16839"/>
                  <a:pt x="17388" y="16818"/>
                </a:cubicBezTo>
                <a:cubicBezTo>
                  <a:pt x="17358" y="16802"/>
                  <a:pt x="17321" y="16784"/>
                  <a:pt x="17289" y="16768"/>
                </a:cubicBezTo>
                <a:cubicBezTo>
                  <a:pt x="17260" y="16754"/>
                  <a:pt x="17249" y="16761"/>
                  <a:pt x="17214" y="16743"/>
                </a:cubicBezTo>
                <a:cubicBezTo>
                  <a:pt x="17181" y="16726"/>
                  <a:pt x="17130" y="16702"/>
                  <a:pt x="17115" y="16694"/>
                </a:cubicBezTo>
                <a:cubicBezTo>
                  <a:pt x="17140" y="16673"/>
                  <a:pt x="17114" y="16689"/>
                  <a:pt x="17140" y="16669"/>
                </a:cubicBezTo>
                <a:cubicBezTo>
                  <a:pt x="17199" y="16624"/>
                  <a:pt x="17296" y="16554"/>
                  <a:pt x="17338" y="16520"/>
                </a:cubicBezTo>
                <a:cubicBezTo>
                  <a:pt x="17368" y="16495"/>
                  <a:pt x="17398" y="16459"/>
                  <a:pt x="17413" y="16446"/>
                </a:cubicBezTo>
                <a:cubicBezTo>
                  <a:pt x="17460" y="16406"/>
                  <a:pt x="17471" y="16412"/>
                  <a:pt x="17512" y="16371"/>
                </a:cubicBezTo>
                <a:cubicBezTo>
                  <a:pt x="17533" y="16350"/>
                  <a:pt x="17561" y="16323"/>
                  <a:pt x="17587" y="16297"/>
                </a:cubicBezTo>
                <a:cubicBezTo>
                  <a:pt x="17672" y="16211"/>
                  <a:pt x="17754" y="16130"/>
                  <a:pt x="17835" y="16049"/>
                </a:cubicBezTo>
                <a:cubicBezTo>
                  <a:pt x="17847" y="16037"/>
                  <a:pt x="17868" y="15990"/>
                  <a:pt x="17884" y="15974"/>
                </a:cubicBezTo>
                <a:cubicBezTo>
                  <a:pt x="17919" y="15939"/>
                  <a:pt x="17953" y="15932"/>
                  <a:pt x="17983" y="15900"/>
                </a:cubicBezTo>
                <a:cubicBezTo>
                  <a:pt x="18020" y="15860"/>
                  <a:pt x="18020" y="15863"/>
                  <a:pt x="18058" y="15825"/>
                </a:cubicBezTo>
                <a:cubicBezTo>
                  <a:pt x="18098" y="15786"/>
                  <a:pt x="18165" y="15716"/>
                  <a:pt x="18207" y="15677"/>
                </a:cubicBezTo>
                <a:cubicBezTo>
                  <a:pt x="18245" y="15642"/>
                  <a:pt x="18241" y="15637"/>
                  <a:pt x="18281" y="15602"/>
                </a:cubicBezTo>
                <a:cubicBezTo>
                  <a:pt x="18310" y="15577"/>
                  <a:pt x="18330" y="15550"/>
                  <a:pt x="18355" y="15528"/>
                </a:cubicBezTo>
                <a:cubicBezTo>
                  <a:pt x="18389" y="15498"/>
                  <a:pt x="18434" y="15472"/>
                  <a:pt x="18455" y="15453"/>
                </a:cubicBezTo>
                <a:cubicBezTo>
                  <a:pt x="18491" y="15419"/>
                  <a:pt x="18492" y="15411"/>
                  <a:pt x="18529" y="15379"/>
                </a:cubicBezTo>
                <a:cubicBezTo>
                  <a:pt x="18566" y="15347"/>
                  <a:pt x="18594" y="15332"/>
                  <a:pt x="18628" y="15304"/>
                </a:cubicBezTo>
                <a:cubicBezTo>
                  <a:pt x="18646" y="15289"/>
                  <a:pt x="18657" y="15271"/>
                  <a:pt x="18678" y="15255"/>
                </a:cubicBezTo>
                <a:cubicBezTo>
                  <a:pt x="18746" y="15202"/>
                  <a:pt x="18813" y="15154"/>
                  <a:pt x="18876" y="15106"/>
                </a:cubicBezTo>
                <a:cubicBezTo>
                  <a:pt x="18914" y="15077"/>
                  <a:pt x="18941" y="15059"/>
                  <a:pt x="18976" y="15032"/>
                </a:cubicBezTo>
                <a:cubicBezTo>
                  <a:pt x="19019" y="14999"/>
                  <a:pt x="19093" y="14933"/>
                  <a:pt x="19124" y="14908"/>
                </a:cubicBezTo>
                <a:cubicBezTo>
                  <a:pt x="19144" y="14892"/>
                  <a:pt x="19187" y="14868"/>
                  <a:pt x="19199" y="14858"/>
                </a:cubicBezTo>
                <a:cubicBezTo>
                  <a:pt x="19244" y="14821"/>
                  <a:pt x="19247" y="14809"/>
                  <a:pt x="19273" y="14784"/>
                </a:cubicBezTo>
                <a:cubicBezTo>
                  <a:pt x="19302" y="14756"/>
                  <a:pt x="19332" y="14723"/>
                  <a:pt x="19348" y="14709"/>
                </a:cubicBezTo>
                <a:cubicBezTo>
                  <a:pt x="19364" y="14695"/>
                  <a:pt x="19382" y="14672"/>
                  <a:pt x="19397" y="14660"/>
                </a:cubicBezTo>
                <a:cubicBezTo>
                  <a:pt x="19415" y="14645"/>
                  <a:pt x="19429" y="14650"/>
                  <a:pt x="19447" y="14635"/>
                </a:cubicBezTo>
                <a:cubicBezTo>
                  <a:pt x="19410" y="14624"/>
                  <a:pt x="19421" y="14621"/>
                  <a:pt x="19372" y="14610"/>
                </a:cubicBezTo>
                <a:cubicBezTo>
                  <a:pt x="19338" y="14603"/>
                  <a:pt x="19344" y="14596"/>
                  <a:pt x="19298" y="14585"/>
                </a:cubicBezTo>
                <a:cubicBezTo>
                  <a:pt x="19253" y="14574"/>
                  <a:pt x="19257" y="14566"/>
                  <a:pt x="19224" y="14560"/>
                </a:cubicBezTo>
                <a:cubicBezTo>
                  <a:pt x="19166" y="14549"/>
                  <a:pt x="19101" y="14543"/>
                  <a:pt x="19050" y="14536"/>
                </a:cubicBezTo>
                <a:cubicBezTo>
                  <a:pt x="18960" y="14523"/>
                  <a:pt x="18860" y="14511"/>
                  <a:pt x="18777" y="14511"/>
                </a:cubicBezTo>
                <a:cubicBezTo>
                  <a:pt x="18703" y="14511"/>
                  <a:pt x="18679" y="14531"/>
                  <a:pt x="18604" y="14536"/>
                </a:cubicBezTo>
                <a:cubicBezTo>
                  <a:pt x="18533" y="14541"/>
                  <a:pt x="18478" y="14550"/>
                  <a:pt x="18405" y="14560"/>
                </a:cubicBezTo>
                <a:cubicBezTo>
                  <a:pt x="18355" y="14567"/>
                  <a:pt x="18331" y="14575"/>
                  <a:pt x="18281" y="14585"/>
                </a:cubicBezTo>
                <a:cubicBezTo>
                  <a:pt x="18242" y="14592"/>
                  <a:pt x="18218" y="14605"/>
                  <a:pt x="18182" y="14610"/>
                </a:cubicBezTo>
                <a:cubicBezTo>
                  <a:pt x="18111" y="14619"/>
                  <a:pt x="18055" y="14621"/>
                  <a:pt x="17983" y="14635"/>
                </a:cubicBezTo>
                <a:cubicBezTo>
                  <a:pt x="17944" y="14642"/>
                  <a:pt x="17920" y="14655"/>
                  <a:pt x="17884" y="14660"/>
                </a:cubicBezTo>
                <a:cubicBezTo>
                  <a:pt x="17813" y="14670"/>
                  <a:pt x="17756" y="14682"/>
                  <a:pt x="17686" y="14684"/>
                </a:cubicBezTo>
                <a:cubicBezTo>
                  <a:pt x="17568" y="14687"/>
                  <a:pt x="17474" y="14669"/>
                  <a:pt x="17363" y="14660"/>
                </a:cubicBezTo>
                <a:cubicBezTo>
                  <a:pt x="17271" y="14653"/>
                  <a:pt x="17201" y="14648"/>
                  <a:pt x="17115" y="14635"/>
                </a:cubicBezTo>
                <a:cubicBezTo>
                  <a:pt x="17079" y="14629"/>
                  <a:pt x="17055" y="14617"/>
                  <a:pt x="17016" y="14610"/>
                </a:cubicBezTo>
                <a:cubicBezTo>
                  <a:pt x="16966" y="14601"/>
                  <a:pt x="16941" y="14594"/>
                  <a:pt x="16892" y="14585"/>
                </a:cubicBezTo>
                <a:cubicBezTo>
                  <a:pt x="16856" y="14578"/>
                  <a:pt x="16832" y="14568"/>
                  <a:pt x="16793" y="14560"/>
                </a:cubicBezTo>
                <a:cubicBezTo>
                  <a:pt x="16725" y="14547"/>
                  <a:pt x="16655" y="14520"/>
                  <a:pt x="16594" y="14511"/>
                </a:cubicBezTo>
                <a:cubicBezTo>
                  <a:pt x="16498" y="14496"/>
                  <a:pt x="16415" y="14502"/>
                  <a:pt x="16321" y="14486"/>
                </a:cubicBezTo>
                <a:cubicBezTo>
                  <a:pt x="16286" y="14480"/>
                  <a:pt x="16295" y="14470"/>
                  <a:pt x="16247" y="14461"/>
                </a:cubicBezTo>
                <a:cubicBezTo>
                  <a:pt x="16163" y="14444"/>
                  <a:pt x="16075" y="14430"/>
                  <a:pt x="15999" y="14412"/>
                </a:cubicBezTo>
                <a:cubicBezTo>
                  <a:pt x="15928" y="14395"/>
                  <a:pt x="15868" y="14381"/>
                  <a:pt x="15801" y="14362"/>
                </a:cubicBezTo>
                <a:cubicBezTo>
                  <a:pt x="15750" y="14348"/>
                  <a:pt x="15697" y="14325"/>
                  <a:pt x="15652" y="14312"/>
                </a:cubicBezTo>
                <a:cubicBezTo>
                  <a:pt x="15616" y="14301"/>
                  <a:pt x="15587" y="14301"/>
                  <a:pt x="15553" y="14288"/>
                </a:cubicBezTo>
                <a:cubicBezTo>
                  <a:pt x="15521" y="14276"/>
                  <a:pt x="15485" y="14276"/>
                  <a:pt x="15453" y="14263"/>
                </a:cubicBezTo>
                <a:cubicBezTo>
                  <a:pt x="15419" y="14250"/>
                  <a:pt x="15389" y="14227"/>
                  <a:pt x="15354" y="14213"/>
                </a:cubicBezTo>
                <a:cubicBezTo>
                  <a:pt x="15322" y="14200"/>
                  <a:pt x="15286" y="14177"/>
                  <a:pt x="15255" y="14163"/>
                </a:cubicBezTo>
                <a:cubicBezTo>
                  <a:pt x="15225" y="14149"/>
                  <a:pt x="15221" y="14131"/>
                  <a:pt x="15180" y="14114"/>
                </a:cubicBezTo>
                <a:cubicBezTo>
                  <a:pt x="15148" y="14101"/>
                  <a:pt x="15113" y="14101"/>
                  <a:pt x="15081" y="14089"/>
                </a:cubicBezTo>
                <a:cubicBezTo>
                  <a:pt x="15047" y="14076"/>
                  <a:pt x="15051" y="14078"/>
                  <a:pt x="15007" y="14064"/>
                </a:cubicBezTo>
                <a:cubicBezTo>
                  <a:pt x="14977" y="14054"/>
                  <a:pt x="14937" y="14052"/>
                  <a:pt x="14908" y="14039"/>
                </a:cubicBezTo>
                <a:cubicBezTo>
                  <a:pt x="14877" y="14026"/>
                  <a:pt x="14838" y="14028"/>
                  <a:pt x="14808" y="14015"/>
                </a:cubicBezTo>
                <a:cubicBezTo>
                  <a:pt x="14765" y="13996"/>
                  <a:pt x="14718" y="13944"/>
                  <a:pt x="14709" y="13940"/>
                </a:cubicBezTo>
              </a:path>
              <a:path w="23913" h="5780">
                <a:moveTo>
                  <a:pt x="14883" y="13915"/>
                </a:moveTo>
                <a:cubicBezTo>
                  <a:pt x="14858" y="13915"/>
                  <a:pt x="14850" y="13915"/>
                  <a:pt x="14833" y="13915"/>
                </a:cubicBezTo>
                <a:cubicBezTo>
                  <a:pt x="14825" y="13891"/>
                  <a:pt x="14824" y="13870"/>
                  <a:pt x="14808" y="13841"/>
                </a:cubicBezTo>
                <a:cubicBezTo>
                  <a:pt x="14789" y="13805"/>
                  <a:pt x="14764" y="13783"/>
                  <a:pt x="14759" y="13742"/>
                </a:cubicBezTo>
                <a:cubicBezTo>
                  <a:pt x="14759" y="13734"/>
                  <a:pt x="14759" y="13725"/>
                  <a:pt x="14759" y="13717"/>
                </a:cubicBezTo>
                <a:cubicBezTo>
                  <a:pt x="14737" y="13710"/>
                  <a:pt x="14720" y="13675"/>
                  <a:pt x="14709" y="13643"/>
                </a:cubicBezTo>
                <a:cubicBezTo>
                  <a:pt x="14698" y="13611"/>
                  <a:pt x="14699" y="13548"/>
                  <a:pt x="14684" y="13519"/>
                </a:cubicBezTo>
                <a:cubicBezTo>
                  <a:pt x="14665" y="13483"/>
                  <a:pt x="14638" y="13435"/>
                  <a:pt x="14635" y="13395"/>
                </a:cubicBezTo>
                <a:cubicBezTo>
                  <a:pt x="14633" y="13365"/>
                  <a:pt x="14625" y="13298"/>
                  <a:pt x="14610" y="13271"/>
                </a:cubicBezTo>
                <a:cubicBezTo>
                  <a:pt x="14586" y="13229"/>
                  <a:pt x="14578" y="13190"/>
                  <a:pt x="14560" y="13146"/>
                </a:cubicBezTo>
                <a:cubicBezTo>
                  <a:pt x="14540" y="13097"/>
                  <a:pt x="14536" y="13094"/>
                  <a:pt x="14536" y="13047"/>
                </a:cubicBezTo>
              </a:path>
              <a:path w="23913" h="5780">
                <a:moveTo>
                  <a:pt x="14263" y="13767"/>
                </a:moveTo>
                <a:cubicBezTo>
                  <a:pt x="14232" y="13785"/>
                  <a:pt x="14220" y="13800"/>
                  <a:pt x="14188" y="13816"/>
                </a:cubicBezTo>
                <a:cubicBezTo>
                  <a:pt x="14164" y="13828"/>
                  <a:pt x="14114" y="13859"/>
                  <a:pt x="14089" y="13866"/>
                </a:cubicBezTo>
                <a:cubicBezTo>
                  <a:pt x="14045" y="13877"/>
                  <a:pt x="13926" y="13876"/>
                  <a:pt x="13891" y="13841"/>
                </a:cubicBezTo>
                <a:cubicBezTo>
                  <a:pt x="13846" y="13796"/>
                  <a:pt x="13784" y="13683"/>
                  <a:pt x="13767" y="13618"/>
                </a:cubicBezTo>
                <a:cubicBezTo>
                  <a:pt x="13748" y="13545"/>
                  <a:pt x="13734" y="13448"/>
                  <a:pt x="13742" y="13370"/>
                </a:cubicBezTo>
                <a:cubicBezTo>
                  <a:pt x="13746" y="13326"/>
                  <a:pt x="13775" y="13260"/>
                  <a:pt x="13791" y="13221"/>
                </a:cubicBezTo>
                <a:cubicBezTo>
                  <a:pt x="13816" y="13221"/>
                  <a:pt x="13824" y="13221"/>
                  <a:pt x="13816" y="13196"/>
                </a:cubicBezTo>
                <a:cubicBezTo>
                  <a:pt x="13838" y="13247"/>
                  <a:pt x="13856" y="13259"/>
                  <a:pt x="13866" y="13320"/>
                </a:cubicBezTo>
                <a:cubicBezTo>
                  <a:pt x="13883" y="13427"/>
                  <a:pt x="13874" y="13566"/>
                  <a:pt x="13841" y="13667"/>
                </a:cubicBezTo>
                <a:cubicBezTo>
                  <a:pt x="13810" y="13760"/>
                  <a:pt x="13772" y="13826"/>
                  <a:pt x="13717" y="13891"/>
                </a:cubicBezTo>
                <a:cubicBezTo>
                  <a:pt x="13662" y="13955"/>
                  <a:pt x="13595" y="14026"/>
                  <a:pt x="13519" y="14064"/>
                </a:cubicBezTo>
                <a:cubicBezTo>
                  <a:pt x="13437" y="14105"/>
                  <a:pt x="13349" y="14089"/>
                  <a:pt x="13271" y="14039"/>
                </a:cubicBezTo>
                <a:cubicBezTo>
                  <a:pt x="13208" y="13998"/>
                  <a:pt x="13172" y="13941"/>
                  <a:pt x="13146" y="13866"/>
                </a:cubicBezTo>
                <a:cubicBezTo>
                  <a:pt x="13118" y="13787"/>
                  <a:pt x="13107" y="13703"/>
                  <a:pt x="13097" y="13618"/>
                </a:cubicBezTo>
                <a:cubicBezTo>
                  <a:pt x="13089" y="13546"/>
                  <a:pt x="13097" y="13468"/>
                  <a:pt x="13097" y="13395"/>
                </a:cubicBezTo>
                <a:cubicBezTo>
                  <a:pt x="13102" y="13403"/>
                  <a:pt x="13105" y="13329"/>
                  <a:pt x="13097" y="13444"/>
                </a:cubicBezTo>
                <a:cubicBezTo>
                  <a:pt x="13091" y="13532"/>
                  <a:pt x="13089" y="13610"/>
                  <a:pt x="13047" y="13692"/>
                </a:cubicBezTo>
                <a:cubicBezTo>
                  <a:pt x="13003" y="13778"/>
                  <a:pt x="12963" y="13871"/>
                  <a:pt x="12898" y="13940"/>
                </a:cubicBezTo>
                <a:cubicBezTo>
                  <a:pt x="12825" y="14016"/>
                  <a:pt x="12744" y="14073"/>
                  <a:pt x="12650" y="14114"/>
                </a:cubicBezTo>
                <a:cubicBezTo>
                  <a:pt x="12562" y="14152"/>
                  <a:pt x="12476" y="14182"/>
                  <a:pt x="12378" y="14163"/>
                </a:cubicBezTo>
                <a:cubicBezTo>
                  <a:pt x="12240" y="14136"/>
                  <a:pt x="12177" y="14026"/>
                  <a:pt x="12105" y="13915"/>
                </a:cubicBezTo>
                <a:cubicBezTo>
                  <a:pt x="12039" y="13813"/>
                  <a:pt x="12016" y="13637"/>
                  <a:pt x="12030" y="13519"/>
                </a:cubicBezTo>
                <a:cubicBezTo>
                  <a:pt x="12036" y="13469"/>
                  <a:pt x="12047" y="13462"/>
                  <a:pt x="12055" y="13419"/>
                </a:cubicBezTo>
                <a:cubicBezTo>
                  <a:pt x="12049" y="13529"/>
                  <a:pt x="12045" y="13610"/>
                  <a:pt x="12005" y="13717"/>
                </a:cubicBezTo>
                <a:cubicBezTo>
                  <a:pt x="11970" y="13811"/>
                  <a:pt x="11934" y="13885"/>
                  <a:pt x="11881" y="13965"/>
                </a:cubicBezTo>
                <a:cubicBezTo>
                  <a:pt x="11834" y="14036"/>
                  <a:pt x="11794" y="14085"/>
                  <a:pt x="11708" y="14114"/>
                </a:cubicBezTo>
                <a:cubicBezTo>
                  <a:pt x="11637" y="14138"/>
                  <a:pt x="11549" y="14105"/>
                  <a:pt x="11485" y="14089"/>
                </a:cubicBezTo>
                <a:cubicBezTo>
                  <a:pt x="11398" y="14067"/>
                  <a:pt x="11314" y="13988"/>
                  <a:pt x="11261" y="13915"/>
                </a:cubicBezTo>
                <a:cubicBezTo>
                  <a:pt x="11185" y="13811"/>
                  <a:pt x="11152" y="13668"/>
                  <a:pt x="11137" y="13543"/>
                </a:cubicBezTo>
                <a:cubicBezTo>
                  <a:pt x="11125" y="13446"/>
                  <a:pt x="11148" y="13351"/>
                  <a:pt x="11162" y="13271"/>
                </a:cubicBezTo>
                <a:cubicBezTo>
                  <a:pt x="11162" y="13276"/>
                  <a:pt x="11174" y="13320"/>
                  <a:pt x="11162" y="13370"/>
                </a:cubicBezTo>
                <a:cubicBezTo>
                  <a:pt x="11146" y="13437"/>
                  <a:pt x="11133" y="13509"/>
                  <a:pt x="11088" y="13568"/>
                </a:cubicBezTo>
                <a:cubicBezTo>
                  <a:pt x="11026" y="13650"/>
                  <a:pt x="10934" y="13728"/>
                  <a:pt x="10840" y="13767"/>
                </a:cubicBezTo>
                <a:cubicBezTo>
                  <a:pt x="10759" y="13800"/>
                  <a:pt x="10676" y="13796"/>
                  <a:pt x="10592" y="13816"/>
                </a:cubicBezTo>
                <a:cubicBezTo>
                  <a:pt x="10483" y="13843"/>
                  <a:pt x="10420" y="13822"/>
                  <a:pt x="10319" y="13816"/>
                </a:cubicBezTo>
                <a:cubicBezTo>
                  <a:pt x="10294" y="13816"/>
                  <a:pt x="10269" y="13816"/>
                  <a:pt x="10244" y="13816"/>
                </a:cubicBezTo>
              </a:path>
              <a:path w="23913" h="5780">
                <a:moveTo>
                  <a:pt x="15453" y="12576"/>
                </a:moveTo>
                <a:cubicBezTo>
                  <a:pt x="15439" y="12605"/>
                  <a:pt x="15424" y="12680"/>
                  <a:pt x="15404" y="12700"/>
                </a:cubicBezTo>
                <a:cubicBezTo>
                  <a:pt x="15391" y="12713"/>
                  <a:pt x="15367" y="12738"/>
                  <a:pt x="15354" y="12750"/>
                </a:cubicBezTo>
                <a:cubicBezTo>
                  <a:pt x="15325" y="12775"/>
                  <a:pt x="15294" y="12781"/>
                  <a:pt x="15280" y="12799"/>
                </a:cubicBezTo>
                <a:cubicBezTo>
                  <a:pt x="15247" y="12841"/>
                  <a:pt x="15237" y="12834"/>
                  <a:pt x="15205" y="12874"/>
                </a:cubicBezTo>
                <a:cubicBezTo>
                  <a:pt x="15174" y="12912"/>
                  <a:pt x="15165" y="12956"/>
                  <a:pt x="15131" y="12998"/>
                </a:cubicBezTo>
                <a:cubicBezTo>
                  <a:pt x="15076" y="13066"/>
                  <a:pt x="15011" y="13130"/>
                  <a:pt x="14957" y="13196"/>
                </a:cubicBezTo>
                <a:cubicBezTo>
                  <a:pt x="14909" y="13255"/>
                  <a:pt x="14855" y="13313"/>
                  <a:pt x="14808" y="13370"/>
                </a:cubicBezTo>
                <a:cubicBezTo>
                  <a:pt x="14767" y="13420"/>
                  <a:pt x="14698" y="13450"/>
                  <a:pt x="14660" y="13494"/>
                </a:cubicBezTo>
                <a:cubicBezTo>
                  <a:pt x="14624" y="13535"/>
                  <a:pt x="14620" y="13597"/>
                  <a:pt x="14585" y="13643"/>
                </a:cubicBezTo>
                <a:cubicBezTo>
                  <a:pt x="14541" y="13700"/>
                  <a:pt x="14476" y="13767"/>
                  <a:pt x="14436" y="13816"/>
                </a:cubicBezTo>
                <a:cubicBezTo>
                  <a:pt x="14410" y="13848"/>
                  <a:pt x="14359" y="13921"/>
                  <a:pt x="14337" y="13940"/>
                </a:cubicBezTo>
                <a:cubicBezTo>
                  <a:pt x="14314" y="13960"/>
                  <a:pt x="14268" y="13987"/>
                  <a:pt x="14238" y="14015"/>
                </a:cubicBezTo>
                <a:cubicBezTo>
                  <a:pt x="14212" y="14039"/>
                  <a:pt x="14176" y="14080"/>
                  <a:pt x="14163" y="14089"/>
                </a:cubicBezTo>
                <a:cubicBezTo>
                  <a:pt x="14122" y="14119"/>
                  <a:pt x="14138" y="14105"/>
                  <a:pt x="14139" y="14114"/>
                </a:cubicBezTo>
                <a:cubicBezTo>
                  <a:pt x="14144" y="14148"/>
                  <a:pt x="14143" y="14188"/>
                  <a:pt x="14163" y="14213"/>
                </a:cubicBezTo>
                <a:cubicBezTo>
                  <a:pt x="14191" y="14249"/>
                  <a:pt x="14194" y="14284"/>
                  <a:pt x="14213" y="14312"/>
                </a:cubicBezTo>
                <a:cubicBezTo>
                  <a:pt x="14223" y="14327"/>
                  <a:pt x="14247" y="14356"/>
                  <a:pt x="14263" y="14387"/>
                </a:cubicBezTo>
                <a:cubicBezTo>
                  <a:pt x="14283" y="14426"/>
                  <a:pt x="14312" y="14448"/>
                  <a:pt x="14337" y="14486"/>
                </a:cubicBezTo>
                <a:cubicBezTo>
                  <a:pt x="14351" y="14507"/>
                  <a:pt x="14374" y="14525"/>
                  <a:pt x="14387" y="14560"/>
                </a:cubicBezTo>
                <a:cubicBezTo>
                  <a:pt x="14387" y="14568"/>
                  <a:pt x="14387" y="14577"/>
                  <a:pt x="14387" y="14585"/>
                </a:cubicBezTo>
                <a:cubicBezTo>
                  <a:pt x="14415" y="14565"/>
                  <a:pt x="14414" y="14561"/>
                  <a:pt x="14436" y="14536"/>
                </a:cubicBezTo>
                <a:cubicBezTo>
                  <a:pt x="14449" y="14521"/>
                  <a:pt x="14484" y="14490"/>
                  <a:pt x="14511" y="14461"/>
                </a:cubicBezTo>
                <a:cubicBezTo>
                  <a:pt x="14553" y="14417"/>
                  <a:pt x="14558" y="14374"/>
                  <a:pt x="14585" y="14337"/>
                </a:cubicBezTo>
                <a:cubicBezTo>
                  <a:pt x="14634" y="14270"/>
                  <a:pt x="14705" y="14201"/>
                  <a:pt x="14759" y="14139"/>
                </a:cubicBezTo>
                <a:cubicBezTo>
                  <a:pt x="14795" y="14097"/>
                  <a:pt x="14844" y="14025"/>
                  <a:pt x="14883" y="13990"/>
                </a:cubicBezTo>
                <a:cubicBezTo>
                  <a:pt x="14976" y="13908"/>
                  <a:pt x="15028" y="13818"/>
                  <a:pt x="15106" y="13717"/>
                </a:cubicBezTo>
                <a:cubicBezTo>
                  <a:pt x="15154" y="13655"/>
                  <a:pt x="15210" y="13606"/>
                  <a:pt x="15255" y="13543"/>
                </a:cubicBezTo>
                <a:cubicBezTo>
                  <a:pt x="15310" y="13466"/>
                  <a:pt x="15406" y="13333"/>
                  <a:pt x="15478" y="13271"/>
                </a:cubicBezTo>
                <a:cubicBezTo>
                  <a:pt x="15534" y="13222"/>
                  <a:pt x="15597" y="13194"/>
                  <a:pt x="15652" y="13146"/>
                </a:cubicBezTo>
                <a:cubicBezTo>
                  <a:pt x="15693" y="13105"/>
                  <a:pt x="15701" y="13097"/>
                  <a:pt x="15726" y="13072"/>
                </a:cubicBezTo>
              </a:path>
              <a:path w="23913" h="5780">
                <a:moveTo>
                  <a:pt x="23614" y="13047"/>
                </a:moveTo>
                <a:cubicBezTo>
                  <a:pt x="23591" y="13070"/>
                  <a:pt x="23587" y="13078"/>
                  <a:pt x="23564" y="13072"/>
                </a:cubicBezTo>
                <a:cubicBezTo>
                  <a:pt x="23554" y="13085"/>
                  <a:pt x="23522" y="13120"/>
                  <a:pt x="23515" y="13146"/>
                </a:cubicBezTo>
                <a:cubicBezTo>
                  <a:pt x="23497" y="13210"/>
                  <a:pt x="23530" y="13270"/>
                  <a:pt x="23540" y="13320"/>
                </a:cubicBezTo>
                <a:cubicBezTo>
                  <a:pt x="23547" y="13353"/>
                  <a:pt x="23559" y="13394"/>
                  <a:pt x="23564" y="13419"/>
                </a:cubicBezTo>
                <a:cubicBezTo>
                  <a:pt x="23572" y="13459"/>
                  <a:pt x="23573" y="13484"/>
                  <a:pt x="23589" y="13519"/>
                </a:cubicBezTo>
                <a:cubicBezTo>
                  <a:pt x="23604" y="13552"/>
                  <a:pt x="23620" y="13612"/>
                  <a:pt x="23639" y="13643"/>
                </a:cubicBezTo>
                <a:cubicBezTo>
                  <a:pt x="23657" y="13673"/>
                  <a:pt x="23670" y="13716"/>
                  <a:pt x="23688" y="13742"/>
                </a:cubicBezTo>
                <a:cubicBezTo>
                  <a:pt x="23710" y="13764"/>
                  <a:pt x="23719" y="13769"/>
                  <a:pt x="23713" y="13791"/>
                </a:cubicBezTo>
                <a:cubicBezTo>
                  <a:pt x="23745" y="13810"/>
                  <a:pt x="23740" y="13809"/>
                  <a:pt x="23788" y="13816"/>
                </a:cubicBezTo>
                <a:cubicBezTo>
                  <a:pt x="23809" y="13838"/>
                  <a:pt x="23824" y="13846"/>
                  <a:pt x="23862" y="13866"/>
                </a:cubicBezTo>
                <a:cubicBezTo>
                  <a:pt x="23894" y="13883"/>
                  <a:pt x="23922" y="13889"/>
                  <a:pt x="23961" y="13891"/>
                </a:cubicBezTo>
                <a:cubicBezTo>
                  <a:pt x="24072" y="13898"/>
                  <a:pt x="24266" y="13927"/>
                  <a:pt x="24358" y="13915"/>
                </a:cubicBezTo>
                <a:cubicBezTo>
                  <a:pt x="24386" y="13915"/>
                  <a:pt x="24397" y="13913"/>
                  <a:pt x="24408" y="13891"/>
                </a:cubicBezTo>
                <a:cubicBezTo>
                  <a:pt x="24431" y="13904"/>
                  <a:pt x="24432" y="13912"/>
                  <a:pt x="24482" y="13915"/>
                </a:cubicBezTo>
                <a:cubicBezTo>
                  <a:pt x="24531" y="13918"/>
                  <a:pt x="24542" y="13902"/>
                  <a:pt x="24581" y="13891"/>
                </a:cubicBezTo>
                <a:cubicBezTo>
                  <a:pt x="24589" y="13891"/>
                  <a:pt x="24598" y="13891"/>
                  <a:pt x="24606" y="13891"/>
                </a:cubicBezTo>
                <a:cubicBezTo>
                  <a:pt x="24621" y="13873"/>
                  <a:pt x="24641" y="13849"/>
                  <a:pt x="24656" y="13816"/>
                </a:cubicBezTo>
                <a:cubicBezTo>
                  <a:pt x="24656" y="13808"/>
                  <a:pt x="24656" y="13799"/>
                  <a:pt x="24656" y="13791"/>
                </a:cubicBezTo>
              </a:path>
              <a:path w="23913" h="5780">
                <a:moveTo>
                  <a:pt x="24284" y="13593"/>
                </a:moveTo>
                <a:cubicBezTo>
                  <a:pt x="24259" y="13550"/>
                  <a:pt x="24254" y="13504"/>
                  <a:pt x="24234" y="13469"/>
                </a:cubicBezTo>
                <a:cubicBezTo>
                  <a:pt x="24226" y="13461"/>
                  <a:pt x="24217" y="13452"/>
                  <a:pt x="24209" y="13444"/>
                </a:cubicBezTo>
                <a:cubicBezTo>
                  <a:pt x="24209" y="13522"/>
                  <a:pt x="24206" y="13600"/>
                  <a:pt x="24185" y="13643"/>
                </a:cubicBezTo>
                <a:cubicBezTo>
                  <a:pt x="24185" y="13651"/>
                  <a:pt x="24185" y="13659"/>
                  <a:pt x="24185" y="13667"/>
                </a:cubicBezTo>
                <a:cubicBezTo>
                  <a:pt x="24159" y="13661"/>
                  <a:pt x="24099" y="13647"/>
                  <a:pt x="24085" y="13618"/>
                </a:cubicBezTo>
                <a:cubicBezTo>
                  <a:pt x="24074" y="13595"/>
                  <a:pt x="24055" y="13570"/>
                  <a:pt x="24036" y="13543"/>
                </a:cubicBezTo>
                <a:cubicBezTo>
                  <a:pt x="24014" y="13511"/>
                  <a:pt x="23943" y="13389"/>
                  <a:pt x="23961" y="13345"/>
                </a:cubicBezTo>
                <a:cubicBezTo>
                  <a:pt x="23971" y="13320"/>
                  <a:pt x="23994" y="13293"/>
                  <a:pt x="24011" y="13271"/>
                </a:cubicBezTo>
                <a:cubicBezTo>
                  <a:pt x="24022" y="13301"/>
                  <a:pt x="24018" y="13326"/>
                  <a:pt x="24036" y="13370"/>
                </a:cubicBezTo>
                <a:cubicBezTo>
                  <a:pt x="24059" y="13425"/>
                  <a:pt x="24080" y="13477"/>
                  <a:pt x="24085" y="13543"/>
                </a:cubicBezTo>
                <a:cubicBezTo>
                  <a:pt x="24089" y="13593"/>
                  <a:pt x="24070" y="13599"/>
                  <a:pt x="24061" y="13618"/>
                </a:cubicBezTo>
                <a:cubicBezTo>
                  <a:pt x="24061" y="13626"/>
                  <a:pt x="24061" y="13635"/>
                  <a:pt x="24061" y="13643"/>
                </a:cubicBezTo>
                <a:cubicBezTo>
                  <a:pt x="24048" y="13605"/>
                  <a:pt x="24006" y="13603"/>
                  <a:pt x="23986" y="13543"/>
                </a:cubicBezTo>
                <a:cubicBezTo>
                  <a:pt x="23974" y="13508"/>
                  <a:pt x="23977" y="13451"/>
                  <a:pt x="23961" y="13419"/>
                </a:cubicBezTo>
                <a:cubicBezTo>
                  <a:pt x="23924" y="13344"/>
                  <a:pt x="23984" y="13453"/>
                  <a:pt x="23986" y="13469"/>
                </a:cubicBezTo>
                <a:cubicBezTo>
                  <a:pt x="23986" y="13477"/>
                  <a:pt x="23986" y="13486"/>
                  <a:pt x="23986" y="13494"/>
                </a:cubicBezTo>
              </a:path>
              <a:path w="23913" h="5780">
                <a:moveTo>
                  <a:pt x="22895" y="13543"/>
                </a:moveTo>
                <a:cubicBezTo>
                  <a:pt x="22872" y="13566"/>
                  <a:pt x="22864" y="13577"/>
                  <a:pt x="22870" y="13543"/>
                </a:cubicBezTo>
              </a:path>
              <a:path w="23913" h="5780">
                <a:moveTo>
                  <a:pt x="22969" y="13568"/>
                </a:moveTo>
                <a:cubicBezTo>
                  <a:pt x="22944" y="13535"/>
                  <a:pt x="22924" y="13524"/>
                  <a:pt x="22920" y="13494"/>
                </a:cubicBezTo>
                <a:cubicBezTo>
                  <a:pt x="22920" y="13469"/>
                  <a:pt x="22920" y="13461"/>
                  <a:pt x="22944" y="13469"/>
                </a:cubicBezTo>
                <a:cubicBezTo>
                  <a:pt x="22961" y="13491"/>
                  <a:pt x="22988" y="13535"/>
                  <a:pt x="22969" y="13568"/>
                </a:cubicBezTo>
                <a:cubicBezTo>
                  <a:pt x="22952" y="13598"/>
                  <a:pt x="22938" y="13659"/>
                  <a:pt x="22920" y="13667"/>
                </a:cubicBezTo>
                <a:cubicBezTo>
                  <a:pt x="22892" y="13667"/>
                  <a:pt x="22881" y="13669"/>
                  <a:pt x="22870" y="13692"/>
                </a:cubicBezTo>
                <a:cubicBezTo>
                  <a:pt x="22870" y="13659"/>
                  <a:pt x="22835" y="13615"/>
                  <a:pt x="22845" y="13593"/>
                </a:cubicBezTo>
                <a:cubicBezTo>
                  <a:pt x="22860" y="13559"/>
                  <a:pt x="22870" y="13551"/>
                  <a:pt x="22895" y="13543"/>
                </a:cubicBezTo>
                <a:cubicBezTo>
                  <a:pt x="22933" y="13556"/>
                  <a:pt x="22920" y="13573"/>
                  <a:pt x="22920" y="13618"/>
                </a:cubicBezTo>
                <a:cubicBezTo>
                  <a:pt x="22920" y="13650"/>
                  <a:pt x="22920" y="13725"/>
                  <a:pt x="22895" y="13742"/>
                </a:cubicBezTo>
                <a:cubicBezTo>
                  <a:pt x="22870" y="13742"/>
                  <a:pt x="22862" y="13742"/>
                  <a:pt x="22845" y="13742"/>
                </a:cubicBezTo>
              </a:path>
              <a:path w="23913" h="5780">
                <a:moveTo>
                  <a:pt x="22250" y="13221"/>
                </a:moveTo>
                <a:cubicBezTo>
                  <a:pt x="22296" y="13233"/>
                  <a:pt x="22315" y="13276"/>
                  <a:pt x="22324" y="13320"/>
                </a:cubicBezTo>
                <a:cubicBezTo>
                  <a:pt x="22337" y="13384"/>
                  <a:pt x="22309" y="13397"/>
                  <a:pt x="22299" y="13444"/>
                </a:cubicBezTo>
                <a:cubicBezTo>
                  <a:pt x="22290" y="13488"/>
                  <a:pt x="22296" y="13538"/>
                  <a:pt x="22250" y="13543"/>
                </a:cubicBezTo>
                <a:cubicBezTo>
                  <a:pt x="22194" y="13550"/>
                  <a:pt x="22177" y="13527"/>
                  <a:pt x="22151" y="13494"/>
                </a:cubicBezTo>
                <a:cubicBezTo>
                  <a:pt x="22119" y="13452"/>
                  <a:pt x="22126" y="13426"/>
                  <a:pt x="22126" y="13370"/>
                </a:cubicBezTo>
                <a:cubicBezTo>
                  <a:pt x="22126" y="13330"/>
                  <a:pt x="22165" y="13341"/>
                  <a:pt x="22175" y="13320"/>
                </a:cubicBezTo>
                <a:cubicBezTo>
                  <a:pt x="22175" y="13312"/>
                  <a:pt x="22175" y="13303"/>
                  <a:pt x="22175" y="13295"/>
                </a:cubicBezTo>
                <a:cubicBezTo>
                  <a:pt x="22186" y="13329"/>
                  <a:pt x="22210" y="13326"/>
                  <a:pt x="22225" y="13370"/>
                </a:cubicBezTo>
                <a:cubicBezTo>
                  <a:pt x="22241" y="13417"/>
                  <a:pt x="22207" y="13460"/>
                  <a:pt x="22200" y="13494"/>
                </a:cubicBezTo>
                <a:cubicBezTo>
                  <a:pt x="22191" y="13536"/>
                  <a:pt x="22204" y="13578"/>
                  <a:pt x="22175" y="13593"/>
                </a:cubicBezTo>
                <a:cubicBezTo>
                  <a:pt x="22151" y="13593"/>
                  <a:pt x="22142" y="13593"/>
                  <a:pt x="22126" y="13593"/>
                </a:cubicBezTo>
                <a:cubicBezTo>
                  <a:pt x="22115" y="13548"/>
                  <a:pt x="22101" y="13523"/>
                  <a:pt x="22101" y="13469"/>
                </a:cubicBezTo>
                <a:cubicBezTo>
                  <a:pt x="22101" y="13459"/>
                  <a:pt x="22118" y="13352"/>
                  <a:pt x="22126" y="13345"/>
                </a:cubicBezTo>
                <a:cubicBezTo>
                  <a:pt x="22134" y="13345"/>
                  <a:pt x="22143" y="13345"/>
                  <a:pt x="22151" y="13345"/>
                </a:cubicBezTo>
                <a:cubicBezTo>
                  <a:pt x="22173" y="13375"/>
                  <a:pt x="22197" y="13406"/>
                  <a:pt x="22200" y="13444"/>
                </a:cubicBezTo>
                <a:cubicBezTo>
                  <a:pt x="22204" y="13502"/>
                  <a:pt x="22208" y="13549"/>
                  <a:pt x="22175" y="13593"/>
                </a:cubicBezTo>
              </a:path>
              <a:path w="23913" h="5780">
                <a:moveTo>
                  <a:pt x="21481" y="13568"/>
                </a:moveTo>
                <a:cubicBezTo>
                  <a:pt x="21501" y="13595"/>
                  <a:pt x="21541" y="13636"/>
                  <a:pt x="21555" y="13667"/>
                </a:cubicBezTo>
                <a:cubicBezTo>
                  <a:pt x="21555" y="13692"/>
                  <a:pt x="21555" y="13700"/>
                  <a:pt x="21555" y="13717"/>
                </a:cubicBezTo>
                <a:cubicBezTo>
                  <a:pt x="21596" y="13717"/>
                  <a:pt x="21536" y="13718"/>
                  <a:pt x="21530" y="13667"/>
                </a:cubicBezTo>
                <a:cubicBezTo>
                  <a:pt x="21524" y="13611"/>
                  <a:pt x="21550" y="13588"/>
                  <a:pt x="21555" y="13543"/>
                </a:cubicBezTo>
                <a:cubicBezTo>
                  <a:pt x="21558" y="13518"/>
                  <a:pt x="21588" y="13430"/>
                  <a:pt x="21605" y="13419"/>
                </a:cubicBezTo>
                <a:cubicBezTo>
                  <a:pt x="21630" y="13419"/>
                  <a:pt x="21638" y="13419"/>
                  <a:pt x="21654" y="13419"/>
                </a:cubicBezTo>
                <a:cubicBezTo>
                  <a:pt x="21686" y="13461"/>
                  <a:pt x="21679" y="13487"/>
                  <a:pt x="21679" y="13543"/>
                </a:cubicBezTo>
                <a:cubicBezTo>
                  <a:pt x="21679" y="13568"/>
                  <a:pt x="21679" y="13576"/>
                  <a:pt x="21679" y="13593"/>
                </a:cubicBezTo>
                <a:cubicBezTo>
                  <a:pt x="21633" y="13593"/>
                  <a:pt x="21611" y="13594"/>
                  <a:pt x="21605" y="13543"/>
                </a:cubicBezTo>
                <a:cubicBezTo>
                  <a:pt x="21597" y="13473"/>
                  <a:pt x="21563" y="13449"/>
                  <a:pt x="21605" y="13395"/>
                </a:cubicBezTo>
                <a:cubicBezTo>
                  <a:pt x="21605" y="13455"/>
                  <a:pt x="21629" y="13577"/>
                  <a:pt x="21580" y="13593"/>
                </a:cubicBezTo>
              </a:path>
              <a:path w="23913" h="5780">
                <a:moveTo>
                  <a:pt x="21158" y="13444"/>
                </a:moveTo>
                <a:cubicBezTo>
                  <a:pt x="21118" y="13434"/>
                  <a:pt x="21089" y="13415"/>
                  <a:pt x="21084" y="13370"/>
                </a:cubicBezTo>
                <a:cubicBezTo>
                  <a:pt x="21079" y="13327"/>
                  <a:pt x="21072" y="13360"/>
                  <a:pt x="21059" y="13320"/>
                </a:cubicBezTo>
                <a:cubicBezTo>
                  <a:pt x="21059" y="13365"/>
                  <a:pt x="21081" y="13379"/>
                  <a:pt x="21084" y="13419"/>
                </a:cubicBezTo>
                <a:cubicBezTo>
                  <a:pt x="21086" y="13453"/>
                  <a:pt x="21098" y="13524"/>
                  <a:pt x="21059" y="13543"/>
                </a:cubicBezTo>
                <a:cubicBezTo>
                  <a:pt x="21034" y="13543"/>
                  <a:pt x="21026" y="13543"/>
                  <a:pt x="21010" y="13543"/>
                </a:cubicBezTo>
                <a:cubicBezTo>
                  <a:pt x="20987" y="13536"/>
                  <a:pt x="20971" y="13501"/>
                  <a:pt x="20960" y="13469"/>
                </a:cubicBezTo>
                <a:cubicBezTo>
                  <a:pt x="20948" y="13432"/>
                  <a:pt x="20973" y="13411"/>
                  <a:pt x="20985" y="13395"/>
                </a:cubicBezTo>
                <a:cubicBezTo>
                  <a:pt x="20993" y="13387"/>
                  <a:pt x="21002" y="13378"/>
                  <a:pt x="21010" y="13370"/>
                </a:cubicBezTo>
                <a:cubicBezTo>
                  <a:pt x="21063" y="13370"/>
                  <a:pt x="21094" y="13382"/>
                  <a:pt x="21109" y="13444"/>
                </a:cubicBezTo>
                <a:cubicBezTo>
                  <a:pt x="21114" y="13464"/>
                  <a:pt x="21095" y="13548"/>
                  <a:pt x="21084" y="13568"/>
                </a:cubicBezTo>
                <a:cubicBezTo>
                  <a:pt x="21076" y="13576"/>
                  <a:pt x="21067" y="13585"/>
                  <a:pt x="21059" y="13593"/>
                </a:cubicBezTo>
                <a:cubicBezTo>
                  <a:pt x="21000" y="13593"/>
                  <a:pt x="21022" y="13584"/>
                  <a:pt x="20985" y="13543"/>
                </a:cubicBezTo>
                <a:cubicBezTo>
                  <a:pt x="20977" y="13535"/>
                  <a:pt x="20968" y="13527"/>
                  <a:pt x="20960" y="13519"/>
                </a:cubicBezTo>
              </a:path>
              <a:path w="23913" h="5780">
                <a:moveTo>
                  <a:pt x="20489" y="13643"/>
                </a:moveTo>
                <a:cubicBezTo>
                  <a:pt x="20458" y="13643"/>
                  <a:pt x="20422" y="13635"/>
                  <a:pt x="20414" y="13618"/>
                </a:cubicBezTo>
                <a:cubicBezTo>
                  <a:pt x="20396" y="13581"/>
                  <a:pt x="20416" y="13551"/>
                  <a:pt x="20439" y="13543"/>
                </a:cubicBezTo>
                <a:cubicBezTo>
                  <a:pt x="20462" y="13574"/>
                  <a:pt x="20485" y="13604"/>
                  <a:pt x="20489" y="13643"/>
                </a:cubicBezTo>
                <a:cubicBezTo>
                  <a:pt x="20492" y="13673"/>
                  <a:pt x="20471" y="13689"/>
                  <a:pt x="20464" y="13717"/>
                </a:cubicBezTo>
                <a:cubicBezTo>
                  <a:pt x="20450" y="13675"/>
                  <a:pt x="20402" y="13702"/>
                  <a:pt x="20389" y="13643"/>
                </a:cubicBezTo>
                <a:cubicBezTo>
                  <a:pt x="20374" y="13574"/>
                  <a:pt x="20399" y="13530"/>
                  <a:pt x="20414" y="13469"/>
                </a:cubicBezTo>
                <a:cubicBezTo>
                  <a:pt x="20414" y="13444"/>
                  <a:pt x="20414" y="13436"/>
                  <a:pt x="20439" y="13444"/>
                </a:cubicBezTo>
                <a:cubicBezTo>
                  <a:pt x="20468" y="13454"/>
                  <a:pt x="20484" y="13478"/>
                  <a:pt x="20489" y="13519"/>
                </a:cubicBezTo>
                <a:cubicBezTo>
                  <a:pt x="20494" y="13561"/>
                  <a:pt x="20449" y="13589"/>
                  <a:pt x="20414" y="13593"/>
                </a:cubicBezTo>
                <a:cubicBezTo>
                  <a:pt x="20406" y="13593"/>
                  <a:pt x="20397" y="13593"/>
                  <a:pt x="20389" y="13593"/>
                </a:cubicBezTo>
              </a:path>
              <a:path w="23913" h="5780">
                <a:moveTo>
                  <a:pt x="19993" y="13643"/>
                </a:moveTo>
                <a:cubicBezTo>
                  <a:pt x="19920" y="13636"/>
                  <a:pt x="19892" y="13639"/>
                  <a:pt x="19869" y="13568"/>
                </a:cubicBezTo>
                <a:cubicBezTo>
                  <a:pt x="19860" y="13540"/>
                  <a:pt x="19851" y="13523"/>
                  <a:pt x="19844" y="13494"/>
                </a:cubicBezTo>
                <a:cubicBezTo>
                  <a:pt x="19880" y="13542"/>
                  <a:pt x="19878" y="13576"/>
                  <a:pt x="19869" y="13618"/>
                </a:cubicBezTo>
                <a:cubicBezTo>
                  <a:pt x="19869" y="13646"/>
                  <a:pt x="19867" y="13657"/>
                  <a:pt x="19844" y="13667"/>
                </a:cubicBezTo>
                <a:cubicBezTo>
                  <a:pt x="19804" y="13667"/>
                  <a:pt x="19764" y="13662"/>
                  <a:pt x="19745" y="13618"/>
                </a:cubicBezTo>
                <a:cubicBezTo>
                  <a:pt x="19720" y="13560"/>
                  <a:pt x="19727" y="13571"/>
                  <a:pt x="19745" y="13519"/>
                </a:cubicBezTo>
                <a:cubicBezTo>
                  <a:pt x="19745" y="13491"/>
                  <a:pt x="19747" y="13480"/>
                  <a:pt x="19769" y="13469"/>
                </a:cubicBezTo>
                <a:cubicBezTo>
                  <a:pt x="19780" y="13503"/>
                  <a:pt x="19804" y="13499"/>
                  <a:pt x="19819" y="13543"/>
                </a:cubicBezTo>
                <a:cubicBezTo>
                  <a:pt x="19826" y="13564"/>
                  <a:pt x="19864" y="13582"/>
                  <a:pt x="19844" y="13618"/>
                </a:cubicBezTo>
                <a:cubicBezTo>
                  <a:pt x="19820" y="13662"/>
                  <a:pt x="19819" y="13667"/>
                  <a:pt x="19769" y="13667"/>
                </a:cubicBezTo>
              </a:path>
              <a:path w="23913" h="5780">
                <a:moveTo>
                  <a:pt x="19397" y="13692"/>
                </a:moveTo>
                <a:cubicBezTo>
                  <a:pt x="19346" y="13705"/>
                  <a:pt x="19348" y="13731"/>
                  <a:pt x="19348" y="13667"/>
                </a:cubicBezTo>
                <a:cubicBezTo>
                  <a:pt x="19348" y="13623"/>
                  <a:pt x="19336" y="13606"/>
                  <a:pt x="19372" y="13593"/>
                </a:cubicBezTo>
                <a:cubicBezTo>
                  <a:pt x="19383" y="13627"/>
                  <a:pt x="19407" y="13623"/>
                  <a:pt x="19422" y="13667"/>
                </a:cubicBezTo>
                <a:cubicBezTo>
                  <a:pt x="19422" y="13692"/>
                  <a:pt x="19422" y="13700"/>
                  <a:pt x="19422" y="13717"/>
                </a:cubicBezTo>
                <a:cubicBezTo>
                  <a:pt x="19401" y="13724"/>
                  <a:pt x="19384" y="13762"/>
                  <a:pt x="19348" y="13742"/>
                </a:cubicBezTo>
                <a:cubicBezTo>
                  <a:pt x="19315" y="13723"/>
                  <a:pt x="19286" y="13705"/>
                  <a:pt x="19273" y="13667"/>
                </a:cubicBezTo>
                <a:cubicBezTo>
                  <a:pt x="19258" y="13624"/>
                  <a:pt x="19268" y="13553"/>
                  <a:pt x="19298" y="13543"/>
                </a:cubicBezTo>
                <a:cubicBezTo>
                  <a:pt x="19309" y="13576"/>
                  <a:pt x="19338" y="13573"/>
                  <a:pt x="19348" y="13593"/>
                </a:cubicBezTo>
                <a:cubicBezTo>
                  <a:pt x="19368" y="13633"/>
                  <a:pt x="19332" y="13664"/>
                  <a:pt x="19323" y="13692"/>
                </a:cubicBezTo>
                <a:cubicBezTo>
                  <a:pt x="19306" y="13742"/>
                  <a:pt x="19305" y="13736"/>
                  <a:pt x="19248" y="13717"/>
                </a:cubicBezTo>
              </a:path>
              <a:path w="23913" h="5780">
                <a:moveTo>
                  <a:pt x="18852" y="13717"/>
                </a:moveTo>
                <a:cubicBezTo>
                  <a:pt x="18813" y="13700"/>
                  <a:pt x="18748" y="13688"/>
                  <a:pt x="18728" y="13643"/>
                </a:cubicBezTo>
                <a:cubicBezTo>
                  <a:pt x="18715" y="13613"/>
                  <a:pt x="18692" y="13609"/>
                  <a:pt x="18678" y="13568"/>
                </a:cubicBezTo>
                <a:cubicBezTo>
                  <a:pt x="18678" y="13543"/>
                  <a:pt x="18678" y="13535"/>
                  <a:pt x="18678" y="13519"/>
                </a:cubicBezTo>
                <a:cubicBezTo>
                  <a:pt x="18716" y="13531"/>
                  <a:pt x="18701" y="13575"/>
                  <a:pt x="18728" y="13593"/>
                </a:cubicBezTo>
                <a:cubicBezTo>
                  <a:pt x="18746" y="13606"/>
                  <a:pt x="18763" y="13644"/>
                  <a:pt x="18728" y="13667"/>
                </a:cubicBezTo>
                <a:cubicBezTo>
                  <a:pt x="18679" y="13699"/>
                  <a:pt x="18674" y="13678"/>
                  <a:pt x="18653" y="13667"/>
                </a:cubicBezTo>
                <a:cubicBezTo>
                  <a:pt x="18605" y="13643"/>
                  <a:pt x="18629" y="13613"/>
                  <a:pt x="18604" y="13593"/>
                </a:cubicBezTo>
                <a:cubicBezTo>
                  <a:pt x="18587" y="13579"/>
                  <a:pt x="18571" y="13533"/>
                  <a:pt x="18604" y="13494"/>
                </a:cubicBezTo>
                <a:cubicBezTo>
                  <a:pt x="18628" y="13494"/>
                  <a:pt x="18636" y="13494"/>
                  <a:pt x="18628" y="13469"/>
                </a:cubicBezTo>
                <a:cubicBezTo>
                  <a:pt x="18669" y="13479"/>
                  <a:pt x="18698" y="13497"/>
                  <a:pt x="18703" y="13543"/>
                </a:cubicBezTo>
                <a:cubicBezTo>
                  <a:pt x="18710" y="13609"/>
                  <a:pt x="18724" y="13581"/>
                  <a:pt x="18703" y="13643"/>
                </a:cubicBezTo>
                <a:cubicBezTo>
                  <a:pt x="18686" y="13693"/>
                  <a:pt x="18708" y="13714"/>
                  <a:pt x="18653" y="13742"/>
                </a:cubicBezTo>
              </a:path>
              <a:path w="23913" h="5780">
                <a:moveTo>
                  <a:pt x="18157" y="13767"/>
                </a:moveTo>
                <a:cubicBezTo>
                  <a:pt x="18123" y="13733"/>
                  <a:pt x="18064" y="13692"/>
                  <a:pt x="18058" y="13643"/>
                </a:cubicBezTo>
                <a:cubicBezTo>
                  <a:pt x="18058" y="13635"/>
                  <a:pt x="18058" y="13626"/>
                  <a:pt x="18058" y="13618"/>
                </a:cubicBezTo>
                <a:cubicBezTo>
                  <a:pt x="18075" y="13640"/>
                  <a:pt x="18102" y="13683"/>
                  <a:pt x="18083" y="13717"/>
                </a:cubicBezTo>
                <a:cubicBezTo>
                  <a:pt x="18066" y="13747"/>
                  <a:pt x="18012" y="13782"/>
                  <a:pt x="17983" y="13791"/>
                </a:cubicBezTo>
                <a:cubicBezTo>
                  <a:pt x="17947" y="13803"/>
                  <a:pt x="17915" y="13760"/>
                  <a:pt x="17909" y="13742"/>
                </a:cubicBezTo>
                <a:cubicBezTo>
                  <a:pt x="17913" y="13730"/>
                  <a:pt x="17960" y="13687"/>
                  <a:pt x="17983" y="13717"/>
                </a:cubicBezTo>
                <a:cubicBezTo>
                  <a:pt x="18007" y="13748"/>
                  <a:pt x="17966" y="13796"/>
                  <a:pt x="17959" y="13816"/>
                </a:cubicBezTo>
                <a:cubicBezTo>
                  <a:pt x="17943" y="13866"/>
                  <a:pt x="17943" y="13849"/>
                  <a:pt x="17909" y="13841"/>
                </a:cubicBezTo>
                <a:cubicBezTo>
                  <a:pt x="17901" y="13841"/>
                  <a:pt x="17892" y="13841"/>
                  <a:pt x="17884" y="13841"/>
                </a:cubicBezTo>
              </a:path>
              <a:path w="23913" h="5780">
                <a:moveTo>
                  <a:pt x="17214" y="13667"/>
                </a:moveTo>
                <a:cubicBezTo>
                  <a:pt x="17152" y="13641"/>
                  <a:pt x="17140" y="13655"/>
                  <a:pt x="17140" y="13593"/>
                </a:cubicBezTo>
                <a:cubicBezTo>
                  <a:pt x="17151" y="13627"/>
                  <a:pt x="17179" y="13622"/>
                  <a:pt x="17190" y="13643"/>
                </a:cubicBezTo>
                <a:cubicBezTo>
                  <a:pt x="17205" y="13671"/>
                  <a:pt x="17193" y="13753"/>
                  <a:pt x="17165" y="13767"/>
                </a:cubicBezTo>
                <a:cubicBezTo>
                  <a:pt x="17122" y="13789"/>
                  <a:pt x="17079" y="13759"/>
                  <a:pt x="17066" y="13742"/>
                </a:cubicBezTo>
                <a:cubicBezTo>
                  <a:pt x="17024" y="13685"/>
                  <a:pt x="17050" y="13698"/>
                  <a:pt x="17066" y="13667"/>
                </a:cubicBezTo>
                <a:cubicBezTo>
                  <a:pt x="17086" y="13628"/>
                  <a:pt x="17056" y="13613"/>
                  <a:pt x="17115" y="13593"/>
                </a:cubicBezTo>
                <a:cubicBezTo>
                  <a:pt x="17157" y="13579"/>
                  <a:pt x="17180" y="13638"/>
                  <a:pt x="17190" y="13643"/>
                </a:cubicBezTo>
                <a:cubicBezTo>
                  <a:pt x="17223" y="13660"/>
                  <a:pt x="17214" y="13669"/>
                  <a:pt x="17214" y="13717"/>
                </a:cubicBezTo>
                <a:cubicBezTo>
                  <a:pt x="17214" y="13770"/>
                  <a:pt x="17202" y="13755"/>
                  <a:pt x="17190" y="13791"/>
                </a:cubicBezTo>
                <a:cubicBezTo>
                  <a:pt x="17182" y="13762"/>
                  <a:pt x="17157" y="13715"/>
                  <a:pt x="17190" y="13692"/>
                </a:cubicBezTo>
                <a:cubicBezTo>
                  <a:pt x="17229" y="13665"/>
                  <a:pt x="17248" y="13721"/>
                  <a:pt x="17264" y="13742"/>
                </a:cubicBezTo>
              </a:path>
              <a:path w="23913" h="5780">
                <a:moveTo>
                  <a:pt x="20985" y="15007"/>
                </a:moveTo>
                <a:cubicBezTo>
                  <a:pt x="21003" y="15048"/>
                  <a:pt x="21030" y="15090"/>
                  <a:pt x="21034" y="15131"/>
                </a:cubicBezTo>
                <a:cubicBezTo>
                  <a:pt x="21039" y="15174"/>
                  <a:pt x="21078" y="15221"/>
                  <a:pt x="21109" y="15255"/>
                </a:cubicBezTo>
                <a:cubicBezTo>
                  <a:pt x="21156" y="15308"/>
                  <a:pt x="21204" y="15338"/>
                  <a:pt x="21258" y="15379"/>
                </a:cubicBezTo>
                <a:cubicBezTo>
                  <a:pt x="21309" y="15418"/>
                  <a:pt x="21288" y="15419"/>
                  <a:pt x="21357" y="15429"/>
                </a:cubicBezTo>
              </a:path>
              <a:path w="23913" h="5780">
                <a:moveTo>
                  <a:pt x="943" y="13022"/>
                </a:moveTo>
                <a:cubicBezTo>
                  <a:pt x="954" y="12976"/>
                  <a:pt x="966" y="12967"/>
                  <a:pt x="992" y="12948"/>
                </a:cubicBezTo>
                <a:cubicBezTo>
                  <a:pt x="1037" y="12914"/>
                  <a:pt x="1101" y="12871"/>
                  <a:pt x="1166" y="12874"/>
                </a:cubicBezTo>
                <a:cubicBezTo>
                  <a:pt x="1210" y="12876"/>
                  <a:pt x="1274" y="12923"/>
                  <a:pt x="1315" y="12948"/>
                </a:cubicBezTo>
                <a:cubicBezTo>
                  <a:pt x="1371" y="12982"/>
                  <a:pt x="1402" y="13070"/>
                  <a:pt x="1389" y="13146"/>
                </a:cubicBezTo>
                <a:cubicBezTo>
                  <a:pt x="1372" y="13250"/>
                  <a:pt x="1322" y="13339"/>
                  <a:pt x="1265" y="13419"/>
                </a:cubicBezTo>
                <a:cubicBezTo>
                  <a:pt x="1191" y="13524"/>
                  <a:pt x="1156" y="13544"/>
                  <a:pt x="1042" y="13593"/>
                </a:cubicBezTo>
                <a:cubicBezTo>
                  <a:pt x="970" y="13624"/>
                  <a:pt x="890" y="13637"/>
                  <a:pt x="819" y="13593"/>
                </a:cubicBezTo>
                <a:cubicBezTo>
                  <a:pt x="801" y="13582"/>
                  <a:pt x="742" y="13486"/>
                  <a:pt x="744" y="13469"/>
                </a:cubicBezTo>
                <a:cubicBezTo>
                  <a:pt x="751" y="13420"/>
                  <a:pt x="796" y="13358"/>
                  <a:pt x="843" y="13345"/>
                </a:cubicBezTo>
                <a:cubicBezTo>
                  <a:pt x="918" y="13325"/>
                  <a:pt x="960" y="13361"/>
                  <a:pt x="1017" y="13395"/>
                </a:cubicBezTo>
                <a:cubicBezTo>
                  <a:pt x="1114" y="13452"/>
                  <a:pt x="1122" y="13505"/>
                  <a:pt x="1166" y="13593"/>
                </a:cubicBezTo>
                <a:cubicBezTo>
                  <a:pt x="1182" y="13626"/>
                  <a:pt x="1191" y="13728"/>
                  <a:pt x="1191" y="13692"/>
                </a:cubicBezTo>
                <a:cubicBezTo>
                  <a:pt x="1191" y="13684"/>
                  <a:pt x="1191" y="13675"/>
                  <a:pt x="1191" y="13667"/>
                </a:cubicBezTo>
              </a:path>
              <a:path w="23913" h="5780">
                <a:moveTo>
                  <a:pt x="1538" y="13593"/>
                </a:moveTo>
                <a:cubicBezTo>
                  <a:pt x="1592" y="13647"/>
                  <a:pt x="1563" y="13530"/>
                  <a:pt x="1563" y="13494"/>
                </a:cubicBezTo>
              </a:path>
              <a:path w="23913" h="5780">
                <a:moveTo>
                  <a:pt x="1885" y="12923"/>
                </a:moveTo>
                <a:cubicBezTo>
                  <a:pt x="2097" y="12857"/>
                  <a:pt x="2105" y="12796"/>
                  <a:pt x="2232" y="12923"/>
                </a:cubicBezTo>
                <a:cubicBezTo>
                  <a:pt x="2289" y="12980"/>
                  <a:pt x="2304" y="13069"/>
                  <a:pt x="2307" y="13146"/>
                </a:cubicBezTo>
                <a:cubicBezTo>
                  <a:pt x="2311" y="13246"/>
                  <a:pt x="2309" y="13354"/>
                  <a:pt x="2257" y="13444"/>
                </a:cubicBezTo>
                <a:cubicBezTo>
                  <a:pt x="2209" y="13529"/>
                  <a:pt x="2163" y="13633"/>
                  <a:pt x="2059" y="13643"/>
                </a:cubicBezTo>
                <a:cubicBezTo>
                  <a:pt x="2028" y="13646"/>
                  <a:pt x="1973" y="13597"/>
                  <a:pt x="1960" y="13568"/>
                </a:cubicBezTo>
                <a:cubicBezTo>
                  <a:pt x="1945" y="13534"/>
                  <a:pt x="1952" y="13415"/>
                  <a:pt x="1984" y="13395"/>
                </a:cubicBezTo>
                <a:cubicBezTo>
                  <a:pt x="2028" y="13367"/>
                  <a:pt x="2027" y="13383"/>
                  <a:pt x="2084" y="13395"/>
                </a:cubicBezTo>
                <a:cubicBezTo>
                  <a:pt x="2158" y="13410"/>
                  <a:pt x="2190" y="13433"/>
                  <a:pt x="2257" y="13469"/>
                </a:cubicBezTo>
                <a:cubicBezTo>
                  <a:pt x="2315" y="13500"/>
                  <a:pt x="2335" y="13546"/>
                  <a:pt x="2381" y="13593"/>
                </a:cubicBezTo>
                <a:cubicBezTo>
                  <a:pt x="2420" y="13632"/>
                  <a:pt x="2441" y="13623"/>
                  <a:pt x="2480" y="13593"/>
                </a:cubicBezTo>
              </a:path>
              <a:path w="23913" h="5780">
                <a:moveTo>
                  <a:pt x="2927" y="13072"/>
                </a:moveTo>
                <a:cubicBezTo>
                  <a:pt x="2870" y="13029"/>
                  <a:pt x="2860" y="13061"/>
                  <a:pt x="2803" y="13072"/>
                </a:cubicBezTo>
                <a:cubicBezTo>
                  <a:pt x="2751" y="13082"/>
                  <a:pt x="2711" y="13082"/>
                  <a:pt x="2704" y="13146"/>
                </a:cubicBezTo>
                <a:cubicBezTo>
                  <a:pt x="2699" y="13191"/>
                  <a:pt x="2750" y="13285"/>
                  <a:pt x="2778" y="13320"/>
                </a:cubicBezTo>
                <a:cubicBezTo>
                  <a:pt x="2850" y="13412"/>
                  <a:pt x="2920" y="13461"/>
                  <a:pt x="2977" y="13568"/>
                </a:cubicBezTo>
                <a:cubicBezTo>
                  <a:pt x="3019" y="13646"/>
                  <a:pt x="3005" y="13656"/>
                  <a:pt x="2952" y="13692"/>
                </a:cubicBezTo>
                <a:cubicBezTo>
                  <a:pt x="2899" y="13727"/>
                  <a:pt x="2862" y="13716"/>
                  <a:pt x="2803" y="13692"/>
                </a:cubicBezTo>
                <a:cubicBezTo>
                  <a:pt x="2735" y="13665"/>
                  <a:pt x="2687" y="13645"/>
                  <a:pt x="2679" y="13568"/>
                </a:cubicBezTo>
                <a:cubicBezTo>
                  <a:pt x="2679" y="13535"/>
                  <a:pt x="2679" y="13519"/>
                  <a:pt x="2679" y="13494"/>
                </a:cubicBezTo>
              </a:path>
              <a:path w="23913" h="5780">
                <a:moveTo>
                  <a:pt x="3274" y="13395"/>
                </a:moveTo>
                <a:cubicBezTo>
                  <a:pt x="3274" y="13486"/>
                  <a:pt x="3274" y="13576"/>
                  <a:pt x="3274" y="13667"/>
                </a:cubicBezTo>
                <a:cubicBezTo>
                  <a:pt x="3308" y="13656"/>
                  <a:pt x="3304" y="13614"/>
                  <a:pt x="3324" y="13568"/>
                </a:cubicBezTo>
              </a:path>
              <a:path w="23913" h="5780">
                <a:moveTo>
                  <a:pt x="3373" y="12923"/>
                </a:moveTo>
                <a:cubicBezTo>
                  <a:pt x="3414" y="12869"/>
                  <a:pt x="3387" y="12883"/>
                  <a:pt x="3448" y="12898"/>
                </a:cubicBezTo>
              </a:path>
              <a:path w="23913" h="5780">
                <a:moveTo>
                  <a:pt x="3497" y="13494"/>
                </a:moveTo>
                <a:cubicBezTo>
                  <a:pt x="3497" y="13585"/>
                  <a:pt x="3530" y="13626"/>
                  <a:pt x="3473" y="13618"/>
                </a:cubicBezTo>
                <a:cubicBezTo>
                  <a:pt x="3505" y="13601"/>
                  <a:pt x="3455" y="13581"/>
                  <a:pt x="3473" y="13519"/>
                </a:cubicBezTo>
                <a:cubicBezTo>
                  <a:pt x="3487" y="13469"/>
                  <a:pt x="3497" y="13360"/>
                  <a:pt x="3522" y="13320"/>
                </a:cubicBezTo>
                <a:cubicBezTo>
                  <a:pt x="3569" y="13244"/>
                  <a:pt x="3607" y="13163"/>
                  <a:pt x="3696" y="13122"/>
                </a:cubicBezTo>
                <a:cubicBezTo>
                  <a:pt x="3768" y="13089"/>
                  <a:pt x="3844" y="13226"/>
                  <a:pt x="3870" y="13271"/>
                </a:cubicBezTo>
                <a:cubicBezTo>
                  <a:pt x="3911" y="13342"/>
                  <a:pt x="3897" y="13420"/>
                  <a:pt x="3919" y="13494"/>
                </a:cubicBezTo>
                <a:cubicBezTo>
                  <a:pt x="3937" y="13557"/>
                  <a:pt x="3964" y="13599"/>
                  <a:pt x="3969" y="13667"/>
                </a:cubicBezTo>
                <a:cubicBezTo>
                  <a:pt x="3973" y="13714"/>
                  <a:pt x="4009" y="13696"/>
                  <a:pt x="4018" y="13667"/>
                </a:cubicBezTo>
              </a:path>
              <a:path w="23913" h="5780">
                <a:moveTo>
                  <a:pt x="4217" y="12898"/>
                </a:moveTo>
                <a:cubicBezTo>
                  <a:pt x="4297" y="12881"/>
                  <a:pt x="4406" y="12855"/>
                  <a:pt x="4490" y="12874"/>
                </a:cubicBezTo>
                <a:cubicBezTo>
                  <a:pt x="4569" y="12892"/>
                  <a:pt x="4543" y="12891"/>
                  <a:pt x="4614" y="12874"/>
                </a:cubicBezTo>
              </a:path>
              <a:path w="23913" h="5780">
                <a:moveTo>
                  <a:pt x="4142" y="12948"/>
                </a:moveTo>
                <a:cubicBezTo>
                  <a:pt x="4096" y="13026"/>
                  <a:pt x="4093" y="13005"/>
                  <a:pt x="4093" y="13072"/>
                </a:cubicBezTo>
                <a:cubicBezTo>
                  <a:pt x="4138" y="13072"/>
                  <a:pt x="4151" y="13092"/>
                  <a:pt x="4192" y="13097"/>
                </a:cubicBezTo>
                <a:cubicBezTo>
                  <a:pt x="4252" y="13104"/>
                  <a:pt x="4287" y="13087"/>
                  <a:pt x="4341" y="13122"/>
                </a:cubicBezTo>
                <a:cubicBezTo>
                  <a:pt x="4406" y="13164"/>
                  <a:pt x="4452" y="13202"/>
                  <a:pt x="4490" y="13271"/>
                </a:cubicBezTo>
                <a:cubicBezTo>
                  <a:pt x="4534" y="13351"/>
                  <a:pt x="4539" y="13404"/>
                  <a:pt x="4539" y="13494"/>
                </a:cubicBezTo>
                <a:cubicBezTo>
                  <a:pt x="4539" y="13604"/>
                  <a:pt x="4468" y="13685"/>
                  <a:pt x="4366" y="13717"/>
                </a:cubicBezTo>
                <a:cubicBezTo>
                  <a:pt x="4331" y="13728"/>
                  <a:pt x="4243" y="13723"/>
                  <a:pt x="4217" y="13692"/>
                </a:cubicBezTo>
                <a:cubicBezTo>
                  <a:pt x="4179" y="13648"/>
                  <a:pt x="4208" y="13590"/>
                  <a:pt x="4217" y="13543"/>
                </a:cubicBezTo>
              </a:path>
              <a:path w="23913" h="5780">
                <a:moveTo>
                  <a:pt x="4787" y="12998"/>
                </a:moveTo>
                <a:cubicBezTo>
                  <a:pt x="4891" y="13018"/>
                  <a:pt x="4979" y="13022"/>
                  <a:pt x="5085" y="13022"/>
                </a:cubicBezTo>
                <a:cubicBezTo>
                  <a:pt x="5164" y="13022"/>
                  <a:pt x="5165" y="13037"/>
                  <a:pt x="5209" y="12973"/>
                </a:cubicBezTo>
              </a:path>
              <a:path w="23913" h="5780">
                <a:moveTo>
                  <a:pt x="4812" y="13022"/>
                </a:moveTo>
                <a:cubicBezTo>
                  <a:pt x="4737" y="13107"/>
                  <a:pt x="4718" y="13092"/>
                  <a:pt x="4762" y="13171"/>
                </a:cubicBezTo>
                <a:cubicBezTo>
                  <a:pt x="4807" y="13251"/>
                  <a:pt x="4868" y="13242"/>
                  <a:pt x="4936" y="13295"/>
                </a:cubicBezTo>
                <a:cubicBezTo>
                  <a:pt x="5016" y="13357"/>
                  <a:pt x="5070" y="13391"/>
                  <a:pt x="5135" y="13469"/>
                </a:cubicBezTo>
                <a:cubicBezTo>
                  <a:pt x="5192" y="13538"/>
                  <a:pt x="5217" y="13604"/>
                  <a:pt x="5184" y="13692"/>
                </a:cubicBezTo>
                <a:cubicBezTo>
                  <a:pt x="5147" y="13793"/>
                  <a:pt x="5060" y="13801"/>
                  <a:pt x="4961" y="13816"/>
                </a:cubicBezTo>
                <a:cubicBezTo>
                  <a:pt x="4898" y="13825"/>
                  <a:pt x="4806" y="13781"/>
                  <a:pt x="4762" y="13742"/>
                </a:cubicBezTo>
                <a:cubicBezTo>
                  <a:pt x="4693" y="13681"/>
                  <a:pt x="4713" y="13631"/>
                  <a:pt x="4713" y="13543"/>
                </a:cubicBezTo>
              </a:path>
              <a:path w="23913" h="5780">
                <a:moveTo>
                  <a:pt x="5383" y="12849"/>
                </a:moveTo>
                <a:cubicBezTo>
                  <a:pt x="5383" y="12882"/>
                  <a:pt x="5383" y="12915"/>
                  <a:pt x="5383" y="12948"/>
                </a:cubicBezTo>
                <a:cubicBezTo>
                  <a:pt x="5416" y="12948"/>
                  <a:pt x="5460" y="12983"/>
                  <a:pt x="5482" y="12973"/>
                </a:cubicBezTo>
                <a:cubicBezTo>
                  <a:pt x="5514" y="12959"/>
                  <a:pt x="5545" y="12931"/>
                  <a:pt x="5556" y="12898"/>
                </a:cubicBezTo>
                <a:cubicBezTo>
                  <a:pt x="5564" y="12874"/>
                  <a:pt x="5549" y="12781"/>
                  <a:pt x="5531" y="12774"/>
                </a:cubicBezTo>
                <a:cubicBezTo>
                  <a:pt x="5494" y="12760"/>
                  <a:pt x="5449" y="12750"/>
                  <a:pt x="5407" y="12750"/>
                </a:cubicBezTo>
                <a:cubicBezTo>
                  <a:pt x="5399" y="12750"/>
                  <a:pt x="5391" y="12750"/>
                  <a:pt x="5383" y="12750"/>
                </a:cubicBezTo>
              </a:path>
              <a:path w="23913" h="5780">
                <a:moveTo>
                  <a:pt x="5804" y="13271"/>
                </a:moveTo>
                <a:cubicBezTo>
                  <a:pt x="5898" y="13288"/>
                  <a:pt x="5960" y="13295"/>
                  <a:pt x="6052" y="13295"/>
                </a:cubicBezTo>
              </a:path>
              <a:path w="23913" h="5780">
                <a:moveTo>
                  <a:pt x="5804" y="13494"/>
                </a:moveTo>
                <a:cubicBezTo>
                  <a:pt x="5928" y="13555"/>
                  <a:pt x="5952" y="13541"/>
                  <a:pt x="6102" y="13519"/>
                </a:cubicBezTo>
              </a:path>
              <a:path w="23913" h="5780">
                <a:moveTo>
                  <a:pt x="6499" y="13271"/>
                </a:moveTo>
                <a:cubicBezTo>
                  <a:pt x="6571" y="13489"/>
                  <a:pt x="6619" y="13586"/>
                  <a:pt x="6747" y="13767"/>
                </a:cubicBezTo>
                <a:cubicBezTo>
                  <a:pt x="6814" y="13862"/>
                  <a:pt x="6925" y="14000"/>
                  <a:pt x="7020" y="14064"/>
                </a:cubicBezTo>
                <a:cubicBezTo>
                  <a:pt x="7090" y="14111"/>
                  <a:pt x="7150" y="14123"/>
                  <a:pt x="7218" y="14089"/>
                </a:cubicBezTo>
              </a:path>
              <a:path w="23913" h="5780">
                <a:moveTo>
                  <a:pt x="6896" y="13395"/>
                </a:moveTo>
                <a:cubicBezTo>
                  <a:pt x="6779" y="13556"/>
                  <a:pt x="6661" y="13708"/>
                  <a:pt x="6548" y="13866"/>
                </a:cubicBezTo>
                <a:cubicBezTo>
                  <a:pt x="6505" y="13926"/>
                  <a:pt x="6459" y="13993"/>
                  <a:pt x="6424" y="14039"/>
                </a:cubicBezTo>
                <a:cubicBezTo>
                  <a:pt x="6373" y="14105"/>
                  <a:pt x="6430" y="14009"/>
                  <a:pt x="6449" y="13990"/>
                </a:cubicBezTo>
              </a:path>
              <a:path w="23913" h="5780">
                <a:moveTo>
                  <a:pt x="7119" y="13469"/>
                </a:moveTo>
                <a:cubicBezTo>
                  <a:pt x="7151" y="13469"/>
                  <a:pt x="7148" y="13448"/>
                  <a:pt x="7169" y="13419"/>
                </a:cubicBezTo>
              </a:path>
              <a:path w="23913" h="5780">
                <a:moveTo>
                  <a:pt x="7689" y="13221"/>
                </a:moveTo>
                <a:cubicBezTo>
                  <a:pt x="7593" y="13221"/>
                  <a:pt x="7485" y="13190"/>
                  <a:pt x="7441" y="13295"/>
                </a:cubicBezTo>
                <a:cubicBezTo>
                  <a:pt x="7417" y="13353"/>
                  <a:pt x="7514" y="13456"/>
                  <a:pt x="7541" y="13494"/>
                </a:cubicBezTo>
                <a:cubicBezTo>
                  <a:pt x="7593" y="13568"/>
                  <a:pt x="7635" y="13653"/>
                  <a:pt x="7640" y="13742"/>
                </a:cubicBezTo>
                <a:cubicBezTo>
                  <a:pt x="7643" y="13794"/>
                  <a:pt x="7620" y="13837"/>
                  <a:pt x="7565" y="13841"/>
                </a:cubicBezTo>
                <a:cubicBezTo>
                  <a:pt x="7509" y="13845"/>
                  <a:pt x="7473" y="13842"/>
                  <a:pt x="7441" y="13791"/>
                </a:cubicBezTo>
                <a:cubicBezTo>
                  <a:pt x="7406" y="13736"/>
                  <a:pt x="7410" y="13735"/>
                  <a:pt x="7441" y="13692"/>
                </a:cubicBezTo>
              </a:path>
              <a:path w="23913" h="5780">
                <a:moveTo>
                  <a:pt x="7888" y="13320"/>
                </a:moveTo>
                <a:cubicBezTo>
                  <a:pt x="7905" y="13471"/>
                  <a:pt x="7934" y="13578"/>
                  <a:pt x="7962" y="13717"/>
                </a:cubicBezTo>
                <a:cubicBezTo>
                  <a:pt x="7970" y="13757"/>
                  <a:pt x="7962" y="13832"/>
                  <a:pt x="7962" y="13791"/>
                </a:cubicBezTo>
                <a:cubicBezTo>
                  <a:pt x="7962" y="13750"/>
                  <a:pt x="7962" y="13708"/>
                  <a:pt x="7962" y="13667"/>
                </a:cubicBezTo>
              </a:path>
              <a:path w="23913" h="5780">
                <a:moveTo>
                  <a:pt x="7987" y="13022"/>
                </a:moveTo>
                <a:cubicBezTo>
                  <a:pt x="8058" y="12962"/>
                  <a:pt x="8053" y="12962"/>
                  <a:pt x="8136" y="12998"/>
                </a:cubicBezTo>
              </a:path>
              <a:path w="23913" h="5780">
                <a:moveTo>
                  <a:pt x="8186" y="13593"/>
                </a:moveTo>
                <a:cubicBezTo>
                  <a:pt x="8186" y="13667"/>
                  <a:pt x="8186" y="13841"/>
                  <a:pt x="8186" y="13767"/>
                </a:cubicBezTo>
                <a:cubicBezTo>
                  <a:pt x="8186" y="13677"/>
                  <a:pt x="8198" y="13605"/>
                  <a:pt x="8210" y="13519"/>
                </a:cubicBezTo>
                <a:cubicBezTo>
                  <a:pt x="8222" y="13432"/>
                  <a:pt x="8205" y="13373"/>
                  <a:pt x="8260" y="13295"/>
                </a:cubicBezTo>
                <a:cubicBezTo>
                  <a:pt x="8289" y="13254"/>
                  <a:pt x="8333" y="13229"/>
                  <a:pt x="8384" y="13246"/>
                </a:cubicBezTo>
                <a:cubicBezTo>
                  <a:pt x="8465" y="13273"/>
                  <a:pt x="8536" y="13366"/>
                  <a:pt x="8558" y="13444"/>
                </a:cubicBezTo>
                <a:cubicBezTo>
                  <a:pt x="8578" y="13516"/>
                  <a:pt x="8555" y="13624"/>
                  <a:pt x="8582" y="13692"/>
                </a:cubicBezTo>
                <a:cubicBezTo>
                  <a:pt x="8589" y="13710"/>
                  <a:pt x="8611" y="13778"/>
                  <a:pt x="8632" y="13767"/>
                </a:cubicBezTo>
                <a:cubicBezTo>
                  <a:pt x="8640" y="13759"/>
                  <a:pt x="8649" y="13750"/>
                  <a:pt x="8657" y="13742"/>
                </a:cubicBezTo>
              </a:path>
              <a:path w="23913" h="5780">
                <a:moveTo>
                  <a:pt x="8855" y="13196"/>
                </a:moveTo>
                <a:cubicBezTo>
                  <a:pt x="8862" y="13317"/>
                  <a:pt x="8894" y="13425"/>
                  <a:pt x="8905" y="13543"/>
                </a:cubicBezTo>
                <a:cubicBezTo>
                  <a:pt x="8913" y="13625"/>
                  <a:pt x="8921" y="13739"/>
                  <a:pt x="8954" y="13816"/>
                </a:cubicBezTo>
                <a:cubicBezTo>
                  <a:pt x="8979" y="13875"/>
                  <a:pt x="8969" y="13853"/>
                  <a:pt x="9004" y="13841"/>
                </a:cubicBezTo>
              </a:path>
              <a:path w="23913" h="5780">
                <a:moveTo>
                  <a:pt x="9029" y="13072"/>
                </a:moveTo>
                <a:cubicBezTo>
                  <a:pt x="9095" y="13015"/>
                  <a:pt x="9144" y="12992"/>
                  <a:pt x="9227" y="12973"/>
                </a:cubicBezTo>
                <a:cubicBezTo>
                  <a:pt x="9298" y="12956"/>
                  <a:pt x="9340" y="12983"/>
                  <a:pt x="9401" y="12998"/>
                </a:cubicBezTo>
                <a:cubicBezTo>
                  <a:pt x="9454" y="13011"/>
                  <a:pt x="9422" y="13058"/>
                  <a:pt x="9401" y="13097"/>
                </a:cubicBezTo>
                <a:cubicBezTo>
                  <a:pt x="9353" y="13186"/>
                  <a:pt x="9350" y="13299"/>
                  <a:pt x="9327" y="13395"/>
                </a:cubicBezTo>
                <a:cubicBezTo>
                  <a:pt x="9301" y="13504"/>
                  <a:pt x="9310" y="13563"/>
                  <a:pt x="9327" y="13667"/>
                </a:cubicBezTo>
                <a:cubicBezTo>
                  <a:pt x="9333" y="13707"/>
                  <a:pt x="9332" y="13794"/>
                  <a:pt x="9376" y="13816"/>
                </a:cubicBezTo>
                <a:cubicBezTo>
                  <a:pt x="9400" y="13828"/>
                  <a:pt x="9412" y="13784"/>
                  <a:pt x="9426" y="13767"/>
                </a:cubicBezTo>
              </a:path>
              <a:path w="23913" h="5780">
                <a:moveTo>
                  <a:pt x="9674" y="12973"/>
                </a:moveTo>
                <a:cubicBezTo>
                  <a:pt x="9674" y="13019"/>
                  <a:pt x="9660" y="13104"/>
                  <a:pt x="9723" y="13122"/>
                </a:cubicBezTo>
                <a:cubicBezTo>
                  <a:pt x="9788" y="13141"/>
                  <a:pt x="9796" y="13136"/>
                  <a:pt x="9823" y="13122"/>
                </a:cubicBezTo>
                <a:cubicBezTo>
                  <a:pt x="9852" y="13108"/>
                  <a:pt x="9856" y="13051"/>
                  <a:pt x="9823" y="13022"/>
                </a:cubicBezTo>
                <a:cubicBezTo>
                  <a:pt x="9754" y="12960"/>
                  <a:pt x="9642" y="12894"/>
                  <a:pt x="9550" y="12874"/>
                </a:cubicBezTo>
                <a:cubicBezTo>
                  <a:pt x="9525" y="12874"/>
                  <a:pt x="9500" y="12874"/>
                  <a:pt x="9475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7760" y="4946760"/>
            <a:ext cx="1314360" cy="438120"/>
          </a:xfrm>
          <a:custGeom>
            <a:avLst/>
            <a:gdLst/>
            <a:ahLst/>
            <a:rect l="l" t="t" r="r" b="b"/>
            <a:pathLst>
              <a:path w="3648" h="1216">
                <a:moveTo>
                  <a:pt x="992" y="13816"/>
                </a:moveTo>
                <a:cubicBezTo>
                  <a:pt x="1042" y="13816"/>
                  <a:pt x="1041" y="13816"/>
                  <a:pt x="1091" y="13816"/>
                </a:cubicBezTo>
                <a:cubicBezTo>
                  <a:pt x="1374" y="13816"/>
                  <a:pt x="1654" y="13804"/>
                  <a:pt x="1935" y="13791"/>
                </a:cubicBezTo>
                <a:cubicBezTo>
                  <a:pt x="2280" y="13775"/>
                  <a:pt x="2632" y="13777"/>
                  <a:pt x="2977" y="13767"/>
                </a:cubicBezTo>
                <a:cubicBezTo>
                  <a:pt x="3277" y="13759"/>
                  <a:pt x="3571" y="13787"/>
                  <a:pt x="3870" y="13791"/>
                </a:cubicBezTo>
                <a:cubicBezTo>
                  <a:pt x="4118" y="13794"/>
                  <a:pt x="4366" y="13791"/>
                  <a:pt x="4614" y="13791"/>
                </a:cubicBezTo>
                <a:cubicBezTo>
                  <a:pt x="4543" y="13768"/>
                  <a:pt x="4474" y="13745"/>
                  <a:pt x="4390" y="13742"/>
                </a:cubicBezTo>
                <a:cubicBezTo>
                  <a:pt x="4357" y="13742"/>
                  <a:pt x="4324" y="13742"/>
                  <a:pt x="4291" y="13742"/>
                </a:cubicBezTo>
              </a:path>
              <a:path w="3648" h="1216">
                <a:moveTo>
                  <a:pt x="2282" y="14213"/>
                </a:moveTo>
                <a:cubicBezTo>
                  <a:pt x="2233" y="14234"/>
                  <a:pt x="2202" y="14222"/>
                  <a:pt x="2158" y="14238"/>
                </a:cubicBezTo>
                <a:cubicBezTo>
                  <a:pt x="2119" y="14252"/>
                  <a:pt x="2040" y="14247"/>
                  <a:pt x="2009" y="14263"/>
                </a:cubicBezTo>
                <a:cubicBezTo>
                  <a:pt x="1981" y="14277"/>
                  <a:pt x="1961" y="14293"/>
                  <a:pt x="1935" y="14312"/>
                </a:cubicBezTo>
                <a:cubicBezTo>
                  <a:pt x="1945" y="14351"/>
                  <a:pt x="1973" y="14386"/>
                  <a:pt x="2009" y="14412"/>
                </a:cubicBezTo>
                <a:cubicBezTo>
                  <a:pt x="2091" y="14471"/>
                  <a:pt x="2161" y="14552"/>
                  <a:pt x="2232" y="14610"/>
                </a:cubicBezTo>
                <a:cubicBezTo>
                  <a:pt x="2282" y="14651"/>
                  <a:pt x="2338" y="14671"/>
                  <a:pt x="2282" y="14734"/>
                </a:cubicBezTo>
                <a:cubicBezTo>
                  <a:pt x="2227" y="14796"/>
                  <a:pt x="2192" y="14784"/>
                  <a:pt x="2108" y="14784"/>
                </a:cubicBezTo>
                <a:cubicBezTo>
                  <a:pt x="2051" y="14784"/>
                  <a:pt x="1977" y="14768"/>
                  <a:pt x="1935" y="14734"/>
                </a:cubicBezTo>
                <a:cubicBezTo>
                  <a:pt x="1901" y="14700"/>
                  <a:pt x="1893" y="14679"/>
                  <a:pt x="1910" y="14635"/>
                </a:cubicBezTo>
              </a:path>
              <a:path w="3648" h="1216">
                <a:moveTo>
                  <a:pt x="2480" y="14585"/>
                </a:moveTo>
                <a:cubicBezTo>
                  <a:pt x="2468" y="14694"/>
                  <a:pt x="2541" y="14908"/>
                  <a:pt x="2431" y="14908"/>
                </a:cubicBezTo>
                <a:cubicBezTo>
                  <a:pt x="2396" y="14908"/>
                  <a:pt x="2442" y="14840"/>
                  <a:pt x="2456" y="14808"/>
                </a:cubicBezTo>
              </a:path>
              <a:path w="3648" h="1216">
                <a:moveTo>
                  <a:pt x="2530" y="14089"/>
                </a:moveTo>
                <a:cubicBezTo>
                  <a:pt x="2547" y="14089"/>
                  <a:pt x="2563" y="14089"/>
                  <a:pt x="2580" y="14089"/>
                </a:cubicBezTo>
              </a:path>
              <a:path w="3648" h="1216">
                <a:moveTo>
                  <a:pt x="2679" y="14610"/>
                </a:moveTo>
                <a:cubicBezTo>
                  <a:pt x="2679" y="14668"/>
                  <a:pt x="2679" y="14726"/>
                  <a:pt x="2679" y="14784"/>
                </a:cubicBezTo>
                <a:cubicBezTo>
                  <a:pt x="2704" y="14718"/>
                  <a:pt x="2739" y="14655"/>
                  <a:pt x="2753" y="14585"/>
                </a:cubicBezTo>
                <a:cubicBezTo>
                  <a:pt x="2770" y="14501"/>
                  <a:pt x="2790" y="14476"/>
                  <a:pt x="2853" y="14412"/>
                </a:cubicBezTo>
                <a:cubicBezTo>
                  <a:pt x="2917" y="14347"/>
                  <a:pt x="2928" y="14369"/>
                  <a:pt x="3001" y="14387"/>
                </a:cubicBezTo>
                <a:cubicBezTo>
                  <a:pt x="3071" y="14405"/>
                  <a:pt x="3057" y="14480"/>
                  <a:pt x="3076" y="14536"/>
                </a:cubicBezTo>
                <a:cubicBezTo>
                  <a:pt x="3104" y="14620"/>
                  <a:pt x="3132" y="14707"/>
                  <a:pt x="3150" y="14784"/>
                </a:cubicBezTo>
                <a:cubicBezTo>
                  <a:pt x="3152" y="14792"/>
                  <a:pt x="3150" y="14875"/>
                  <a:pt x="3150" y="14808"/>
                </a:cubicBezTo>
              </a:path>
              <a:path w="3648" h="1216">
                <a:moveTo>
                  <a:pt x="3324" y="14312"/>
                </a:moveTo>
                <a:cubicBezTo>
                  <a:pt x="3348" y="14454"/>
                  <a:pt x="3350" y="14595"/>
                  <a:pt x="3373" y="14734"/>
                </a:cubicBezTo>
                <a:cubicBezTo>
                  <a:pt x="3384" y="14802"/>
                  <a:pt x="3416" y="14866"/>
                  <a:pt x="3423" y="14932"/>
                </a:cubicBezTo>
                <a:cubicBezTo>
                  <a:pt x="3429" y="14993"/>
                  <a:pt x="3448" y="14941"/>
                  <a:pt x="3448" y="14908"/>
                </a:cubicBezTo>
              </a:path>
              <a:path w="3648" h="1216">
                <a:moveTo>
                  <a:pt x="3448" y="14263"/>
                </a:moveTo>
                <a:cubicBezTo>
                  <a:pt x="3529" y="14241"/>
                  <a:pt x="3588" y="14238"/>
                  <a:pt x="3671" y="14238"/>
                </a:cubicBezTo>
                <a:cubicBezTo>
                  <a:pt x="3742" y="14238"/>
                  <a:pt x="3772" y="14265"/>
                  <a:pt x="3820" y="14312"/>
                </a:cubicBezTo>
                <a:cubicBezTo>
                  <a:pt x="3855" y="14347"/>
                  <a:pt x="3856" y="14412"/>
                  <a:pt x="3845" y="14461"/>
                </a:cubicBezTo>
                <a:cubicBezTo>
                  <a:pt x="3826" y="14549"/>
                  <a:pt x="3799" y="14619"/>
                  <a:pt x="3795" y="14709"/>
                </a:cubicBezTo>
                <a:cubicBezTo>
                  <a:pt x="3791" y="14783"/>
                  <a:pt x="3795" y="14858"/>
                  <a:pt x="3795" y="14932"/>
                </a:cubicBezTo>
                <a:cubicBezTo>
                  <a:pt x="3856" y="14902"/>
                  <a:pt x="3847" y="14862"/>
                  <a:pt x="3870" y="14784"/>
                </a:cubicBezTo>
              </a:path>
              <a:path w="3648" h="1216">
                <a:moveTo>
                  <a:pt x="4068" y="14114"/>
                </a:moveTo>
                <a:cubicBezTo>
                  <a:pt x="4060" y="14114"/>
                  <a:pt x="4051" y="14114"/>
                  <a:pt x="4043" y="14114"/>
                </a:cubicBezTo>
                <a:cubicBezTo>
                  <a:pt x="4055" y="14150"/>
                  <a:pt x="4079" y="14146"/>
                  <a:pt x="4118" y="14163"/>
                </a:cubicBezTo>
                <a:cubicBezTo>
                  <a:pt x="4182" y="14191"/>
                  <a:pt x="4168" y="14200"/>
                  <a:pt x="4217" y="14163"/>
                </a:cubicBezTo>
                <a:cubicBezTo>
                  <a:pt x="4188" y="14154"/>
                  <a:pt x="4160" y="14131"/>
                  <a:pt x="4118" y="14114"/>
                </a:cubicBezTo>
                <a:cubicBezTo>
                  <a:pt x="4059" y="14090"/>
                  <a:pt x="4008" y="14082"/>
                  <a:pt x="3944" y="140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24080" y="4705200"/>
            <a:ext cx="1249200" cy="787680"/>
          </a:xfrm>
          <a:custGeom>
            <a:avLst/>
            <a:gdLst/>
            <a:ahLst/>
            <a:rect l="l" t="t" r="r" b="b"/>
            <a:pathLst>
              <a:path w="3474" h="2184">
                <a:moveTo>
                  <a:pt x="6176" y="13990"/>
                </a:moveTo>
                <a:cubicBezTo>
                  <a:pt x="6319" y="13990"/>
                  <a:pt x="6458" y="14006"/>
                  <a:pt x="6598" y="14015"/>
                </a:cubicBezTo>
                <a:cubicBezTo>
                  <a:pt x="6803" y="14028"/>
                  <a:pt x="7013" y="14036"/>
                  <a:pt x="7218" y="14039"/>
                </a:cubicBezTo>
                <a:cubicBezTo>
                  <a:pt x="7460" y="14043"/>
                  <a:pt x="7697" y="14060"/>
                  <a:pt x="7938" y="14064"/>
                </a:cubicBezTo>
                <a:cubicBezTo>
                  <a:pt x="8152" y="14068"/>
                  <a:pt x="8371" y="14059"/>
                  <a:pt x="8582" y="14089"/>
                </a:cubicBezTo>
                <a:cubicBezTo>
                  <a:pt x="8644" y="14098"/>
                  <a:pt x="8757" y="14104"/>
                  <a:pt x="8806" y="14139"/>
                </a:cubicBezTo>
                <a:cubicBezTo>
                  <a:pt x="8845" y="14167"/>
                  <a:pt x="8799" y="14156"/>
                  <a:pt x="8756" y="14163"/>
                </a:cubicBezTo>
              </a:path>
              <a:path w="3474" h="2184">
                <a:moveTo>
                  <a:pt x="7541" y="14684"/>
                </a:moveTo>
                <a:cubicBezTo>
                  <a:pt x="7428" y="14697"/>
                  <a:pt x="7395" y="14684"/>
                  <a:pt x="7293" y="14684"/>
                </a:cubicBezTo>
                <a:cubicBezTo>
                  <a:pt x="7260" y="14684"/>
                  <a:pt x="7226" y="14684"/>
                  <a:pt x="7193" y="14684"/>
                </a:cubicBezTo>
                <a:cubicBezTo>
                  <a:pt x="7208" y="14743"/>
                  <a:pt x="7230" y="14755"/>
                  <a:pt x="7268" y="14808"/>
                </a:cubicBezTo>
                <a:cubicBezTo>
                  <a:pt x="7337" y="14904"/>
                  <a:pt x="7423" y="14963"/>
                  <a:pt x="7491" y="15056"/>
                </a:cubicBezTo>
                <a:cubicBezTo>
                  <a:pt x="7535" y="15116"/>
                  <a:pt x="7565" y="15158"/>
                  <a:pt x="7565" y="15230"/>
                </a:cubicBezTo>
                <a:cubicBezTo>
                  <a:pt x="7501" y="15270"/>
                  <a:pt x="7463" y="15255"/>
                  <a:pt x="7392" y="15230"/>
                </a:cubicBezTo>
                <a:cubicBezTo>
                  <a:pt x="7340" y="15212"/>
                  <a:pt x="7230" y="15178"/>
                  <a:pt x="7193" y="15131"/>
                </a:cubicBezTo>
                <a:cubicBezTo>
                  <a:pt x="7151" y="15077"/>
                  <a:pt x="7278" y="14973"/>
                  <a:pt x="7293" y="14957"/>
                </a:cubicBezTo>
              </a:path>
              <a:path w="3474" h="2184">
                <a:moveTo>
                  <a:pt x="7813" y="14883"/>
                </a:moveTo>
                <a:cubicBezTo>
                  <a:pt x="7825" y="14977"/>
                  <a:pt x="7796" y="15223"/>
                  <a:pt x="7863" y="15156"/>
                </a:cubicBezTo>
                <a:cubicBezTo>
                  <a:pt x="7871" y="15139"/>
                  <a:pt x="7880" y="15123"/>
                  <a:pt x="7888" y="15106"/>
                </a:cubicBezTo>
              </a:path>
              <a:path w="3474" h="2184">
                <a:moveTo>
                  <a:pt x="7838" y="14362"/>
                </a:moveTo>
                <a:cubicBezTo>
                  <a:pt x="7908" y="14362"/>
                  <a:pt x="7914" y="14365"/>
                  <a:pt x="7987" y="14387"/>
                </a:cubicBezTo>
              </a:path>
              <a:path w="3474" h="2184">
                <a:moveTo>
                  <a:pt x="8086" y="14635"/>
                </a:moveTo>
                <a:cubicBezTo>
                  <a:pt x="8086" y="14775"/>
                  <a:pt x="8089" y="14901"/>
                  <a:pt x="8111" y="15032"/>
                </a:cubicBezTo>
                <a:cubicBezTo>
                  <a:pt x="8121" y="15090"/>
                  <a:pt x="8090" y="15091"/>
                  <a:pt x="8136" y="15106"/>
                </a:cubicBezTo>
                <a:cubicBezTo>
                  <a:pt x="8163" y="15062"/>
                  <a:pt x="8177" y="14986"/>
                  <a:pt x="8186" y="14932"/>
                </a:cubicBezTo>
                <a:cubicBezTo>
                  <a:pt x="8195" y="14879"/>
                  <a:pt x="8177" y="14805"/>
                  <a:pt x="8210" y="14759"/>
                </a:cubicBezTo>
                <a:cubicBezTo>
                  <a:pt x="8244" y="14712"/>
                  <a:pt x="8314" y="14675"/>
                  <a:pt x="8359" y="14734"/>
                </a:cubicBezTo>
                <a:cubicBezTo>
                  <a:pt x="8410" y="14800"/>
                  <a:pt x="8426" y="14906"/>
                  <a:pt x="8458" y="14982"/>
                </a:cubicBezTo>
                <a:cubicBezTo>
                  <a:pt x="8479" y="15032"/>
                  <a:pt x="8509" y="15120"/>
                  <a:pt x="8558" y="15131"/>
                </a:cubicBezTo>
                <a:cubicBezTo>
                  <a:pt x="8585" y="15137"/>
                  <a:pt x="8590" y="15103"/>
                  <a:pt x="8607" y="15081"/>
                </a:cubicBezTo>
              </a:path>
              <a:path w="3474" h="2184">
                <a:moveTo>
                  <a:pt x="8682" y="14436"/>
                </a:moveTo>
                <a:cubicBezTo>
                  <a:pt x="8700" y="14567"/>
                  <a:pt x="8705" y="14706"/>
                  <a:pt x="8731" y="14833"/>
                </a:cubicBezTo>
                <a:cubicBezTo>
                  <a:pt x="8746" y="14909"/>
                  <a:pt x="8798" y="14981"/>
                  <a:pt x="8806" y="15056"/>
                </a:cubicBezTo>
                <a:cubicBezTo>
                  <a:pt x="8812" y="15113"/>
                  <a:pt x="8830" y="15015"/>
                  <a:pt x="8830" y="14957"/>
                </a:cubicBezTo>
              </a:path>
              <a:path w="3474" h="2184">
                <a:moveTo>
                  <a:pt x="8880" y="14436"/>
                </a:moveTo>
                <a:cubicBezTo>
                  <a:pt x="8951" y="14417"/>
                  <a:pt x="9011" y="14391"/>
                  <a:pt x="9079" y="14387"/>
                </a:cubicBezTo>
                <a:cubicBezTo>
                  <a:pt x="9135" y="14384"/>
                  <a:pt x="9149" y="14412"/>
                  <a:pt x="9203" y="14412"/>
                </a:cubicBezTo>
                <a:cubicBezTo>
                  <a:pt x="9203" y="14492"/>
                  <a:pt x="9187" y="14559"/>
                  <a:pt x="9178" y="14635"/>
                </a:cubicBezTo>
                <a:cubicBezTo>
                  <a:pt x="9161" y="14788"/>
                  <a:pt x="9172" y="14962"/>
                  <a:pt x="9203" y="15106"/>
                </a:cubicBezTo>
                <a:cubicBezTo>
                  <a:pt x="9208" y="15128"/>
                  <a:pt x="9222" y="15195"/>
                  <a:pt x="9252" y="15180"/>
                </a:cubicBezTo>
                <a:cubicBezTo>
                  <a:pt x="9260" y="15172"/>
                  <a:pt x="9269" y="15164"/>
                  <a:pt x="9277" y="15156"/>
                </a:cubicBezTo>
              </a:path>
              <a:path w="3474" h="2184">
                <a:moveTo>
                  <a:pt x="9550" y="14387"/>
                </a:moveTo>
                <a:cubicBezTo>
                  <a:pt x="9533" y="14403"/>
                  <a:pt x="9517" y="14420"/>
                  <a:pt x="9500" y="14436"/>
                </a:cubicBezTo>
                <a:cubicBezTo>
                  <a:pt x="9523" y="14493"/>
                  <a:pt x="9556" y="14529"/>
                  <a:pt x="9624" y="14536"/>
                </a:cubicBezTo>
                <a:cubicBezTo>
                  <a:pt x="9632" y="14536"/>
                  <a:pt x="9641" y="14536"/>
                  <a:pt x="9649" y="14536"/>
                </a:cubicBezTo>
                <a:cubicBezTo>
                  <a:pt x="9649" y="14480"/>
                  <a:pt x="9661" y="14430"/>
                  <a:pt x="9624" y="14387"/>
                </a:cubicBezTo>
                <a:cubicBezTo>
                  <a:pt x="9560" y="14312"/>
                  <a:pt x="9460" y="14287"/>
                  <a:pt x="9376" y="14238"/>
                </a:cubicBezTo>
              </a:path>
              <a:path w="3474" h="2184">
                <a:moveTo>
                  <a:pt x="8409" y="13072"/>
                </a:moveTo>
                <a:cubicBezTo>
                  <a:pt x="8409" y="13172"/>
                  <a:pt x="8390" y="13205"/>
                  <a:pt x="8359" y="13295"/>
                </a:cubicBezTo>
                <a:cubicBezTo>
                  <a:pt x="8304" y="13454"/>
                  <a:pt x="8208" y="13588"/>
                  <a:pt x="8136" y="13742"/>
                </a:cubicBezTo>
                <a:cubicBezTo>
                  <a:pt x="8028" y="13974"/>
                  <a:pt x="7971" y="14198"/>
                  <a:pt x="7888" y="14436"/>
                </a:cubicBezTo>
                <a:cubicBezTo>
                  <a:pt x="7830" y="14601"/>
                  <a:pt x="7780" y="14770"/>
                  <a:pt x="7714" y="14932"/>
                </a:cubicBezTo>
                <a:cubicBezTo>
                  <a:pt x="7689" y="14990"/>
                  <a:pt x="7665" y="15048"/>
                  <a:pt x="7640" y="151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9840" y="5214960"/>
            <a:ext cx="8242200" cy="1214280"/>
          </a:xfrm>
          <a:custGeom>
            <a:avLst/>
            <a:gdLst/>
            <a:ahLst/>
            <a:rect l="l" t="t" r="r" b="b"/>
            <a:pathLst>
              <a:path w="22895" h="3374">
                <a:moveTo>
                  <a:pt x="10716" y="17388"/>
                </a:moveTo>
                <a:cubicBezTo>
                  <a:pt x="10748" y="17394"/>
                  <a:pt x="10757" y="17410"/>
                  <a:pt x="10790" y="17413"/>
                </a:cubicBezTo>
                <a:cubicBezTo>
                  <a:pt x="10881" y="17421"/>
                  <a:pt x="10922" y="17413"/>
                  <a:pt x="11013" y="17413"/>
                </a:cubicBezTo>
                <a:cubicBezTo>
                  <a:pt x="11046" y="17413"/>
                  <a:pt x="10980" y="17413"/>
                  <a:pt x="11013" y="17413"/>
                </a:cubicBezTo>
                <a:cubicBezTo>
                  <a:pt x="11046" y="17413"/>
                  <a:pt x="10980" y="17413"/>
                  <a:pt x="11013" y="17413"/>
                </a:cubicBezTo>
                <a:cubicBezTo>
                  <a:pt x="11046" y="17413"/>
                  <a:pt x="10980" y="17413"/>
                  <a:pt x="11013" y="17413"/>
                </a:cubicBezTo>
                <a:cubicBezTo>
                  <a:pt x="11046" y="17413"/>
                  <a:pt x="10980" y="17413"/>
                  <a:pt x="11013" y="17413"/>
                </a:cubicBezTo>
                <a:cubicBezTo>
                  <a:pt x="11046" y="17413"/>
                  <a:pt x="10982" y="17401"/>
                  <a:pt x="11013" y="17413"/>
                </a:cubicBezTo>
                <a:cubicBezTo>
                  <a:pt x="11053" y="17429"/>
                  <a:pt x="10991" y="17398"/>
                  <a:pt x="11063" y="17413"/>
                </a:cubicBezTo>
                <a:cubicBezTo>
                  <a:pt x="11103" y="17421"/>
                  <a:pt x="11136" y="17434"/>
                  <a:pt x="11187" y="17438"/>
                </a:cubicBezTo>
                <a:cubicBezTo>
                  <a:pt x="11291" y="17446"/>
                  <a:pt x="11418" y="17456"/>
                  <a:pt x="11509" y="17462"/>
                </a:cubicBezTo>
                <a:cubicBezTo>
                  <a:pt x="11568" y="17466"/>
                  <a:pt x="11637" y="17483"/>
                  <a:pt x="11683" y="17487"/>
                </a:cubicBezTo>
                <a:cubicBezTo>
                  <a:pt x="11740" y="17493"/>
                  <a:pt x="11792" y="17464"/>
                  <a:pt x="11832" y="17462"/>
                </a:cubicBezTo>
                <a:cubicBezTo>
                  <a:pt x="11968" y="17455"/>
                  <a:pt x="12099" y="17460"/>
                  <a:pt x="12229" y="17438"/>
                </a:cubicBezTo>
                <a:cubicBezTo>
                  <a:pt x="12279" y="17430"/>
                  <a:pt x="12354" y="17416"/>
                  <a:pt x="12402" y="17413"/>
                </a:cubicBezTo>
                <a:cubicBezTo>
                  <a:pt x="12510" y="17405"/>
                  <a:pt x="12624" y="17395"/>
                  <a:pt x="12725" y="17388"/>
                </a:cubicBezTo>
                <a:cubicBezTo>
                  <a:pt x="12807" y="17382"/>
                  <a:pt x="12870" y="17407"/>
                  <a:pt x="12948" y="17413"/>
                </a:cubicBezTo>
                <a:cubicBezTo>
                  <a:pt x="13046" y="17420"/>
                  <a:pt x="13154" y="17432"/>
                  <a:pt x="13246" y="17438"/>
                </a:cubicBezTo>
                <a:cubicBezTo>
                  <a:pt x="13357" y="17445"/>
                  <a:pt x="13495" y="17457"/>
                  <a:pt x="13593" y="17462"/>
                </a:cubicBezTo>
                <a:cubicBezTo>
                  <a:pt x="13717" y="17469"/>
                  <a:pt x="13848" y="17479"/>
                  <a:pt x="13965" y="17487"/>
                </a:cubicBezTo>
                <a:cubicBezTo>
                  <a:pt x="14049" y="17493"/>
                  <a:pt x="14135" y="17507"/>
                  <a:pt x="14213" y="17512"/>
                </a:cubicBezTo>
                <a:cubicBezTo>
                  <a:pt x="14394" y="17523"/>
                  <a:pt x="14585" y="17525"/>
                  <a:pt x="14759" y="17537"/>
                </a:cubicBezTo>
                <a:cubicBezTo>
                  <a:pt x="14839" y="17542"/>
                  <a:pt x="14941" y="17558"/>
                  <a:pt x="15007" y="17562"/>
                </a:cubicBezTo>
                <a:cubicBezTo>
                  <a:pt x="15065" y="17566"/>
                  <a:pt x="15135" y="17583"/>
                  <a:pt x="15180" y="17587"/>
                </a:cubicBezTo>
                <a:cubicBezTo>
                  <a:pt x="15309" y="17600"/>
                  <a:pt x="15451" y="17602"/>
                  <a:pt x="15577" y="17611"/>
                </a:cubicBezTo>
                <a:cubicBezTo>
                  <a:pt x="15636" y="17615"/>
                  <a:pt x="15705" y="17632"/>
                  <a:pt x="15751" y="17636"/>
                </a:cubicBezTo>
                <a:cubicBezTo>
                  <a:pt x="15815" y="17642"/>
                  <a:pt x="15898" y="17657"/>
                  <a:pt x="15949" y="17661"/>
                </a:cubicBezTo>
                <a:cubicBezTo>
                  <a:pt x="16015" y="17667"/>
                  <a:pt x="16096" y="17681"/>
                  <a:pt x="16148" y="17686"/>
                </a:cubicBezTo>
                <a:cubicBezTo>
                  <a:pt x="16185" y="17690"/>
                  <a:pt x="16271" y="17711"/>
                  <a:pt x="16272" y="17711"/>
                </a:cubicBezTo>
                <a:cubicBezTo>
                  <a:pt x="16330" y="17717"/>
                  <a:pt x="16372" y="17723"/>
                  <a:pt x="16421" y="17735"/>
                </a:cubicBezTo>
                <a:cubicBezTo>
                  <a:pt x="16459" y="17744"/>
                  <a:pt x="16484" y="17751"/>
                  <a:pt x="16520" y="17760"/>
                </a:cubicBezTo>
                <a:cubicBezTo>
                  <a:pt x="16567" y="17772"/>
                  <a:pt x="16559" y="17775"/>
                  <a:pt x="16594" y="17785"/>
                </a:cubicBezTo>
                <a:cubicBezTo>
                  <a:pt x="16640" y="17798"/>
                  <a:pt x="16634" y="17800"/>
                  <a:pt x="16669" y="17810"/>
                </a:cubicBezTo>
                <a:cubicBezTo>
                  <a:pt x="16701" y="17819"/>
                  <a:pt x="16711" y="17826"/>
                  <a:pt x="16743" y="17835"/>
                </a:cubicBezTo>
                <a:cubicBezTo>
                  <a:pt x="16782" y="17846"/>
                  <a:pt x="16802" y="17867"/>
                  <a:pt x="16842" y="17859"/>
                </a:cubicBezTo>
                <a:cubicBezTo>
                  <a:pt x="16874" y="17853"/>
                  <a:pt x="16912" y="17837"/>
                  <a:pt x="16917" y="17835"/>
                </a:cubicBezTo>
                <a:cubicBezTo>
                  <a:pt x="16917" y="17827"/>
                  <a:pt x="16917" y="17818"/>
                  <a:pt x="16917" y="17810"/>
                </a:cubicBezTo>
              </a:path>
              <a:path w="22895" h="3374">
                <a:moveTo>
                  <a:pt x="15627" y="17264"/>
                </a:moveTo>
                <a:cubicBezTo>
                  <a:pt x="15619" y="17272"/>
                  <a:pt x="15610" y="17281"/>
                  <a:pt x="15602" y="17289"/>
                </a:cubicBezTo>
                <a:cubicBezTo>
                  <a:pt x="15617" y="17276"/>
                  <a:pt x="15644" y="17236"/>
                  <a:pt x="15677" y="17214"/>
                </a:cubicBezTo>
                <a:cubicBezTo>
                  <a:pt x="15703" y="17196"/>
                  <a:pt x="15713" y="17191"/>
                  <a:pt x="15751" y="17165"/>
                </a:cubicBezTo>
                <a:cubicBezTo>
                  <a:pt x="15778" y="17146"/>
                  <a:pt x="15791" y="17159"/>
                  <a:pt x="15825" y="17140"/>
                </a:cubicBezTo>
                <a:cubicBezTo>
                  <a:pt x="15864" y="17119"/>
                  <a:pt x="15885" y="17083"/>
                  <a:pt x="15925" y="17066"/>
                </a:cubicBezTo>
                <a:cubicBezTo>
                  <a:pt x="15955" y="17053"/>
                  <a:pt x="15994" y="17052"/>
                  <a:pt x="16024" y="17041"/>
                </a:cubicBezTo>
                <a:cubicBezTo>
                  <a:pt x="16068" y="17025"/>
                  <a:pt x="16101" y="17006"/>
                  <a:pt x="16148" y="16991"/>
                </a:cubicBezTo>
                <a:cubicBezTo>
                  <a:pt x="16206" y="16972"/>
                  <a:pt x="16267" y="16959"/>
                  <a:pt x="16321" y="16942"/>
                </a:cubicBezTo>
                <a:cubicBezTo>
                  <a:pt x="16370" y="16927"/>
                  <a:pt x="16418" y="16908"/>
                  <a:pt x="16470" y="16892"/>
                </a:cubicBezTo>
                <a:cubicBezTo>
                  <a:pt x="16522" y="16876"/>
                  <a:pt x="16587" y="16858"/>
                  <a:pt x="16644" y="16842"/>
                </a:cubicBezTo>
                <a:cubicBezTo>
                  <a:pt x="16693" y="16828"/>
                  <a:pt x="16767" y="16811"/>
                  <a:pt x="16818" y="16793"/>
                </a:cubicBezTo>
                <a:cubicBezTo>
                  <a:pt x="16900" y="16764"/>
                  <a:pt x="16973" y="16720"/>
                  <a:pt x="17066" y="16694"/>
                </a:cubicBezTo>
                <a:cubicBezTo>
                  <a:pt x="17130" y="16676"/>
                  <a:pt x="17202" y="16664"/>
                  <a:pt x="17264" y="16644"/>
                </a:cubicBezTo>
                <a:cubicBezTo>
                  <a:pt x="17334" y="16621"/>
                  <a:pt x="17393" y="16590"/>
                  <a:pt x="17462" y="16570"/>
                </a:cubicBezTo>
                <a:cubicBezTo>
                  <a:pt x="17527" y="16551"/>
                  <a:pt x="17595" y="16539"/>
                  <a:pt x="17661" y="16520"/>
                </a:cubicBezTo>
                <a:cubicBezTo>
                  <a:pt x="17738" y="16498"/>
                  <a:pt x="17808" y="16469"/>
                  <a:pt x="17884" y="16446"/>
                </a:cubicBezTo>
                <a:cubicBezTo>
                  <a:pt x="17989" y="16415"/>
                  <a:pt x="18101" y="16377"/>
                  <a:pt x="18207" y="16346"/>
                </a:cubicBezTo>
                <a:cubicBezTo>
                  <a:pt x="18293" y="16321"/>
                  <a:pt x="18369" y="16298"/>
                  <a:pt x="18455" y="16272"/>
                </a:cubicBezTo>
                <a:cubicBezTo>
                  <a:pt x="18530" y="16249"/>
                  <a:pt x="18602" y="16226"/>
                  <a:pt x="18678" y="16197"/>
                </a:cubicBezTo>
                <a:cubicBezTo>
                  <a:pt x="18761" y="16165"/>
                  <a:pt x="18841" y="16126"/>
                  <a:pt x="18926" y="16098"/>
                </a:cubicBezTo>
                <a:cubicBezTo>
                  <a:pt x="19056" y="16055"/>
                  <a:pt x="19194" y="16013"/>
                  <a:pt x="19323" y="15974"/>
                </a:cubicBezTo>
                <a:cubicBezTo>
                  <a:pt x="19412" y="15947"/>
                  <a:pt x="19506" y="15896"/>
                  <a:pt x="19596" y="15875"/>
                </a:cubicBezTo>
                <a:cubicBezTo>
                  <a:pt x="19671" y="15858"/>
                  <a:pt x="19744" y="15844"/>
                  <a:pt x="19819" y="15825"/>
                </a:cubicBezTo>
                <a:cubicBezTo>
                  <a:pt x="19886" y="15808"/>
                  <a:pt x="19950" y="15791"/>
                  <a:pt x="20017" y="15776"/>
                </a:cubicBezTo>
                <a:cubicBezTo>
                  <a:pt x="20092" y="15759"/>
                  <a:pt x="20165" y="15742"/>
                  <a:pt x="20241" y="15726"/>
                </a:cubicBezTo>
                <a:cubicBezTo>
                  <a:pt x="20302" y="15713"/>
                  <a:pt x="20381" y="15696"/>
                  <a:pt x="20439" y="15677"/>
                </a:cubicBezTo>
                <a:cubicBezTo>
                  <a:pt x="20497" y="15657"/>
                  <a:pt x="20553" y="15618"/>
                  <a:pt x="20613" y="15602"/>
                </a:cubicBezTo>
                <a:cubicBezTo>
                  <a:pt x="20724" y="15573"/>
                  <a:pt x="20849" y="15558"/>
                  <a:pt x="20960" y="15528"/>
                </a:cubicBezTo>
                <a:cubicBezTo>
                  <a:pt x="21020" y="15512"/>
                  <a:pt x="21080" y="15497"/>
                  <a:pt x="21134" y="15478"/>
                </a:cubicBezTo>
                <a:cubicBezTo>
                  <a:pt x="21196" y="15456"/>
                  <a:pt x="21245" y="15423"/>
                  <a:pt x="21307" y="15404"/>
                </a:cubicBezTo>
                <a:cubicBezTo>
                  <a:pt x="21381" y="15381"/>
                  <a:pt x="21462" y="15355"/>
                  <a:pt x="21530" y="15329"/>
                </a:cubicBezTo>
                <a:cubicBezTo>
                  <a:pt x="21595" y="15304"/>
                  <a:pt x="21662" y="15282"/>
                  <a:pt x="21729" y="15255"/>
                </a:cubicBezTo>
                <a:cubicBezTo>
                  <a:pt x="21806" y="15224"/>
                  <a:pt x="21895" y="15190"/>
                  <a:pt x="21977" y="15156"/>
                </a:cubicBezTo>
                <a:cubicBezTo>
                  <a:pt x="22069" y="15118"/>
                  <a:pt x="22183" y="15100"/>
                  <a:pt x="22275" y="15056"/>
                </a:cubicBezTo>
                <a:cubicBezTo>
                  <a:pt x="22340" y="15025"/>
                  <a:pt x="22406" y="14984"/>
                  <a:pt x="22473" y="14957"/>
                </a:cubicBezTo>
                <a:cubicBezTo>
                  <a:pt x="22538" y="14931"/>
                  <a:pt x="22603" y="14906"/>
                  <a:pt x="22671" y="14883"/>
                </a:cubicBezTo>
                <a:cubicBezTo>
                  <a:pt x="22738" y="14861"/>
                  <a:pt x="22826" y="14858"/>
                  <a:pt x="22895" y="14833"/>
                </a:cubicBezTo>
                <a:cubicBezTo>
                  <a:pt x="22942" y="14816"/>
                  <a:pt x="22991" y="14799"/>
                  <a:pt x="23044" y="14784"/>
                </a:cubicBezTo>
                <a:cubicBezTo>
                  <a:pt x="23087" y="14772"/>
                  <a:pt x="23144" y="14747"/>
                  <a:pt x="23192" y="14734"/>
                </a:cubicBezTo>
                <a:cubicBezTo>
                  <a:pt x="23235" y="14722"/>
                  <a:pt x="23279" y="14695"/>
                  <a:pt x="23316" y="14684"/>
                </a:cubicBezTo>
                <a:cubicBezTo>
                  <a:pt x="23370" y="14668"/>
                  <a:pt x="23408" y="14654"/>
                  <a:pt x="23465" y="14635"/>
                </a:cubicBezTo>
                <a:cubicBezTo>
                  <a:pt x="23496" y="14625"/>
                  <a:pt x="23534" y="14623"/>
                  <a:pt x="23564" y="14610"/>
                </a:cubicBezTo>
                <a:cubicBezTo>
                  <a:pt x="23616" y="14589"/>
                  <a:pt x="23661" y="14558"/>
                  <a:pt x="23713" y="14536"/>
                </a:cubicBezTo>
                <a:cubicBezTo>
                  <a:pt x="23753" y="14519"/>
                  <a:pt x="23799" y="14503"/>
                  <a:pt x="23837" y="14486"/>
                </a:cubicBezTo>
              </a:path>
              <a:path w="22895" h="3374">
                <a:moveTo>
                  <a:pt x="10740" y="17090"/>
                </a:moveTo>
                <a:cubicBezTo>
                  <a:pt x="10770" y="17069"/>
                  <a:pt x="10734" y="17060"/>
                  <a:pt x="10765" y="17041"/>
                </a:cubicBezTo>
                <a:cubicBezTo>
                  <a:pt x="10781" y="17032"/>
                  <a:pt x="10833" y="17009"/>
                  <a:pt x="10864" y="16991"/>
                </a:cubicBezTo>
                <a:cubicBezTo>
                  <a:pt x="10897" y="16972"/>
                  <a:pt x="10933" y="16960"/>
                  <a:pt x="10964" y="16942"/>
                </a:cubicBezTo>
                <a:cubicBezTo>
                  <a:pt x="11011" y="16916"/>
                  <a:pt x="11041" y="16890"/>
                  <a:pt x="11088" y="16867"/>
                </a:cubicBezTo>
                <a:cubicBezTo>
                  <a:pt x="11142" y="16841"/>
                  <a:pt x="11212" y="16817"/>
                  <a:pt x="11261" y="16793"/>
                </a:cubicBezTo>
                <a:cubicBezTo>
                  <a:pt x="11317" y="16765"/>
                  <a:pt x="11358" y="16739"/>
                  <a:pt x="11410" y="16718"/>
                </a:cubicBezTo>
                <a:cubicBezTo>
                  <a:pt x="11470" y="16693"/>
                  <a:pt x="11524" y="16666"/>
                  <a:pt x="11584" y="16644"/>
                </a:cubicBezTo>
                <a:cubicBezTo>
                  <a:pt x="11657" y="16617"/>
                  <a:pt x="11739" y="16593"/>
                  <a:pt x="11807" y="16570"/>
                </a:cubicBezTo>
                <a:cubicBezTo>
                  <a:pt x="11877" y="16546"/>
                  <a:pt x="11935" y="16513"/>
                  <a:pt x="12005" y="16495"/>
                </a:cubicBezTo>
                <a:cubicBezTo>
                  <a:pt x="12089" y="16473"/>
                  <a:pt x="12174" y="16469"/>
                  <a:pt x="12254" y="16446"/>
                </a:cubicBezTo>
                <a:cubicBezTo>
                  <a:pt x="12329" y="16425"/>
                  <a:pt x="12403" y="16393"/>
                  <a:pt x="12477" y="16371"/>
                </a:cubicBezTo>
                <a:cubicBezTo>
                  <a:pt x="12544" y="16351"/>
                  <a:pt x="12607" y="16314"/>
                  <a:pt x="12675" y="16297"/>
                </a:cubicBezTo>
                <a:cubicBezTo>
                  <a:pt x="12742" y="16280"/>
                  <a:pt x="12807" y="16265"/>
                  <a:pt x="12874" y="16247"/>
                </a:cubicBezTo>
                <a:cubicBezTo>
                  <a:pt x="12986" y="16217"/>
                  <a:pt x="13105" y="16178"/>
                  <a:pt x="13221" y="16148"/>
                </a:cubicBezTo>
                <a:cubicBezTo>
                  <a:pt x="13320" y="16122"/>
                  <a:pt x="13416" y="16114"/>
                  <a:pt x="13519" y="16098"/>
                </a:cubicBezTo>
                <a:cubicBezTo>
                  <a:pt x="13631" y="16081"/>
                  <a:pt x="13753" y="16067"/>
                  <a:pt x="13866" y="16049"/>
                </a:cubicBezTo>
                <a:cubicBezTo>
                  <a:pt x="13952" y="16035"/>
                  <a:pt x="14027" y="16015"/>
                  <a:pt x="14114" y="15999"/>
                </a:cubicBezTo>
                <a:cubicBezTo>
                  <a:pt x="14194" y="15984"/>
                  <a:pt x="14281" y="15959"/>
                  <a:pt x="14362" y="15949"/>
                </a:cubicBezTo>
                <a:cubicBezTo>
                  <a:pt x="14583" y="15921"/>
                  <a:pt x="14795" y="15881"/>
                  <a:pt x="15007" y="15850"/>
                </a:cubicBezTo>
                <a:cubicBezTo>
                  <a:pt x="15164" y="15827"/>
                  <a:pt x="15324" y="15825"/>
                  <a:pt x="15478" y="15801"/>
                </a:cubicBezTo>
                <a:cubicBezTo>
                  <a:pt x="15552" y="15789"/>
                  <a:pt x="15626" y="15787"/>
                  <a:pt x="15701" y="15776"/>
                </a:cubicBezTo>
                <a:cubicBezTo>
                  <a:pt x="15798" y="15762"/>
                  <a:pt x="15901" y="15742"/>
                  <a:pt x="15999" y="15726"/>
                </a:cubicBezTo>
                <a:cubicBezTo>
                  <a:pt x="16085" y="15712"/>
                  <a:pt x="16184" y="15695"/>
                  <a:pt x="16272" y="15677"/>
                </a:cubicBezTo>
                <a:cubicBezTo>
                  <a:pt x="16346" y="15662"/>
                  <a:pt x="16421" y="15642"/>
                  <a:pt x="16495" y="15627"/>
                </a:cubicBezTo>
                <a:cubicBezTo>
                  <a:pt x="16562" y="15613"/>
                  <a:pt x="16625" y="15613"/>
                  <a:pt x="16694" y="15602"/>
                </a:cubicBezTo>
                <a:cubicBezTo>
                  <a:pt x="16762" y="15591"/>
                  <a:pt x="16827" y="15567"/>
                  <a:pt x="16892" y="15553"/>
                </a:cubicBezTo>
                <a:cubicBezTo>
                  <a:pt x="16967" y="15537"/>
                  <a:pt x="17040" y="15519"/>
                  <a:pt x="17115" y="15503"/>
                </a:cubicBezTo>
                <a:cubicBezTo>
                  <a:pt x="17224" y="15479"/>
                  <a:pt x="17331" y="15453"/>
                  <a:pt x="17438" y="15429"/>
                </a:cubicBezTo>
                <a:cubicBezTo>
                  <a:pt x="17495" y="15416"/>
                  <a:pt x="17554" y="15417"/>
                  <a:pt x="17611" y="15404"/>
                </a:cubicBezTo>
                <a:cubicBezTo>
                  <a:pt x="17662" y="15393"/>
                  <a:pt x="17709" y="15366"/>
                  <a:pt x="17760" y="15354"/>
                </a:cubicBezTo>
                <a:cubicBezTo>
                  <a:pt x="17810" y="15342"/>
                  <a:pt x="17859" y="15343"/>
                  <a:pt x="17909" y="15329"/>
                </a:cubicBezTo>
                <a:cubicBezTo>
                  <a:pt x="17963" y="15314"/>
                  <a:pt x="18010" y="15296"/>
                  <a:pt x="18058" y="15280"/>
                </a:cubicBezTo>
                <a:cubicBezTo>
                  <a:pt x="18105" y="15265"/>
                  <a:pt x="18162" y="15242"/>
                  <a:pt x="18207" y="15230"/>
                </a:cubicBezTo>
                <a:cubicBezTo>
                  <a:pt x="18288" y="15209"/>
                  <a:pt x="18356" y="15197"/>
                  <a:pt x="18430" y="15180"/>
                </a:cubicBezTo>
                <a:cubicBezTo>
                  <a:pt x="18502" y="15163"/>
                  <a:pt x="18588" y="15145"/>
                  <a:pt x="18653" y="15131"/>
                </a:cubicBezTo>
                <a:cubicBezTo>
                  <a:pt x="18755" y="15110"/>
                  <a:pt x="18856" y="15104"/>
                  <a:pt x="18951" y="15081"/>
                </a:cubicBezTo>
                <a:cubicBezTo>
                  <a:pt x="19014" y="15066"/>
                  <a:pt x="19065" y="15044"/>
                  <a:pt x="19124" y="15032"/>
                </a:cubicBezTo>
                <a:cubicBezTo>
                  <a:pt x="19214" y="15013"/>
                  <a:pt x="19316" y="14971"/>
                  <a:pt x="19397" y="14957"/>
                </a:cubicBezTo>
                <a:cubicBezTo>
                  <a:pt x="19469" y="14944"/>
                  <a:pt x="19529" y="14946"/>
                  <a:pt x="19596" y="14932"/>
                </a:cubicBezTo>
                <a:cubicBezTo>
                  <a:pt x="19646" y="14922"/>
                  <a:pt x="19696" y="14918"/>
                  <a:pt x="19745" y="14908"/>
                </a:cubicBezTo>
                <a:cubicBezTo>
                  <a:pt x="19805" y="14896"/>
                  <a:pt x="19857" y="14891"/>
                  <a:pt x="19918" y="14883"/>
                </a:cubicBezTo>
                <a:cubicBezTo>
                  <a:pt x="19985" y="14874"/>
                  <a:pt x="20044" y="14862"/>
                  <a:pt x="20117" y="14858"/>
                </a:cubicBezTo>
                <a:cubicBezTo>
                  <a:pt x="20256" y="14851"/>
                  <a:pt x="20381" y="14879"/>
                  <a:pt x="20513" y="14883"/>
                </a:cubicBezTo>
                <a:cubicBezTo>
                  <a:pt x="20935" y="14897"/>
                  <a:pt x="21374" y="14899"/>
                  <a:pt x="21779" y="14833"/>
                </a:cubicBezTo>
                <a:cubicBezTo>
                  <a:pt x="21852" y="14821"/>
                  <a:pt x="21928" y="14822"/>
                  <a:pt x="22002" y="14808"/>
                </a:cubicBezTo>
                <a:cubicBezTo>
                  <a:pt x="22109" y="14788"/>
                  <a:pt x="22215" y="14775"/>
                  <a:pt x="22324" y="14759"/>
                </a:cubicBezTo>
                <a:cubicBezTo>
                  <a:pt x="22435" y="14743"/>
                  <a:pt x="22558" y="14731"/>
                  <a:pt x="22671" y="14709"/>
                </a:cubicBezTo>
                <a:cubicBezTo>
                  <a:pt x="22814" y="14680"/>
                  <a:pt x="22951" y="14641"/>
                  <a:pt x="23093" y="14610"/>
                </a:cubicBezTo>
                <a:cubicBezTo>
                  <a:pt x="23182" y="14591"/>
                  <a:pt x="23274" y="14577"/>
                  <a:pt x="23366" y="14560"/>
                </a:cubicBezTo>
                <a:cubicBezTo>
                  <a:pt x="23464" y="14542"/>
                  <a:pt x="23566" y="14528"/>
                  <a:pt x="23664" y="14511"/>
                </a:cubicBezTo>
              </a:path>
              <a:path w="22895" h="3374">
                <a:moveTo>
                  <a:pt x="19397" y="17810"/>
                </a:moveTo>
                <a:lnTo>
                  <a:pt x="19397" y="17810"/>
                </a:lnTo>
              </a:path>
              <a:path w="22895" h="3374">
                <a:moveTo>
                  <a:pt x="1712" y="14833"/>
                </a:moveTo>
                <a:cubicBezTo>
                  <a:pt x="1705" y="15045"/>
                  <a:pt x="1664" y="15244"/>
                  <a:pt x="1637" y="15453"/>
                </a:cubicBezTo>
                <a:cubicBezTo>
                  <a:pt x="1613" y="15638"/>
                  <a:pt x="1598" y="15837"/>
                  <a:pt x="1588" y="16024"/>
                </a:cubicBezTo>
                <a:cubicBezTo>
                  <a:pt x="1579" y="16199"/>
                  <a:pt x="1570" y="16371"/>
                  <a:pt x="1563" y="16545"/>
                </a:cubicBezTo>
                <a:cubicBezTo>
                  <a:pt x="1560" y="16617"/>
                  <a:pt x="1584" y="16680"/>
                  <a:pt x="1588" y="16743"/>
                </a:cubicBezTo>
                <a:cubicBezTo>
                  <a:pt x="1618" y="16653"/>
                  <a:pt x="1647" y="16613"/>
                  <a:pt x="1662" y="16520"/>
                </a:cubicBezTo>
                <a:cubicBezTo>
                  <a:pt x="1691" y="16346"/>
                  <a:pt x="1709" y="16174"/>
                  <a:pt x="1736" y="15999"/>
                </a:cubicBezTo>
                <a:cubicBezTo>
                  <a:pt x="1764" y="15817"/>
                  <a:pt x="1768" y="15636"/>
                  <a:pt x="1786" y="15453"/>
                </a:cubicBezTo>
                <a:cubicBezTo>
                  <a:pt x="1797" y="15341"/>
                  <a:pt x="1777" y="15082"/>
                  <a:pt x="1836" y="14982"/>
                </a:cubicBezTo>
                <a:cubicBezTo>
                  <a:pt x="1907" y="14860"/>
                  <a:pt x="1936" y="14848"/>
                  <a:pt x="2084" y="14833"/>
                </a:cubicBezTo>
                <a:cubicBezTo>
                  <a:pt x="2249" y="14817"/>
                  <a:pt x="2470" y="14872"/>
                  <a:pt x="2629" y="14908"/>
                </a:cubicBezTo>
                <a:cubicBezTo>
                  <a:pt x="2900" y="14969"/>
                  <a:pt x="3176" y="15002"/>
                  <a:pt x="3448" y="15056"/>
                </a:cubicBezTo>
                <a:cubicBezTo>
                  <a:pt x="3745" y="15115"/>
                  <a:pt x="4038" y="15150"/>
                  <a:pt x="4341" y="15180"/>
                </a:cubicBezTo>
                <a:cubicBezTo>
                  <a:pt x="4771" y="15223"/>
                  <a:pt x="5176" y="15275"/>
                  <a:pt x="5606" y="15255"/>
                </a:cubicBezTo>
                <a:cubicBezTo>
                  <a:pt x="5917" y="15241"/>
                  <a:pt x="6241" y="15242"/>
                  <a:pt x="6548" y="15280"/>
                </a:cubicBezTo>
                <a:cubicBezTo>
                  <a:pt x="6733" y="15303"/>
                  <a:pt x="6815" y="15359"/>
                  <a:pt x="6871" y="15528"/>
                </a:cubicBezTo>
                <a:cubicBezTo>
                  <a:pt x="6905" y="15631"/>
                  <a:pt x="6916" y="15738"/>
                  <a:pt x="6921" y="15850"/>
                </a:cubicBezTo>
                <a:cubicBezTo>
                  <a:pt x="6933" y="16089"/>
                  <a:pt x="6941" y="16331"/>
                  <a:pt x="6945" y="16570"/>
                </a:cubicBezTo>
                <a:cubicBezTo>
                  <a:pt x="6948" y="16762"/>
                  <a:pt x="6963" y="16949"/>
                  <a:pt x="6970" y="17140"/>
                </a:cubicBezTo>
                <a:cubicBezTo>
                  <a:pt x="6973" y="17226"/>
                  <a:pt x="7022" y="17571"/>
                  <a:pt x="6945" y="17636"/>
                </a:cubicBezTo>
                <a:cubicBezTo>
                  <a:pt x="6906" y="17669"/>
                  <a:pt x="6772" y="17669"/>
                  <a:pt x="6722" y="17686"/>
                </a:cubicBezTo>
                <a:cubicBezTo>
                  <a:pt x="6586" y="17730"/>
                  <a:pt x="6465" y="17732"/>
                  <a:pt x="6325" y="17735"/>
                </a:cubicBezTo>
                <a:cubicBezTo>
                  <a:pt x="6069" y="17741"/>
                  <a:pt x="5811" y="17732"/>
                  <a:pt x="5556" y="17711"/>
                </a:cubicBezTo>
                <a:cubicBezTo>
                  <a:pt x="5240" y="17685"/>
                  <a:pt x="4926" y="17658"/>
                  <a:pt x="4614" y="17611"/>
                </a:cubicBezTo>
                <a:cubicBezTo>
                  <a:pt x="3380" y="17424"/>
                  <a:pt x="2191" y="17289"/>
                  <a:pt x="943" y="172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80200" y="5402160"/>
            <a:ext cx="187560" cy="223920"/>
          </a:xfrm>
          <a:custGeom>
            <a:avLst/>
            <a:gdLst/>
            <a:ahLst/>
            <a:rect l="l" t="t" r="r" b="b"/>
            <a:pathLst>
              <a:path w="522" h="621">
                <a:moveTo>
                  <a:pt x="19943" y="15007"/>
                </a:moveTo>
                <a:cubicBezTo>
                  <a:pt x="19980" y="15056"/>
                  <a:pt x="19968" y="15088"/>
                  <a:pt x="19968" y="15156"/>
                </a:cubicBezTo>
                <a:cubicBezTo>
                  <a:pt x="19968" y="15240"/>
                  <a:pt x="19961" y="15302"/>
                  <a:pt x="19943" y="15379"/>
                </a:cubicBezTo>
                <a:cubicBezTo>
                  <a:pt x="19936" y="15408"/>
                  <a:pt x="19943" y="15448"/>
                  <a:pt x="19943" y="15478"/>
                </a:cubicBezTo>
              </a:path>
              <a:path w="522" h="621">
                <a:moveTo>
                  <a:pt x="20191" y="15056"/>
                </a:moveTo>
                <a:cubicBezTo>
                  <a:pt x="20263" y="15076"/>
                  <a:pt x="20321" y="15100"/>
                  <a:pt x="20389" y="15106"/>
                </a:cubicBezTo>
                <a:cubicBezTo>
                  <a:pt x="20414" y="15108"/>
                  <a:pt x="20439" y="15106"/>
                  <a:pt x="20464" y="15106"/>
                </a:cubicBezTo>
                <a:cubicBezTo>
                  <a:pt x="20464" y="15226"/>
                  <a:pt x="20456" y="15336"/>
                  <a:pt x="20439" y="15453"/>
                </a:cubicBezTo>
                <a:cubicBezTo>
                  <a:pt x="20430" y="15518"/>
                  <a:pt x="20413" y="15563"/>
                  <a:pt x="20389" y="156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0160" y="5562720"/>
            <a:ext cx="1563840" cy="519120"/>
          </a:xfrm>
          <a:custGeom>
            <a:avLst/>
            <a:gdLst/>
            <a:ahLst/>
            <a:rect l="l" t="t" r="r" b="b"/>
            <a:pathLst>
              <a:path w="4342" h="1440">
                <a:moveTo>
                  <a:pt x="5556" y="15825"/>
                </a:moveTo>
                <a:cubicBezTo>
                  <a:pt x="5714" y="15805"/>
                  <a:pt x="5780" y="15818"/>
                  <a:pt x="5928" y="15825"/>
                </a:cubicBezTo>
                <a:cubicBezTo>
                  <a:pt x="6021" y="15830"/>
                  <a:pt x="5996" y="15844"/>
                  <a:pt x="6028" y="15900"/>
                </a:cubicBezTo>
                <a:cubicBezTo>
                  <a:pt x="6051" y="15940"/>
                  <a:pt x="6071" y="16000"/>
                  <a:pt x="6077" y="16049"/>
                </a:cubicBezTo>
                <a:cubicBezTo>
                  <a:pt x="6090" y="16147"/>
                  <a:pt x="6103" y="16281"/>
                  <a:pt x="6152" y="16371"/>
                </a:cubicBezTo>
                <a:cubicBezTo>
                  <a:pt x="6238" y="16529"/>
                  <a:pt x="6373" y="16667"/>
                  <a:pt x="6499" y="16793"/>
                </a:cubicBezTo>
                <a:cubicBezTo>
                  <a:pt x="6567" y="16861"/>
                  <a:pt x="6584" y="16883"/>
                  <a:pt x="6648" y="16892"/>
                </a:cubicBezTo>
              </a:path>
              <a:path w="4342" h="1440">
                <a:moveTo>
                  <a:pt x="6226" y="15825"/>
                </a:moveTo>
                <a:cubicBezTo>
                  <a:pt x="6108" y="15963"/>
                  <a:pt x="5995" y="16091"/>
                  <a:pt x="5904" y="16247"/>
                </a:cubicBezTo>
                <a:cubicBezTo>
                  <a:pt x="5829" y="16376"/>
                  <a:pt x="5772" y="16526"/>
                  <a:pt x="5680" y="16644"/>
                </a:cubicBezTo>
                <a:cubicBezTo>
                  <a:pt x="5634" y="16690"/>
                  <a:pt x="5620" y="16703"/>
                  <a:pt x="5606" y="16743"/>
                </a:cubicBezTo>
              </a:path>
              <a:path w="4342" h="1440">
                <a:moveTo>
                  <a:pt x="4762" y="16197"/>
                </a:moveTo>
                <a:cubicBezTo>
                  <a:pt x="4892" y="16161"/>
                  <a:pt x="5002" y="16123"/>
                  <a:pt x="5135" y="16123"/>
                </a:cubicBezTo>
              </a:path>
              <a:path w="4342" h="1440">
                <a:moveTo>
                  <a:pt x="4862" y="16421"/>
                </a:moveTo>
                <a:cubicBezTo>
                  <a:pt x="5004" y="16492"/>
                  <a:pt x="5036" y="16485"/>
                  <a:pt x="5209" y="16470"/>
                </a:cubicBezTo>
              </a:path>
              <a:path w="4342" h="1440">
                <a:moveTo>
                  <a:pt x="2530" y="15478"/>
                </a:moveTo>
                <a:cubicBezTo>
                  <a:pt x="2530" y="15426"/>
                  <a:pt x="2516" y="15529"/>
                  <a:pt x="2505" y="15553"/>
                </a:cubicBezTo>
                <a:cubicBezTo>
                  <a:pt x="2464" y="15638"/>
                  <a:pt x="2414" y="15713"/>
                  <a:pt x="2381" y="15801"/>
                </a:cubicBezTo>
                <a:cubicBezTo>
                  <a:pt x="2342" y="15904"/>
                  <a:pt x="2311" y="16014"/>
                  <a:pt x="2307" y="16123"/>
                </a:cubicBezTo>
                <a:cubicBezTo>
                  <a:pt x="2304" y="16190"/>
                  <a:pt x="2330" y="16320"/>
                  <a:pt x="2381" y="16371"/>
                </a:cubicBezTo>
                <a:cubicBezTo>
                  <a:pt x="2443" y="16433"/>
                  <a:pt x="2554" y="16452"/>
                  <a:pt x="2629" y="16421"/>
                </a:cubicBezTo>
                <a:cubicBezTo>
                  <a:pt x="2713" y="16386"/>
                  <a:pt x="2700" y="16337"/>
                  <a:pt x="2729" y="16272"/>
                </a:cubicBezTo>
                <a:cubicBezTo>
                  <a:pt x="2749" y="16227"/>
                  <a:pt x="2771" y="16178"/>
                  <a:pt x="2704" y="16148"/>
                </a:cubicBezTo>
                <a:cubicBezTo>
                  <a:pt x="2656" y="16127"/>
                  <a:pt x="2537" y="16177"/>
                  <a:pt x="2505" y="16222"/>
                </a:cubicBezTo>
                <a:cubicBezTo>
                  <a:pt x="2471" y="16269"/>
                  <a:pt x="2433" y="16335"/>
                  <a:pt x="2456" y="16396"/>
                </a:cubicBezTo>
                <a:cubicBezTo>
                  <a:pt x="2474" y="16444"/>
                  <a:pt x="2517" y="16441"/>
                  <a:pt x="2555" y="16446"/>
                </a:cubicBezTo>
              </a:path>
              <a:path w="4342" h="1440">
                <a:moveTo>
                  <a:pt x="2902" y="16371"/>
                </a:moveTo>
                <a:cubicBezTo>
                  <a:pt x="2946" y="16316"/>
                  <a:pt x="2968" y="16263"/>
                  <a:pt x="3001" y="16197"/>
                </a:cubicBezTo>
              </a:path>
              <a:path w="4342" h="1440">
                <a:moveTo>
                  <a:pt x="3249" y="15602"/>
                </a:moveTo>
                <a:cubicBezTo>
                  <a:pt x="3334" y="15544"/>
                  <a:pt x="3374" y="15480"/>
                  <a:pt x="3448" y="15577"/>
                </a:cubicBezTo>
                <a:cubicBezTo>
                  <a:pt x="3499" y="15645"/>
                  <a:pt x="3473" y="15770"/>
                  <a:pt x="3473" y="15850"/>
                </a:cubicBezTo>
                <a:cubicBezTo>
                  <a:pt x="3473" y="16000"/>
                  <a:pt x="3439" y="16128"/>
                  <a:pt x="3349" y="16247"/>
                </a:cubicBezTo>
                <a:cubicBezTo>
                  <a:pt x="3313" y="16294"/>
                  <a:pt x="3266" y="16314"/>
                  <a:pt x="3225" y="16346"/>
                </a:cubicBezTo>
                <a:cubicBezTo>
                  <a:pt x="3214" y="16313"/>
                  <a:pt x="3179" y="16303"/>
                  <a:pt x="3175" y="16247"/>
                </a:cubicBezTo>
                <a:cubicBezTo>
                  <a:pt x="3175" y="16206"/>
                  <a:pt x="3175" y="16198"/>
                  <a:pt x="3175" y="16173"/>
                </a:cubicBezTo>
                <a:cubicBezTo>
                  <a:pt x="3205" y="16150"/>
                  <a:pt x="3267" y="16144"/>
                  <a:pt x="3299" y="16173"/>
                </a:cubicBezTo>
                <a:cubicBezTo>
                  <a:pt x="3367" y="16235"/>
                  <a:pt x="3396" y="16310"/>
                  <a:pt x="3497" y="16346"/>
                </a:cubicBezTo>
                <a:cubicBezTo>
                  <a:pt x="3505" y="16346"/>
                  <a:pt x="3514" y="16346"/>
                  <a:pt x="3522" y="16346"/>
                </a:cubicBezTo>
              </a:path>
              <a:path w="4342" h="1440">
                <a:moveTo>
                  <a:pt x="3721" y="16272"/>
                </a:moveTo>
                <a:cubicBezTo>
                  <a:pt x="3736" y="16320"/>
                  <a:pt x="3736" y="16384"/>
                  <a:pt x="3770" y="16396"/>
                </a:cubicBezTo>
                <a:cubicBezTo>
                  <a:pt x="3770" y="16290"/>
                  <a:pt x="3772" y="16197"/>
                  <a:pt x="3795" y="16098"/>
                </a:cubicBezTo>
                <a:cubicBezTo>
                  <a:pt x="3803" y="16062"/>
                  <a:pt x="3812" y="16028"/>
                  <a:pt x="3845" y="16024"/>
                </a:cubicBezTo>
                <a:cubicBezTo>
                  <a:pt x="3853" y="16024"/>
                  <a:pt x="3862" y="16024"/>
                  <a:pt x="3870" y="16024"/>
                </a:cubicBezTo>
                <a:cubicBezTo>
                  <a:pt x="3908" y="16083"/>
                  <a:pt x="3928" y="16154"/>
                  <a:pt x="3944" y="16222"/>
                </a:cubicBezTo>
                <a:cubicBezTo>
                  <a:pt x="3944" y="16250"/>
                  <a:pt x="3946" y="16261"/>
                  <a:pt x="3969" y="16272"/>
                </a:cubicBezTo>
                <a:cubicBezTo>
                  <a:pt x="3982" y="16222"/>
                  <a:pt x="3994" y="16208"/>
                  <a:pt x="3994" y="16148"/>
                </a:cubicBezTo>
                <a:cubicBezTo>
                  <a:pt x="3994" y="16116"/>
                  <a:pt x="4011" y="16103"/>
                  <a:pt x="4018" y="16073"/>
                </a:cubicBezTo>
                <a:cubicBezTo>
                  <a:pt x="4060" y="16087"/>
                  <a:pt x="4065" y="16143"/>
                  <a:pt x="4068" y="16197"/>
                </a:cubicBezTo>
                <a:cubicBezTo>
                  <a:pt x="4071" y="16246"/>
                  <a:pt x="4068" y="16297"/>
                  <a:pt x="4068" y="16346"/>
                </a:cubicBezTo>
              </a:path>
              <a:path w="4342" h="1440">
                <a:moveTo>
                  <a:pt x="4192" y="16148"/>
                </a:moveTo>
                <a:cubicBezTo>
                  <a:pt x="4252" y="16267"/>
                  <a:pt x="4260" y="16378"/>
                  <a:pt x="4266" y="16520"/>
                </a:cubicBezTo>
                <a:cubicBezTo>
                  <a:pt x="4266" y="16572"/>
                  <a:pt x="4265" y="16587"/>
                  <a:pt x="4242" y="16520"/>
                </a:cubicBezTo>
              </a:path>
              <a:path w="4342" h="1440">
                <a:moveTo>
                  <a:pt x="4167" y="15751"/>
                </a:moveTo>
                <a:cubicBezTo>
                  <a:pt x="4204" y="15723"/>
                  <a:pt x="4203" y="15709"/>
                  <a:pt x="4217" y="157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03720" y="5965920"/>
            <a:ext cx="376200" cy="428400"/>
          </a:xfrm>
          <a:custGeom>
            <a:avLst/>
            <a:gdLst/>
            <a:ahLst/>
            <a:rect l="l" t="t" r="r" b="b"/>
            <a:pathLst>
              <a:path w="1043" h="1191">
                <a:moveTo>
                  <a:pt x="9624" y="16743"/>
                </a:moveTo>
                <a:cubicBezTo>
                  <a:pt x="9624" y="16751"/>
                  <a:pt x="9624" y="16760"/>
                  <a:pt x="9624" y="16768"/>
                </a:cubicBezTo>
                <a:cubicBezTo>
                  <a:pt x="9589" y="16780"/>
                  <a:pt x="9599" y="16775"/>
                  <a:pt x="9599" y="16818"/>
                </a:cubicBezTo>
                <a:cubicBezTo>
                  <a:pt x="9547" y="16835"/>
                  <a:pt x="9598" y="16850"/>
                  <a:pt x="9575" y="16892"/>
                </a:cubicBezTo>
                <a:cubicBezTo>
                  <a:pt x="9554" y="16929"/>
                  <a:pt x="9530" y="16973"/>
                  <a:pt x="9525" y="17016"/>
                </a:cubicBezTo>
                <a:cubicBezTo>
                  <a:pt x="9521" y="17049"/>
                  <a:pt x="9495" y="17110"/>
                  <a:pt x="9475" y="17140"/>
                </a:cubicBezTo>
                <a:cubicBezTo>
                  <a:pt x="9445" y="17186"/>
                  <a:pt x="9431" y="17205"/>
                  <a:pt x="9426" y="17264"/>
                </a:cubicBezTo>
                <a:cubicBezTo>
                  <a:pt x="9422" y="17308"/>
                  <a:pt x="9389" y="17325"/>
                  <a:pt x="9376" y="17363"/>
                </a:cubicBezTo>
                <a:cubicBezTo>
                  <a:pt x="9362" y="17404"/>
                  <a:pt x="9338" y="17440"/>
                  <a:pt x="9327" y="17487"/>
                </a:cubicBezTo>
                <a:cubicBezTo>
                  <a:pt x="9317" y="17527"/>
                  <a:pt x="9290" y="17550"/>
                  <a:pt x="9277" y="17587"/>
                </a:cubicBezTo>
                <a:cubicBezTo>
                  <a:pt x="9268" y="17614"/>
                  <a:pt x="9259" y="17633"/>
                  <a:pt x="9252" y="17661"/>
                </a:cubicBezTo>
                <a:cubicBezTo>
                  <a:pt x="9220" y="17672"/>
                  <a:pt x="9213" y="17695"/>
                  <a:pt x="9203" y="17735"/>
                </a:cubicBezTo>
                <a:cubicBezTo>
                  <a:pt x="9178" y="17735"/>
                  <a:pt x="9170" y="17735"/>
                  <a:pt x="9178" y="17760"/>
                </a:cubicBezTo>
              </a:path>
              <a:path w="1043" h="1191">
                <a:moveTo>
                  <a:pt x="9748" y="16594"/>
                </a:moveTo>
                <a:cubicBezTo>
                  <a:pt x="9783" y="16569"/>
                  <a:pt x="9780" y="16570"/>
                  <a:pt x="9823" y="16570"/>
                </a:cubicBezTo>
                <a:cubicBezTo>
                  <a:pt x="9823" y="16615"/>
                  <a:pt x="9843" y="16629"/>
                  <a:pt x="9847" y="16669"/>
                </a:cubicBezTo>
                <a:cubicBezTo>
                  <a:pt x="9847" y="16677"/>
                  <a:pt x="9847" y="16686"/>
                  <a:pt x="9847" y="16694"/>
                </a:cubicBezTo>
                <a:cubicBezTo>
                  <a:pt x="9875" y="16703"/>
                  <a:pt x="9886" y="16751"/>
                  <a:pt x="9897" y="16793"/>
                </a:cubicBezTo>
                <a:cubicBezTo>
                  <a:pt x="9903" y="16817"/>
                  <a:pt x="9910" y="16871"/>
                  <a:pt x="9922" y="16892"/>
                </a:cubicBezTo>
                <a:cubicBezTo>
                  <a:pt x="9942" y="16928"/>
                  <a:pt x="9955" y="16955"/>
                  <a:pt x="9971" y="16991"/>
                </a:cubicBezTo>
                <a:cubicBezTo>
                  <a:pt x="9987" y="17029"/>
                  <a:pt x="10001" y="17085"/>
                  <a:pt x="10021" y="17115"/>
                </a:cubicBezTo>
                <a:cubicBezTo>
                  <a:pt x="10048" y="17155"/>
                  <a:pt x="10046" y="17202"/>
                  <a:pt x="10071" y="17239"/>
                </a:cubicBezTo>
                <a:cubicBezTo>
                  <a:pt x="10104" y="17289"/>
                  <a:pt x="10100" y="17332"/>
                  <a:pt x="10120" y="17388"/>
                </a:cubicBezTo>
                <a:cubicBezTo>
                  <a:pt x="10134" y="17427"/>
                  <a:pt x="10151" y="17505"/>
                  <a:pt x="10170" y="17537"/>
                </a:cubicBezTo>
                <a:cubicBezTo>
                  <a:pt x="10195" y="17562"/>
                  <a:pt x="10203" y="17570"/>
                  <a:pt x="10220" y="17587"/>
                </a:cubicBezTo>
              </a:path>
              <a:path w="1043" h="1191">
                <a:moveTo>
                  <a:pt x="9599" y="17165"/>
                </a:moveTo>
                <a:cubicBezTo>
                  <a:pt x="9637" y="17203"/>
                  <a:pt x="9646" y="17214"/>
                  <a:pt x="9699" y="17214"/>
                </a:cubicBezTo>
                <a:cubicBezTo>
                  <a:pt x="9727" y="17214"/>
                  <a:pt x="9737" y="17217"/>
                  <a:pt x="9748" y="17239"/>
                </a:cubicBezTo>
                <a:cubicBezTo>
                  <a:pt x="9786" y="17211"/>
                  <a:pt x="9799" y="17214"/>
                  <a:pt x="9847" y="17214"/>
                </a:cubicBezTo>
                <a:cubicBezTo>
                  <a:pt x="9900" y="17214"/>
                  <a:pt x="9927" y="17195"/>
                  <a:pt x="9971" y="17190"/>
                </a:cubicBezTo>
                <a:cubicBezTo>
                  <a:pt x="10003" y="17186"/>
                  <a:pt x="10038" y="17190"/>
                  <a:pt x="10071" y="17190"/>
                </a:cubicBezTo>
                <a:cubicBezTo>
                  <a:pt x="10084" y="17152"/>
                  <a:pt x="10100" y="17165"/>
                  <a:pt x="10145" y="17165"/>
                </a:cubicBezTo>
                <a:cubicBezTo>
                  <a:pt x="10153" y="17165"/>
                  <a:pt x="10162" y="17165"/>
                  <a:pt x="10170" y="171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81320" y="6027840"/>
            <a:ext cx="366840" cy="206280"/>
          </a:xfrm>
          <a:custGeom>
            <a:avLst/>
            <a:gdLst/>
            <a:ahLst/>
            <a:rect l="l" t="t" r="r" b="b"/>
            <a:pathLst>
              <a:path w="1018" h="572">
                <a:moveTo>
                  <a:pt x="11534" y="16818"/>
                </a:moveTo>
                <a:cubicBezTo>
                  <a:pt x="11600" y="16818"/>
                  <a:pt x="11653" y="16804"/>
                  <a:pt x="11708" y="16793"/>
                </a:cubicBezTo>
                <a:cubicBezTo>
                  <a:pt x="11767" y="16781"/>
                  <a:pt x="11786" y="16809"/>
                  <a:pt x="11832" y="16768"/>
                </a:cubicBezTo>
                <a:cubicBezTo>
                  <a:pt x="11840" y="16760"/>
                  <a:pt x="11849" y="16751"/>
                  <a:pt x="11857" y="16743"/>
                </a:cubicBezTo>
              </a:path>
              <a:path w="1018" h="572">
                <a:moveTo>
                  <a:pt x="11509" y="16793"/>
                </a:moveTo>
                <a:cubicBezTo>
                  <a:pt x="11468" y="16834"/>
                  <a:pt x="11460" y="16842"/>
                  <a:pt x="11435" y="16867"/>
                </a:cubicBezTo>
                <a:cubicBezTo>
                  <a:pt x="11475" y="16897"/>
                  <a:pt x="11498" y="16872"/>
                  <a:pt x="11534" y="16892"/>
                </a:cubicBezTo>
                <a:cubicBezTo>
                  <a:pt x="11567" y="16910"/>
                  <a:pt x="11610" y="16930"/>
                  <a:pt x="11633" y="16966"/>
                </a:cubicBezTo>
                <a:cubicBezTo>
                  <a:pt x="11661" y="17010"/>
                  <a:pt x="11702" y="17059"/>
                  <a:pt x="11683" y="17115"/>
                </a:cubicBezTo>
                <a:cubicBezTo>
                  <a:pt x="11657" y="17193"/>
                  <a:pt x="11579" y="17265"/>
                  <a:pt x="11509" y="17289"/>
                </a:cubicBezTo>
                <a:cubicBezTo>
                  <a:pt x="11459" y="17306"/>
                  <a:pt x="11402" y="17287"/>
                  <a:pt x="11385" y="17264"/>
                </a:cubicBezTo>
                <a:cubicBezTo>
                  <a:pt x="11362" y="17232"/>
                  <a:pt x="11360" y="17221"/>
                  <a:pt x="11336" y="17190"/>
                </a:cubicBezTo>
              </a:path>
              <a:path w="1018" h="572">
                <a:moveTo>
                  <a:pt x="12080" y="16842"/>
                </a:moveTo>
                <a:cubicBezTo>
                  <a:pt x="12155" y="16820"/>
                  <a:pt x="12201" y="16818"/>
                  <a:pt x="12278" y="16818"/>
                </a:cubicBezTo>
                <a:cubicBezTo>
                  <a:pt x="12310" y="16818"/>
                  <a:pt x="12323" y="16801"/>
                  <a:pt x="12353" y="16793"/>
                </a:cubicBezTo>
              </a:path>
              <a:path w="1018" h="572">
                <a:moveTo>
                  <a:pt x="12105" y="16793"/>
                </a:moveTo>
                <a:cubicBezTo>
                  <a:pt x="12086" y="16812"/>
                  <a:pt x="12010" y="16883"/>
                  <a:pt x="12005" y="16892"/>
                </a:cubicBezTo>
                <a:cubicBezTo>
                  <a:pt x="12005" y="16900"/>
                  <a:pt x="12005" y="16909"/>
                  <a:pt x="12005" y="16917"/>
                </a:cubicBezTo>
                <a:cubicBezTo>
                  <a:pt x="12047" y="16972"/>
                  <a:pt x="12030" y="16938"/>
                  <a:pt x="12080" y="16966"/>
                </a:cubicBezTo>
                <a:cubicBezTo>
                  <a:pt x="12112" y="16984"/>
                  <a:pt x="12153" y="17018"/>
                  <a:pt x="12179" y="17041"/>
                </a:cubicBezTo>
                <a:cubicBezTo>
                  <a:pt x="12210" y="17068"/>
                  <a:pt x="12226" y="17124"/>
                  <a:pt x="12229" y="17165"/>
                </a:cubicBezTo>
                <a:cubicBezTo>
                  <a:pt x="12231" y="17195"/>
                  <a:pt x="12228" y="17273"/>
                  <a:pt x="12204" y="17289"/>
                </a:cubicBezTo>
                <a:cubicBezTo>
                  <a:pt x="12178" y="17307"/>
                  <a:pt x="12141" y="17314"/>
                  <a:pt x="12105" y="17314"/>
                </a:cubicBezTo>
                <a:cubicBezTo>
                  <a:pt x="12057" y="17314"/>
                  <a:pt x="11996" y="17313"/>
                  <a:pt x="11956" y="17289"/>
                </a:cubicBezTo>
                <a:cubicBezTo>
                  <a:pt x="11925" y="17271"/>
                  <a:pt x="11884" y="17257"/>
                  <a:pt x="11857" y="17239"/>
                </a:cubicBezTo>
                <a:cubicBezTo>
                  <a:pt x="11849" y="17231"/>
                  <a:pt x="11840" y="17222"/>
                  <a:pt x="11832" y="172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03880" y="5749920"/>
            <a:ext cx="1098360" cy="644400"/>
          </a:xfrm>
          <a:custGeom>
            <a:avLst/>
            <a:gdLst/>
            <a:ahLst/>
            <a:rect l="l" t="t" r="r" b="b"/>
            <a:pathLst>
              <a:path w="3052" h="1787">
                <a:moveTo>
                  <a:pt x="14734" y="16743"/>
                </a:moveTo>
                <a:cubicBezTo>
                  <a:pt x="14739" y="16782"/>
                  <a:pt x="14753" y="16812"/>
                  <a:pt x="14759" y="16842"/>
                </a:cubicBezTo>
                <a:cubicBezTo>
                  <a:pt x="14768" y="16889"/>
                  <a:pt x="14777" y="16946"/>
                  <a:pt x="14784" y="16991"/>
                </a:cubicBezTo>
                <a:cubicBezTo>
                  <a:pt x="14792" y="17037"/>
                  <a:pt x="14796" y="17075"/>
                  <a:pt x="14808" y="17115"/>
                </a:cubicBezTo>
                <a:cubicBezTo>
                  <a:pt x="14780" y="17115"/>
                  <a:pt x="14775" y="17118"/>
                  <a:pt x="14808" y="17140"/>
                </a:cubicBezTo>
                <a:cubicBezTo>
                  <a:pt x="14789" y="17100"/>
                  <a:pt x="14804" y="17099"/>
                  <a:pt x="14784" y="17041"/>
                </a:cubicBezTo>
                <a:cubicBezTo>
                  <a:pt x="14769" y="16999"/>
                  <a:pt x="14770" y="16964"/>
                  <a:pt x="14759" y="16917"/>
                </a:cubicBezTo>
                <a:cubicBezTo>
                  <a:pt x="14746" y="16862"/>
                  <a:pt x="14736" y="16826"/>
                  <a:pt x="14734" y="16768"/>
                </a:cubicBezTo>
                <a:cubicBezTo>
                  <a:pt x="14730" y="16671"/>
                  <a:pt x="14747" y="16576"/>
                  <a:pt x="14759" y="16495"/>
                </a:cubicBezTo>
                <a:cubicBezTo>
                  <a:pt x="14766" y="16448"/>
                  <a:pt x="14761" y="16409"/>
                  <a:pt x="14784" y="16371"/>
                </a:cubicBezTo>
                <a:cubicBezTo>
                  <a:pt x="14804" y="16338"/>
                  <a:pt x="14875" y="16281"/>
                  <a:pt x="14908" y="16272"/>
                </a:cubicBezTo>
                <a:cubicBezTo>
                  <a:pt x="14956" y="16259"/>
                  <a:pt x="14973" y="16290"/>
                  <a:pt x="15007" y="16297"/>
                </a:cubicBezTo>
                <a:cubicBezTo>
                  <a:pt x="15052" y="16306"/>
                  <a:pt x="15075" y="16298"/>
                  <a:pt x="15106" y="16346"/>
                </a:cubicBezTo>
                <a:cubicBezTo>
                  <a:pt x="15121" y="16369"/>
                  <a:pt x="15149" y="16439"/>
                  <a:pt x="15156" y="16470"/>
                </a:cubicBezTo>
                <a:cubicBezTo>
                  <a:pt x="15167" y="16518"/>
                  <a:pt x="15136" y="16536"/>
                  <a:pt x="15131" y="16570"/>
                </a:cubicBezTo>
                <a:cubicBezTo>
                  <a:pt x="15113" y="16689"/>
                  <a:pt x="15125" y="16615"/>
                  <a:pt x="15081" y="16669"/>
                </a:cubicBezTo>
                <a:cubicBezTo>
                  <a:pt x="15046" y="16711"/>
                  <a:pt x="15087" y="16685"/>
                  <a:pt x="15056" y="16669"/>
                </a:cubicBezTo>
                <a:cubicBezTo>
                  <a:pt x="15100" y="16643"/>
                  <a:pt x="15127" y="16644"/>
                  <a:pt x="15180" y="16644"/>
                </a:cubicBezTo>
                <a:cubicBezTo>
                  <a:pt x="15233" y="16644"/>
                  <a:pt x="15242" y="16656"/>
                  <a:pt x="15280" y="16694"/>
                </a:cubicBezTo>
                <a:cubicBezTo>
                  <a:pt x="15330" y="16744"/>
                  <a:pt x="15368" y="16807"/>
                  <a:pt x="15404" y="16867"/>
                </a:cubicBezTo>
                <a:cubicBezTo>
                  <a:pt x="15438" y="16924"/>
                  <a:pt x="15429" y="16978"/>
                  <a:pt x="15429" y="17041"/>
                </a:cubicBezTo>
                <a:cubicBezTo>
                  <a:pt x="15429" y="17091"/>
                  <a:pt x="15410" y="17152"/>
                  <a:pt x="15379" y="17190"/>
                </a:cubicBezTo>
                <a:cubicBezTo>
                  <a:pt x="15342" y="17235"/>
                  <a:pt x="15283" y="17262"/>
                  <a:pt x="15230" y="17264"/>
                </a:cubicBezTo>
                <a:cubicBezTo>
                  <a:pt x="15159" y="17267"/>
                  <a:pt x="15138" y="17248"/>
                  <a:pt x="15081" y="17214"/>
                </a:cubicBezTo>
                <a:cubicBezTo>
                  <a:pt x="15016" y="17175"/>
                  <a:pt x="14995" y="17156"/>
                  <a:pt x="14957" y="17090"/>
                </a:cubicBezTo>
              </a:path>
              <a:path w="3052" h="1787">
                <a:moveTo>
                  <a:pt x="14833" y="16718"/>
                </a:moveTo>
                <a:cubicBezTo>
                  <a:pt x="14833" y="16816"/>
                  <a:pt x="14835" y="16900"/>
                  <a:pt x="14858" y="16991"/>
                </a:cubicBezTo>
                <a:cubicBezTo>
                  <a:pt x="14870" y="17039"/>
                  <a:pt x="14871" y="17091"/>
                  <a:pt x="14883" y="17140"/>
                </a:cubicBezTo>
                <a:cubicBezTo>
                  <a:pt x="14893" y="17179"/>
                  <a:pt x="14897" y="17173"/>
                  <a:pt x="14908" y="17140"/>
                </a:cubicBezTo>
              </a:path>
              <a:path w="3052" h="1787">
                <a:moveTo>
                  <a:pt x="15801" y="16545"/>
                </a:moveTo>
                <a:cubicBezTo>
                  <a:pt x="15793" y="16545"/>
                  <a:pt x="15784" y="16545"/>
                  <a:pt x="15776" y="16545"/>
                </a:cubicBezTo>
                <a:cubicBezTo>
                  <a:pt x="15776" y="16614"/>
                  <a:pt x="15785" y="16654"/>
                  <a:pt x="15801" y="16718"/>
                </a:cubicBezTo>
                <a:cubicBezTo>
                  <a:pt x="15812" y="16762"/>
                  <a:pt x="15821" y="16822"/>
                  <a:pt x="15825" y="16867"/>
                </a:cubicBezTo>
                <a:cubicBezTo>
                  <a:pt x="15829" y="16904"/>
                  <a:pt x="15831" y="16930"/>
                  <a:pt x="15850" y="16892"/>
                </a:cubicBezTo>
              </a:path>
              <a:path w="3052" h="1787">
                <a:moveTo>
                  <a:pt x="16197" y="16371"/>
                </a:moveTo>
                <a:cubicBezTo>
                  <a:pt x="16175" y="16379"/>
                  <a:pt x="16151" y="16423"/>
                  <a:pt x="16148" y="16446"/>
                </a:cubicBezTo>
                <a:cubicBezTo>
                  <a:pt x="16139" y="16514"/>
                  <a:pt x="16155" y="16564"/>
                  <a:pt x="16173" y="16619"/>
                </a:cubicBezTo>
                <a:cubicBezTo>
                  <a:pt x="16184" y="16651"/>
                  <a:pt x="16208" y="16701"/>
                  <a:pt x="16247" y="16718"/>
                </a:cubicBezTo>
                <a:cubicBezTo>
                  <a:pt x="16297" y="16740"/>
                  <a:pt x="16334" y="16706"/>
                  <a:pt x="16371" y="16694"/>
                </a:cubicBezTo>
                <a:cubicBezTo>
                  <a:pt x="16394" y="16687"/>
                  <a:pt x="16418" y="16642"/>
                  <a:pt x="16421" y="16619"/>
                </a:cubicBezTo>
                <a:cubicBezTo>
                  <a:pt x="16426" y="16578"/>
                  <a:pt x="16442" y="16558"/>
                  <a:pt x="16446" y="16520"/>
                </a:cubicBezTo>
                <a:cubicBezTo>
                  <a:pt x="16452" y="16469"/>
                  <a:pt x="16434" y="16461"/>
                  <a:pt x="16421" y="16421"/>
                </a:cubicBezTo>
                <a:cubicBezTo>
                  <a:pt x="16414" y="16399"/>
                  <a:pt x="16382" y="16376"/>
                  <a:pt x="16346" y="16396"/>
                </a:cubicBezTo>
                <a:cubicBezTo>
                  <a:pt x="16338" y="16404"/>
                  <a:pt x="16329" y="16413"/>
                  <a:pt x="16321" y="16421"/>
                </a:cubicBezTo>
              </a:path>
              <a:path w="3052" h="1787">
                <a:moveTo>
                  <a:pt x="16818" y="16049"/>
                </a:moveTo>
                <a:cubicBezTo>
                  <a:pt x="16799" y="16055"/>
                  <a:pt x="16757" y="16092"/>
                  <a:pt x="16743" y="16123"/>
                </a:cubicBezTo>
                <a:cubicBezTo>
                  <a:pt x="16728" y="16157"/>
                  <a:pt x="16718" y="16181"/>
                  <a:pt x="16718" y="16222"/>
                </a:cubicBezTo>
                <a:cubicBezTo>
                  <a:pt x="16774" y="16222"/>
                  <a:pt x="16752" y="16242"/>
                  <a:pt x="16793" y="16247"/>
                </a:cubicBezTo>
                <a:cubicBezTo>
                  <a:pt x="16821" y="16250"/>
                  <a:pt x="16893" y="16258"/>
                  <a:pt x="16917" y="16272"/>
                </a:cubicBezTo>
                <a:cubicBezTo>
                  <a:pt x="16958" y="16295"/>
                  <a:pt x="16971" y="16342"/>
                  <a:pt x="16991" y="16371"/>
                </a:cubicBezTo>
                <a:cubicBezTo>
                  <a:pt x="17020" y="16414"/>
                  <a:pt x="17030" y="16427"/>
                  <a:pt x="16991" y="16470"/>
                </a:cubicBezTo>
                <a:cubicBezTo>
                  <a:pt x="16983" y="16478"/>
                  <a:pt x="16974" y="16487"/>
                  <a:pt x="16966" y="16495"/>
                </a:cubicBezTo>
                <a:cubicBezTo>
                  <a:pt x="16938" y="16485"/>
                  <a:pt x="16921" y="16461"/>
                  <a:pt x="16917" y="16421"/>
                </a:cubicBezTo>
                <a:cubicBezTo>
                  <a:pt x="16910" y="16354"/>
                  <a:pt x="16924" y="16301"/>
                  <a:pt x="16942" y="16247"/>
                </a:cubicBezTo>
                <a:cubicBezTo>
                  <a:pt x="16961" y="16191"/>
                  <a:pt x="16954" y="16081"/>
                  <a:pt x="16966" y="16024"/>
                </a:cubicBezTo>
                <a:cubicBezTo>
                  <a:pt x="16966" y="16007"/>
                  <a:pt x="16966" y="15991"/>
                  <a:pt x="16966" y="15974"/>
                </a:cubicBezTo>
              </a:path>
              <a:path w="3052" h="1787">
                <a:moveTo>
                  <a:pt x="16346" y="17090"/>
                </a:moveTo>
                <a:cubicBezTo>
                  <a:pt x="16346" y="17098"/>
                  <a:pt x="16346" y="17107"/>
                  <a:pt x="16346" y="17115"/>
                </a:cubicBezTo>
              </a:path>
              <a:path w="3052" h="1787">
                <a:moveTo>
                  <a:pt x="16346" y="17090"/>
                </a:moveTo>
                <a:cubicBezTo>
                  <a:pt x="16354" y="17098"/>
                  <a:pt x="16363" y="17107"/>
                  <a:pt x="16371" y="17115"/>
                </a:cubicBezTo>
              </a:path>
              <a:path w="3052" h="1787">
                <a:moveTo>
                  <a:pt x="16371" y="17115"/>
                </a:moveTo>
                <a:cubicBezTo>
                  <a:pt x="16379" y="17115"/>
                  <a:pt x="16388" y="17115"/>
                  <a:pt x="16396" y="17115"/>
                </a:cubicBezTo>
                <a:cubicBezTo>
                  <a:pt x="16409" y="17077"/>
                  <a:pt x="16425" y="17090"/>
                  <a:pt x="16470" y="17090"/>
                </a:cubicBezTo>
                <a:cubicBezTo>
                  <a:pt x="16516" y="17090"/>
                  <a:pt x="16529" y="17110"/>
                  <a:pt x="16570" y="17115"/>
                </a:cubicBezTo>
                <a:cubicBezTo>
                  <a:pt x="16578" y="17115"/>
                  <a:pt x="16586" y="17115"/>
                  <a:pt x="16594" y="17115"/>
                </a:cubicBezTo>
                <a:cubicBezTo>
                  <a:pt x="16594" y="17156"/>
                  <a:pt x="16594" y="17198"/>
                  <a:pt x="16594" y="17239"/>
                </a:cubicBezTo>
                <a:cubicBezTo>
                  <a:pt x="16542" y="17257"/>
                  <a:pt x="16594" y="17272"/>
                  <a:pt x="16570" y="17314"/>
                </a:cubicBezTo>
                <a:cubicBezTo>
                  <a:pt x="16549" y="17351"/>
                  <a:pt x="16546" y="17378"/>
                  <a:pt x="16520" y="17413"/>
                </a:cubicBezTo>
              </a:path>
              <a:path w="3052" h="1787">
                <a:moveTo>
                  <a:pt x="16470" y="17016"/>
                </a:moveTo>
                <a:cubicBezTo>
                  <a:pt x="16470" y="17041"/>
                  <a:pt x="16470" y="17049"/>
                  <a:pt x="16470" y="17066"/>
                </a:cubicBezTo>
                <a:cubicBezTo>
                  <a:pt x="16426" y="17081"/>
                  <a:pt x="16448" y="17087"/>
                  <a:pt x="16470" y="17140"/>
                </a:cubicBezTo>
              </a:path>
              <a:path w="3052" h="1787">
                <a:moveTo>
                  <a:pt x="16396" y="16991"/>
                </a:moveTo>
                <a:cubicBezTo>
                  <a:pt x="16345" y="16991"/>
                  <a:pt x="16333" y="16991"/>
                  <a:pt x="16321" y="17041"/>
                </a:cubicBezTo>
                <a:cubicBezTo>
                  <a:pt x="16285" y="17054"/>
                  <a:pt x="16297" y="17071"/>
                  <a:pt x="16297" y="17115"/>
                </a:cubicBezTo>
                <a:cubicBezTo>
                  <a:pt x="16243" y="17133"/>
                  <a:pt x="16297" y="17147"/>
                  <a:pt x="16272" y="17190"/>
                </a:cubicBezTo>
                <a:cubicBezTo>
                  <a:pt x="16250" y="17228"/>
                  <a:pt x="16247" y="17218"/>
                  <a:pt x="16247" y="17264"/>
                </a:cubicBezTo>
              </a:path>
              <a:path w="3052" h="1787">
                <a:moveTo>
                  <a:pt x="16867" y="17264"/>
                </a:moveTo>
                <a:cubicBezTo>
                  <a:pt x="16859" y="17264"/>
                  <a:pt x="16850" y="17264"/>
                  <a:pt x="16842" y="17264"/>
                </a:cubicBezTo>
                <a:cubicBezTo>
                  <a:pt x="16852" y="17222"/>
                  <a:pt x="16882" y="17207"/>
                  <a:pt x="16892" y="17190"/>
                </a:cubicBezTo>
                <a:cubicBezTo>
                  <a:pt x="16915" y="17151"/>
                  <a:pt x="16943" y="17112"/>
                  <a:pt x="16966" y="17090"/>
                </a:cubicBezTo>
                <a:cubicBezTo>
                  <a:pt x="16991" y="17065"/>
                  <a:pt x="17017" y="17044"/>
                  <a:pt x="17041" y="17041"/>
                </a:cubicBezTo>
                <a:cubicBezTo>
                  <a:pt x="17100" y="17034"/>
                  <a:pt x="17144" y="17040"/>
                  <a:pt x="17190" y="17066"/>
                </a:cubicBezTo>
                <a:cubicBezTo>
                  <a:pt x="17232" y="17090"/>
                  <a:pt x="17244" y="17092"/>
                  <a:pt x="17264" y="17140"/>
                </a:cubicBezTo>
                <a:cubicBezTo>
                  <a:pt x="17288" y="17196"/>
                  <a:pt x="17314" y="17205"/>
                  <a:pt x="17314" y="17264"/>
                </a:cubicBezTo>
                <a:cubicBezTo>
                  <a:pt x="17314" y="17332"/>
                  <a:pt x="17301" y="17382"/>
                  <a:pt x="17289" y="17438"/>
                </a:cubicBezTo>
                <a:cubicBezTo>
                  <a:pt x="17281" y="17474"/>
                  <a:pt x="17283" y="17508"/>
                  <a:pt x="17264" y="17537"/>
                </a:cubicBezTo>
                <a:cubicBezTo>
                  <a:pt x="17247" y="17563"/>
                  <a:pt x="17227" y="17602"/>
                  <a:pt x="17214" y="17611"/>
                </a:cubicBezTo>
                <a:cubicBezTo>
                  <a:pt x="17186" y="17611"/>
                  <a:pt x="17176" y="17614"/>
                  <a:pt x="17165" y="17636"/>
                </a:cubicBezTo>
                <a:cubicBezTo>
                  <a:pt x="17136" y="17626"/>
                  <a:pt x="17120" y="17602"/>
                  <a:pt x="17115" y="17562"/>
                </a:cubicBezTo>
                <a:cubicBezTo>
                  <a:pt x="17111" y="17523"/>
                  <a:pt x="17119" y="17473"/>
                  <a:pt x="17140" y="17462"/>
                </a:cubicBezTo>
                <a:cubicBezTo>
                  <a:pt x="17173" y="17446"/>
                  <a:pt x="17200" y="17442"/>
                  <a:pt x="17239" y="17438"/>
                </a:cubicBezTo>
                <a:cubicBezTo>
                  <a:pt x="17278" y="17434"/>
                  <a:pt x="17308" y="17470"/>
                  <a:pt x="17338" y="17487"/>
                </a:cubicBezTo>
                <a:cubicBezTo>
                  <a:pt x="17398" y="17521"/>
                  <a:pt x="17431" y="17574"/>
                  <a:pt x="17487" y="17611"/>
                </a:cubicBezTo>
                <a:cubicBezTo>
                  <a:pt x="17562" y="17660"/>
                  <a:pt x="17625" y="17703"/>
                  <a:pt x="17711" y="17735"/>
                </a:cubicBezTo>
                <a:cubicBezTo>
                  <a:pt x="17736" y="17743"/>
                  <a:pt x="17760" y="17752"/>
                  <a:pt x="17785" y="177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16800" y="5892840"/>
            <a:ext cx="295200" cy="250920"/>
          </a:xfrm>
          <a:custGeom>
            <a:avLst/>
            <a:gdLst/>
            <a:ahLst/>
            <a:rect l="l" t="t" r="r" b="b"/>
            <a:pathLst>
              <a:path w="820" h="696">
                <a:moveTo>
                  <a:pt x="18554" y="16421"/>
                </a:moveTo>
                <a:cubicBezTo>
                  <a:pt x="18567" y="16473"/>
                  <a:pt x="18586" y="16501"/>
                  <a:pt x="18628" y="16545"/>
                </a:cubicBezTo>
                <a:cubicBezTo>
                  <a:pt x="18690" y="16610"/>
                  <a:pt x="18737" y="16678"/>
                  <a:pt x="18802" y="16743"/>
                </a:cubicBezTo>
                <a:cubicBezTo>
                  <a:pt x="18907" y="16848"/>
                  <a:pt x="19012" y="16944"/>
                  <a:pt x="19124" y="17041"/>
                </a:cubicBezTo>
                <a:cubicBezTo>
                  <a:pt x="19168" y="17079"/>
                  <a:pt x="19185" y="17070"/>
                  <a:pt x="19199" y="17016"/>
                </a:cubicBezTo>
              </a:path>
              <a:path w="820" h="696">
                <a:moveTo>
                  <a:pt x="19124" y="16371"/>
                </a:moveTo>
                <a:cubicBezTo>
                  <a:pt x="19068" y="16418"/>
                  <a:pt x="18993" y="16467"/>
                  <a:pt x="18951" y="16520"/>
                </a:cubicBezTo>
                <a:cubicBezTo>
                  <a:pt x="18895" y="16590"/>
                  <a:pt x="18843" y="16632"/>
                  <a:pt x="18777" y="16694"/>
                </a:cubicBezTo>
                <a:cubicBezTo>
                  <a:pt x="18720" y="16748"/>
                  <a:pt x="18627" y="16786"/>
                  <a:pt x="18579" y="16842"/>
                </a:cubicBezTo>
                <a:cubicBezTo>
                  <a:pt x="18544" y="16882"/>
                  <a:pt x="18528" y="16963"/>
                  <a:pt x="18479" y="16991"/>
                </a:cubicBezTo>
                <a:cubicBezTo>
                  <a:pt x="18458" y="17003"/>
                  <a:pt x="18411" y="17029"/>
                  <a:pt x="18405" y="17041"/>
                </a:cubicBezTo>
                <a:cubicBezTo>
                  <a:pt x="18393" y="17066"/>
                  <a:pt x="18413" y="17060"/>
                  <a:pt x="18380" y="170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5000" y="6323040"/>
            <a:ext cx="812880" cy="293760"/>
          </a:xfrm>
          <a:custGeom>
            <a:avLst/>
            <a:gdLst/>
            <a:ahLst/>
            <a:rect l="l" t="t" r="r" b="b"/>
            <a:pathLst>
              <a:path w="2258" h="819">
                <a:moveTo>
                  <a:pt x="12799" y="17661"/>
                </a:moveTo>
                <a:cubicBezTo>
                  <a:pt x="12824" y="17636"/>
                  <a:pt x="12865" y="17594"/>
                  <a:pt x="12898" y="17587"/>
                </a:cubicBezTo>
                <a:cubicBezTo>
                  <a:pt x="12956" y="17575"/>
                  <a:pt x="12984" y="17562"/>
                  <a:pt x="13047" y="17562"/>
                </a:cubicBezTo>
                <a:cubicBezTo>
                  <a:pt x="13082" y="17562"/>
                  <a:pt x="13127" y="17549"/>
                  <a:pt x="13146" y="17587"/>
                </a:cubicBezTo>
                <a:cubicBezTo>
                  <a:pt x="13164" y="17622"/>
                  <a:pt x="13193" y="17666"/>
                  <a:pt x="13196" y="17711"/>
                </a:cubicBezTo>
                <a:cubicBezTo>
                  <a:pt x="13200" y="17772"/>
                  <a:pt x="13160" y="17860"/>
                  <a:pt x="13122" y="17909"/>
                </a:cubicBezTo>
                <a:cubicBezTo>
                  <a:pt x="13047" y="18006"/>
                  <a:pt x="12972" y="18029"/>
                  <a:pt x="12874" y="18083"/>
                </a:cubicBezTo>
                <a:cubicBezTo>
                  <a:pt x="12806" y="18121"/>
                  <a:pt x="12782" y="18132"/>
                  <a:pt x="12700" y="18132"/>
                </a:cubicBezTo>
                <a:cubicBezTo>
                  <a:pt x="12675" y="18132"/>
                  <a:pt x="12621" y="18083"/>
                  <a:pt x="12626" y="18058"/>
                </a:cubicBezTo>
                <a:cubicBezTo>
                  <a:pt x="12631" y="18036"/>
                  <a:pt x="12646" y="17948"/>
                  <a:pt x="12675" y="17934"/>
                </a:cubicBezTo>
                <a:cubicBezTo>
                  <a:pt x="12704" y="17920"/>
                  <a:pt x="12760" y="17892"/>
                  <a:pt x="12799" y="17909"/>
                </a:cubicBezTo>
                <a:cubicBezTo>
                  <a:pt x="12855" y="17933"/>
                  <a:pt x="12868" y="18015"/>
                  <a:pt x="12898" y="18058"/>
                </a:cubicBezTo>
                <a:cubicBezTo>
                  <a:pt x="12943" y="18124"/>
                  <a:pt x="12944" y="18189"/>
                  <a:pt x="12973" y="18256"/>
                </a:cubicBezTo>
                <a:cubicBezTo>
                  <a:pt x="13016" y="18354"/>
                  <a:pt x="12995" y="18348"/>
                  <a:pt x="13097" y="18256"/>
                </a:cubicBezTo>
              </a:path>
              <a:path w="2258" h="819">
                <a:moveTo>
                  <a:pt x="13246" y="18157"/>
                </a:moveTo>
                <a:cubicBezTo>
                  <a:pt x="13254" y="18149"/>
                  <a:pt x="13263" y="18140"/>
                  <a:pt x="13271" y="18132"/>
                </a:cubicBezTo>
              </a:path>
              <a:path w="2258" h="819">
                <a:moveTo>
                  <a:pt x="13494" y="17735"/>
                </a:moveTo>
                <a:cubicBezTo>
                  <a:pt x="13563" y="17687"/>
                  <a:pt x="13604" y="17668"/>
                  <a:pt x="13667" y="17636"/>
                </a:cubicBezTo>
                <a:cubicBezTo>
                  <a:pt x="13738" y="17600"/>
                  <a:pt x="13760" y="17605"/>
                  <a:pt x="13816" y="17661"/>
                </a:cubicBezTo>
                <a:cubicBezTo>
                  <a:pt x="13862" y="17707"/>
                  <a:pt x="13881" y="17740"/>
                  <a:pt x="13866" y="17810"/>
                </a:cubicBezTo>
                <a:cubicBezTo>
                  <a:pt x="13845" y="17904"/>
                  <a:pt x="13786" y="17953"/>
                  <a:pt x="13742" y="18033"/>
                </a:cubicBezTo>
                <a:cubicBezTo>
                  <a:pt x="13707" y="18096"/>
                  <a:pt x="13693" y="18123"/>
                  <a:pt x="13643" y="18157"/>
                </a:cubicBezTo>
                <a:cubicBezTo>
                  <a:pt x="13635" y="18165"/>
                  <a:pt x="13626" y="18174"/>
                  <a:pt x="13618" y="18182"/>
                </a:cubicBezTo>
                <a:cubicBezTo>
                  <a:pt x="13618" y="18141"/>
                  <a:pt x="13618" y="18099"/>
                  <a:pt x="13618" y="18058"/>
                </a:cubicBezTo>
                <a:cubicBezTo>
                  <a:pt x="13678" y="18073"/>
                  <a:pt x="13680" y="18108"/>
                  <a:pt x="13717" y="18157"/>
                </a:cubicBezTo>
                <a:cubicBezTo>
                  <a:pt x="13743" y="18191"/>
                  <a:pt x="13773" y="18262"/>
                  <a:pt x="13816" y="18281"/>
                </a:cubicBezTo>
                <a:cubicBezTo>
                  <a:pt x="13844" y="18281"/>
                  <a:pt x="13855" y="18279"/>
                  <a:pt x="13866" y="18256"/>
                </a:cubicBezTo>
              </a:path>
              <a:path w="2258" h="819">
                <a:moveTo>
                  <a:pt x="14064" y="17909"/>
                </a:moveTo>
                <a:cubicBezTo>
                  <a:pt x="14097" y="17985"/>
                  <a:pt x="14085" y="17989"/>
                  <a:pt x="14064" y="18058"/>
                </a:cubicBezTo>
                <a:cubicBezTo>
                  <a:pt x="14052" y="18097"/>
                  <a:pt x="14040" y="18123"/>
                  <a:pt x="14015" y="18157"/>
                </a:cubicBezTo>
                <a:cubicBezTo>
                  <a:pt x="14047" y="18124"/>
                  <a:pt x="14068" y="18089"/>
                  <a:pt x="14089" y="18058"/>
                </a:cubicBezTo>
                <a:cubicBezTo>
                  <a:pt x="14111" y="18026"/>
                  <a:pt x="14177" y="18012"/>
                  <a:pt x="14213" y="18008"/>
                </a:cubicBezTo>
                <a:cubicBezTo>
                  <a:pt x="14272" y="18002"/>
                  <a:pt x="14285" y="18064"/>
                  <a:pt x="14288" y="18107"/>
                </a:cubicBezTo>
                <a:cubicBezTo>
                  <a:pt x="14290" y="18149"/>
                  <a:pt x="14288" y="18252"/>
                  <a:pt x="14263" y="18281"/>
                </a:cubicBezTo>
                <a:cubicBezTo>
                  <a:pt x="14229" y="18320"/>
                  <a:pt x="14283" y="18226"/>
                  <a:pt x="14288" y="18207"/>
                </a:cubicBezTo>
                <a:cubicBezTo>
                  <a:pt x="14303" y="18147"/>
                  <a:pt x="14343" y="18115"/>
                  <a:pt x="14362" y="18058"/>
                </a:cubicBezTo>
                <a:cubicBezTo>
                  <a:pt x="14376" y="18017"/>
                  <a:pt x="14395" y="17969"/>
                  <a:pt x="14436" y="17983"/>
                </a:cubicBezTo>
                <a:cubicBezTo>
                  <a:pt x="14463" y="17992"/>
                  <a:pt x="14505" y="18029"/>
                  <a:pt x="14511" y="18058"/>
                </a:cubicBezTo>
                <a:cubicBezTo>
                  <a:pt x="14522" y="18111"/>
                  <a:pt x="14521" y="18137"/>
                  <a:pt x="14536" y="18182"/>
                </a:cubicBezTo>
                <a:cubicBezTo>
                  <a:pt x="14536" y="18210"/>
                  <a:pt x="14538" y="18216"/>
                  <a:pt x="14560" y="18182"/>
                </a:cubicBezTo>
              </a:path>
              <a:path w="2258" h="819">
                <a:moveTo>
                  <a:pt x="14784" y="18083"/>
                </a:moveTo>
                <a:cubicBezTo>
                  <a:pt x="14784" y="18132"/>
                  <a:pt x="14799" y="18327"/>
                  <a:pt x="14759" y="18380"/>
                </a:cubicBezTo>
                <a:cubicBezTo>
                  <a:pt x="14734" y="18380"/>
                  <a:pt x="14726" y="18380"/>
                  <a:pt x="14734" y="18355"/>
                </a:cubicBezTo>
              </a:path>
              <a:path w="2258" h="819">
                <a:moveTo>
                  <a:pt x="14858" y="17810"/>
                </a:moveTo>
                <a:cubicBezTo>
                  <a:pt x="14903" y="17780"/>
                  <a:pt x="14892" y="17825"/>
                  <a:pt x="14833" y="178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45080" y="6224760"/>
            <a:ext cx="98640" cy="1062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15404" y="17289"/>
                </a:moveTo>
                <a:cubicBezTo>
                  <a:pt x="15475" y="17360"/>
                  <a:pt x="15464" y="17332"/>
                  <a:pt x="15577" y="17314"/>
                </a:cubicBezTo>
                <a:cubicBezTo>
                  <a:pt x="15605" y="17314"/>
                  <a:pt x="15616" y="17312"/>
                  <a:pt x="15627" y="17289"/>
                </a:cubicBezTo>
                <a:cubicBezTo>
                  <a:pt x="15561" y="17289"/>
                  <a:pt x="15530" y="17292"/>
                  <a:pt x="15478" y="17338"/>
                </a:cubicBezTo>
                <a:cubicBezTo>
                  <a:pt x="15446" y="17367"/>
                  <a:pt x="15409" y="17396"/>
                  <a:pt x="15404" y="17438"/>
                </a:cubicBezTo>
                <a:cubicBezTo>
                  <a:pt x="15400" y="17469"/>
                  <a:pt x="15405" y="17546"/>
                  <a:pt x="15429" y="17562"/>
                </a:cubicBezTo>
                <a:cubicBezTo>
                  <a:pt x="15470" y="17590"/>
                  <a:pt x="15511" y="17597"/>
                  <a:pt x="15553" y="17562"/>
                </a:cubicBezTo>
                <a:cubicBezTo>
                  <a:pt x="15583" y="17538"/>
                  <a:pt x="15624" y="17513"/>
                  <a:pt x="15627" y="17487"/>
                </a:cubicBezTo>
                <a:cubicBezTo>
                  <a:pt x="15627" y="17479"/>
                  <a:pt x="15627" y="17470"/>
                  <a:pt x="15627" y="17462"/>
                </a:cubicBezTo>
                <a:cubicBezTo>
                  <a:pt x="15566" y="17447"/>
                  <a:pt x="15563" y="17445"/>
                  <a:pt x="15503" y="17462"/>
                </a:cubicBezTo>
                <a:cubicBezTo>
                  <a:pt x="15479" y="17469"/>
                  <a:pt x="15449" y="17533"/>
                  <a:pt x="15478" y="17562"/>
                </a:cubicBezTo>
                <a:cubicBezTo>
                  <a:pt x="15495" y="17579"/>
                  <a:pt x="15574" y="17603"/>
                  <a:pt x="15602" y="17587"/>
                </a:cubicBezTo>
                <a:cubicBezTo>
                  <a:pt x="15641" y="17565"/>
                  <a:pt x="15660" y="17563"/>
                  <a:pt x="15677" y="17537"/>
                </a:cubicBezTo>
                <a:cubicBezTo>
                  <a:pt x="15629" y="17489"/>
                  <a:pt x="15622" y="17487"/>
                  <a:pt x="15553" y="17487"/>
                </a:cubicBezTo>
                <a:cubicBezTo>
                  <a:pt x="15511" y="17487"/>
                  <a:pt x="15486" y="17487"/>
                  <a:pt x="15453" y="174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5320" y="3616200"/>
            <a:ext cx="973440" cy="965160"/>
          </a:xfrm>
          <a:custGeom>
            <a:avLst/>
            <a:gdLst/>
            <a:ahLst/>
            <a:rect l="l" t="t" r="r" b="b"/>
            <a:pathLst>
              <a:path w="2704" h="2680">
                <a:moveTo>
                  <a:pt x="6424" y="10120"/>
                </a:moveTo>
                <a:cubicBezTo>
                  <a:pt x="6424" y="10409"/>
                  <a:pt x="6424" y="10699"/>
                  <a:pt x="6424" y="10988"/>
                </a:cubicBezTo>
                <a:cubicBezTo>
                  <a:pt x="6469" y="10930"/>
                  <a:pt x="6470" y="10880"/>
                  <a:pt x="6499" y="10790"/>
                </a:cubicBezTo>
              </a:path>
              <a:path w="2704" h="2680">
                <a:moveTo>
                  <a:pt x="6772" y="10195"/>
                </a:moveTo>
                <a:cubicBezTo>
                  <a:pt x="6894" y="10195"/>
                  <a:pt x="6961" y="10179"/>
                  <a:pt x="7045" y="10145"/>
                </a:cubicBezTo>
                <a:cubicBezTo>
                  <a:pt x="7073" y="10134"/>
                  <a:pt x="7164" y="10123"/>
                  <a:pt x="7193" y="10120"/>
                </a:cubicBezTo>
                <a:cubicBezTo>
                  <a:pt x="7201" y="10120"/>
                  <a:pt x="7210" y="10120"/>
                  <a:pt x="7218" y="10120"/>
                </a:cubicBezTo>
                <a:cubicBezTo>
                  <a:pt x="7204" y="10192"/>
                  <a:pt x="7176" y="10174"/>
                  <a:pt x="7144" y="10220"/>
                </a:cubicBezTo>
                <a:cubicBezTo>
                  <a:pt x="7105" y="10276"/>
                  <a:pt x="7092" y="10355"/>
                  <a:pt x="7069" y="10418"/>
                </a:cubicBezTo>
                <a:cubicBezTo>
                  <a:pt x="7037" y="10509"/>
                  <a:pt x="7045" y="10596"/>
                  <a:pt x="7045" y="10691"/>
                </a:cubicBezTo>
                <a:cubicBezTo>
                  <a:pt x="7045" y="10767"/>
                  <a:pt x="7052" y="10848"/>
                  <a:pt x="7069" y="10889"/>
                </a:cubicBezTo>
                <a:cubicBezTo>
                  <a:pt x="7080" y="10915"/>
                  <a:pt x="7078" y="10880"/>
                  <a:pt x="7119" y="10840"/>
                </a:cubicBezTo>
              </a:path>
              <a:path w="2704" h="2680">
                <a:moveTo>
                  <a:pt x="7516" y="10046"/>
                </a:moveTo>
                <a:cubicBezTo>
                  <a:pt x="7498" y="10118"/>
                  <a:pt x="7456" y="10191"/>
                  <a:pt x="7541" y="10220"/>
                </a:cubicBezTo>
                <a:cubicBezTo>
                  <a:pt x="7583" y="10234"/>
                  <a:pt x="7603" y="10199"/>
                  <a:pt x="7640" y="10195"/>
                </a:cubicBezTo>
                <a:cubicBezTo>
                  <a:pt x="7686" y="10190"/>
                  <a:pt x="7707" y="10116"/>
                  <a:pt x="7689" y="10071"/>
                </a:cubicBezTo>
                <a:cubicBezTo>
                  <a:pt x="7668" y="10019"/>
                  <a:pt x="7486" y="10046"/>
                  <a:pt x="7466" y="10046"/>
                </a:cubicBezTo>
              </a:path>
              <a:path w="2704" h="2680">
                <a:moveTo>
                  <a:pt x="4986" y="11212"/>
                </a:moveTo>
                <a:cubicBezTo>
                  <a:pt x="5022" y="11212"/>
                  <a:pt x="5027" y="11228"/>
                  <a:pt x="5060" y="11212"/>
                </a:cubicBezTo>
                <a:cubicBezTo>
                  <a:pt x="5112" y="11186"/>
                  <a:pt x="5146" y="11187"/>
                  <a:pt x="5209" y="11187"/>
                </a:cubicBezTo>
                <a:cubicBezTo>
                  <a:pt x="5286" y="11187"/>
                  <a:pt x="5350" y="11162"/>
                  <a:pt x="5432" y="11162"/>
                </a:cubicBezTo>
                <a:cubicBezTo>
                  <a:pt x="5685" y="11162"/>
                  <a:pt x="5954" y="11127"/>
                  <a:pt x="6201" y="11137"/>
                </a:cubicBezTo>
                <a:cubicBezTo>
                  <a:pt x="6408" y="11145"/>
                  <a:pt x="6611" y="11162"/>
                  <a:pt x="6821" y="11162"/>
                </a:cubicBezTo>
                <a:cubicBezTo>
                  <a:pt x="6944" y="11162"/>
                  <a:pt x="7054" y="11156"/>
                  <a:pt x="7169" y="11137"/>
                </a:cubicBezTo>
                <a:cubicBezTo>
                  <a:pt x="7193" y="11137"/>
                  <a:pt x="7202" y="11137"/>
                  <a:pt x="7218" y="11137"/>
                </a:cubicBezTo>
                <a:cubicBezTo>
                  <a:pt x="7183" y="11155"/>
                  <a:pt x="7153" y="11160"/>
                  <a:pt x="7119" y="11187"/>
                </a:cubicBezTo>
              </a:path>
              <a:path w="2704" h="2680">
                <a:moveTo>
                  <a:pt x="5259" y="11881"/>
                </a:moveTo>
                <a:cubicBezTo>
                  <a:pt x="5218" y="11901"/>
                  <a:pt x="5212" y="11910"/>
                  <a:pt x="5184" y="11906"/>
                </a:cubicBezTo>
                <a:cubicBezTo>
                  <a:pt x="5184" y="11853"/>
                  <a:pt x="5196" y="11845"/>
                  <a:pt x="5234" y="11807"/>
                </a:cubicBezTo>
                <a:cubicBezTo>
                  <a:pt x="5270" y="11771"/>
                  <a:pt x="5308" y="11761"/>
                  <a:pt x="5358" y="11757"/>
                </a:cubicBezTo>
                <a:cubicBezTo>
                  <a:pt x="5388" y="11754"/>
                  <a:pt x="5457" y="11814"/>
                  <a:pt x="5482" y="11832"/>
                </a:cubicBezTo>
                <a:cubicBezTo>
                  <a:pt x="5541" y="11876"/>
                  <a:pt x="5531" y="11940"/>
                  <a:pt x="5531" y="12005"/>
                </a:cubicBezTo>
                <a:cubicBezTo>
                  <a:pt x="5531" y="12089"/>
                  <a:pt x="5532" y="12180"/>
                  <a:pt x="5482" y="12254"/>
                </a:cubicBezTo>
                <a:cubicBezTo>
                  <a:pt x="5436" y="12323"/>
                  <a:pt x="5381" y="12386"/>
                  <a:pt x="5308" y="12427"/>
                </a:cubicBezTo>
                <a:cubicBezTo>
                  <a:pt x="5246" y="12462"/>
                  <a:pt x="5206" y="12477"/>
                  <a:pt x="5135" y="12477"/>
                </a:cubicBezTo>
                <a:cubicBezTo>
                  <a:pt x="5075" y="12477"/>
                  <a:pt x="5020" y="12444"/>
                  <a:pt x="5011" y="12378"/>
                </a:cubicBezTo>
                <a:cubicBezTo>
                  <a:pt x="5007" y="12346"/>
                  <a:pt x="4999" y="12272"/>
                  <a:pt x="5035" y="12254"/>
                </a:cubicBezTo>
                <a:cubicBezTo>
                  <a:pt x="5071" y="12236"/>
                  <a:pt x="5135" y="12256"/>
                  <a:pt x="5159" y="12278"/>
                </a:cubicBezTo>
                <a:cubicBezTo>
                  <a:pt x="5198" y="12313"/>
                  <a:pt x="5233" y="12358"/>
                  <a:pt x="5259" y="12402"/>
                </a:cubicBezTo>
                <a:cubicBezTo>
                  <a:pt x="5286" y="12448"/>
                  <a:pt x="5283" y="12476"/>
                  <a:pt x="5283" y="12526"/>
                </a:cubicBezTo>
                <a:cubicBezTo>
                  <a:pt x="5283" y="12572"/>
                  <a:pt x="5265" y="12580"/>
                  <a:pt x="5308" y="12551"/>
                </a:cubicBezTo>
              </a:path>
              <a:path w="2704" h="2680">
                <a:moveTo>
                  <a:pt x="5705" y="12477"/>
                </a:moveTo>
                <a:cubicBezTo>
                  <a:pt x="5705" y="12469"/>
                  <a:pt x="5705" y="12460"/>
                  <a:pt x="5705" y="12452"/>
                </a:cubicBezTo>
              </a:path>
              <a:path w="2704" h="2680">
                <a:moveTo>
                  <a:pt x="6028" y="11832"/>
                </a:moveTo>
                <a:cubicBezTo>
                  <a:pt x="6059" y="11809"/>
                  <a:pt x="6132" y="11744"/>
                  <a:pt x="6176" y="11757"/>
                </a:cubicBezTo>
                <a:cubicBezTo>
                  <a:pt x="6226" y="11772"/>
                  <a:pt x="6324" y="11858"/>
                  <a:pt x="6350" y="11906"/>
                </a:cubicBezTo>
                <a:cubicBezTo>
                  <a:pt x="6398" y="11994"/>
                  <a:pt x="6383" y="12091"/>
                  <a:pt x="6375" y="12179"/>
                </a:cubicBezTo>
                <a:cubicBezTo>
                  <a:pt x="6369" y="12245"/>
                  <a:pt x="6353" y="12352"/>
                  <a:pt x="6300" y="12402"/>
                </a:cubicBezTo>
                <a:cubicBezTo>
                  <a:pt x="6258" y="12441"/>
                  <a:pt x="6179" y="12473"/>
                  <a:pt x="6127" y="12477"/>
                </a:cubicBezTo>
                <a:cubicBezTo>
                  <a:pt x="6052" y="12483"/>
                  <a:pt x="6033" y="12436"/>
                  <a:pt x="6028" y="12378"/>
                </a:cubicBezTo>
                <a:cubicBezTo>
                  <a:pt x="6026" y="12352"/>
                  <a:pt x="6079" y="12298"/>
                  <a:pt x="6102" y="12303"/>
                </a:cubicBezTo>
                <a:cubicBezTo>
                  <a:pt x="6146" y="12313"/>
                  <a:pt x="6257" y="12350"/>
                  <a:pt x="6300" y="12378"/>
                </a:cubicBezTo>
                <a:cubicBezTo>
                  <a:pt x="6362" y="12419"/>
                  <a:pt x="6421" y="12473"/>
                  <a:pt x="6474" y="12526"/>
                </a:cubicBezTo>
                <a:cubicBezTo>
                  <a:pt x="6518" y="12570"/>
                  <a:pt x="6577" y="12639"/>
                  <a:pt x="6598" y="12700"/>
                </a:cubicBezTo>
                <a:cubicBezTo>
                  <a:pt x="6620" y="12767"/>
                  <a:pt x="6487" y="12682"/>
                  <a:pt x="6474" y="126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ccffff"/>
                </a:solidFill>
                <a:latin typeface="Arial"/>
              </a:rPr>
              <a:t>No homework tonight!</a:t>
            </a:r>
            <a:br>
              <a:rPr sz="65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Bring your midterm review to class tomorrow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01960" y="4500720"/>
            <a:ext cx="1500120" cy="1357200"/>
          </a:xfrm>
          <a:custGeom>
            <a:avLst/>
            <a:gdLst/>
            <a:ahLst/>
            <a:rect l="l" t="t" r="r" b="b"/>
            <a:pathLst>
              <a:path w="4168" h="3771">
                <a:moveTo>
                  <a:pt x="9847" y="13419"/>
                </a:moveTo>
                <a:cubicBezTo>
                  <a:pt x="9836" y="13479"/>
                  <a:pt x="9827" y="13531"/>
                  <a:pt x="9823" y="13593"/>
                </a:cubicBezTo>
                <a:cubicBezTo>
                  <a:pt x="9823" y="13601"/>
                  <a:pt x="9823" y="13610"/>
                  <a:pt x="9823" y="13618"/>
                </a:cubicBezTo>
                <a:cubicBezTo>
                  <a:pt x="9826" y="13608"/>
                  <a:pt x="9837" y="13532"/>
                  <a:pt x="9847" y="13494"/>
                </a:cubicBezTo>
                <a:cubicBezTo>
                  <a:pt x="9889" y="13333"/>
                  <a:pt x="9893" y="13144"/>
                  <a:pt x="9897" y="12973"/>
                </a:cubicBezTo>
                <a:cubicBezTo>
                  <a:pt x="9900" y="12868"/>
                  <a:pt x="9914" y="12777"/>
                  <a:pt x="9922" y="12675"/>
                </a:cubicBezTo>
                <a:cubicBezTo>
                  <a:pt x="9926" y="12624"/>
                  <a:pt x="9906" y="12551"/>
                  <a:pt x="9971" y="12526"/>
                </a:cubicBezTo>
                <a:cubicBezTo>
                  <a:pt x="10407" y="12358"/>
                  <a:pt x="11140" y="12551"/>
                  <a:pt x="11609" y="12502"/>
                </a:cubicBezTo>
                <a:cubicBezTo>
                  <a:pt x="11697" y="12493"/>
                  <a:pt x="11834" y="12474"/>
                  <a:pt x="11906" y="12526"/>
                </a:cubicBezTo>
                <a:cubicBezTo>
                  <a:pt x="11934" y="12547"/>
                  <a:pt x="11966" y="12617"/>
                  <a:pt x="11981" y="12650"/>
                </a:cubicBezTo>
                <a:cubicBezTo>
                  <a:pt x="12001" y="12694"/>
                  <a:pt x="12025" y="12799"/>
                  <a:pt x="12030" y="12849"/>
                </a:cubicBezTo>
                <a:cubicBezTo>
                  <a:pt x="12040" y="12955"/>
                  <a:pt x="12065" y="13043"/>
                  <a:pt x="12080" y="13146"/>
                </a:cubicBezTo>
                <a:cubicBezTo>
                  <a:pt x="12097" y="13262"/>
                  <a:pt x="12138" y="13334"/>
                  <a:pt x="12179" y="13444"/>
                </a:cubicBezTo>
                <a:cubicBezTo>
                  <a:pt x="12211" y="13532"/>
                  <a:pt x="12239" y="13596"/>
                  <a:pt x="12229" y="13692"/>
                </a:cubicBezTo>
                <a:cubicBezTo>
                  <a:pt x="12222" y="13760"/>
                  <a:pt x="12161" y="13760"/>
                  <a:pt x="12105" y="13767"/>
                </a:cubicBezTo>
                <a:cubicBezTo>
                  <a:pt x="11860" y="13800"/>
                  <a:pt x="11551" y="13785"/>
                  <a:pt x="11311" y="13742"/>
                </a:cubicBezTo>
                <a:cubicBezTo>
                  <a:pt x="11121" y="13708"/>
                  <a:pt x="10932" y="13680"/>
                  <a:pt x="10740" y="13667"/>
                </a:cubicBezTo>
                <a:cubicBezTo>
                  <a:pt x="10678" y="13663"/>
                  <a:pt x="9872" y="13689"/>
                  <a:pt x="9872" y="13593"/>
                </a:cubicBezTo>
              </a:path>
              <a:path w="4168" h="3771">
                <a:moveTo>
                  <a:pt x="10195" y="12898"/>
                </a:moveTo>
                <a:cubicBezTo>
                  <a:pt x="10401" y="13110"/>
                  <a:pt x="10560" y="13299"/>
                  <a:pt x="10815" y="13444"/>
                </a:cubicBezTo>
                <a:cubicBezTo>
                  <a:pt x="10927" y="13507"/>
                  <a:pt x="11042" y="13550"/>
                  <a:pt x="11162" y="13593"/>
                </a:cubicBezTo>
              </a:path>
              <a:path w="4168" h="3771">
                <a:moveTo>
                  <a:pt x="10964" y="12650"/>
                </a:moveTo>
                <a:cubicBezTo>
                  <a:pt x="10814" y="12813"/>
                  <a:pt x="10666" y="12959"/>
                  <a:pt x="10492" y="13097"/>
                </a:cubicBezTo>
                <a:cubicBezTo>
                  <a:pt x="10393" y="13176"/>
                  <a:pt x="10297" y="13247"/>
                  <a:pt x="10195" y="13320"/>
                </a:cubicBezTo>
                <a:cubicBezTo>
                  <a:pt x="10187" y="13328"/>
                  <a:pt x="10178" y="13337"/>
                  <a:pt x="10170" y="13345"/>
                </a:cubicBezTo>
              </a:path>
              <a:path w="4168" h="3771">
                <a:moveTo>
                  <a:pt x="10939" y="12874"/>
                </a:moveTo>
                <a:cubicBezTo>
                  <a:pt x="11139" y="13032"/>
                  <a:pt x="11329" y="13196"/>
                  <a:pt x="11534" y="13345"/>
                </a:cubicBezTo>
              </a:path>
              <a:path w="4168" h="3771">
                <a:moveTo>
                  <a:pt x="11435" y="13022"/>
                </a:moveTo>
                <a:cubicBezTo>
                  <a:pt x="11262" y="13122"/>
                  <a:pt x="11094" y="13211"/>
                  <a:pt x="10914" y="13295"/>
                </a:cubicBezTo>
              </a:path>
              <a:path w="4168" h="3771">
                <a:moveTo>
                  <a:pt x="8111" y="15701"/>
                </a:moveTo>
                <a:cubicBezTo>
                  <a:pt x="8193" y="15864"/>
                  <a:pt x="8271" y="16028"/>
                  <a:pt x="8384" y="16173"/>
                </a:cubicBezTo>
                <a:cubicBezTo>
                  <a:pt x="8434" y="16222"/>
                  <a:pt x="8451" y="16238"/>
                  <a:pt x="8483" y="16272"/>
                </a:cubicBezTo>
              </a:path>
              <a:path w="4168" h="3771">
                <a:moveTo>
                  <a:pt x="8533" y="15701"/>
                </a:moveTo>
                <a:cubicBezTo>
                  <a:pt x="8447" y="15764"/>
                  <a:pt x="8370" y="15837"/>
                  <a:pt x="8285" y="15900"/>
                </a:cubicBezTo>
                <a:cubicBezTo>
                  <a:pt x="8216" y="15951"/>
                  <a:pt x="8154" y="16001"/>
                  <a:pt x="8111" y="16073"/>
                </a:cubicBezTo>
                <a:cubicBezTo>
                  <a:pt x="8082" y="16121"/>
                  <a:pt x="8062" y="16143"/>
                  <a:pt x="8062" y="16197"/>
                </a:cubicBezTo>
                <a:cubicBezTo>
                  <a:pt x="8062" y="16238"/>
                  <a:pt x="8067" y="16320"/>
                  <a:pt x="8086" y="16222"/>
                </a:cubicBezTo>
              </a:path>
              <a:path w="4168" h="3771">
                <a:moveTo>
                  <a:pt x="8235" y="15801"/>
                </a:moveTo>
                <a:cubicBezTo>
                  <a:pt x="8235" y="15809"/>
                  <a:pt x="8235" y="15817"/>
                  <a:pt x="8235" y="15825"/>
                </a:cubicBezTo>
                <a:cubicBezTo>
                  <a:pt x="8258" y="15806"/>
                  <a:pt x="8282" y="15811"/>
                  <a:pt x="8310" y="15776"/>
                </a:cubicBezTo>
                <a:cubicBezTo>
                  <a:pt x="8342" y="15737"/>
                  <a:pt x="8369" y="15658"/>
                  <a:pt x="8409" y="15602"/>
                </a:cubicBezTo>
                <a:cubicBezTo>
                  <a:pt x="8478" y="15507"/>
                  <a:pt x="8545" y="15433"/>
                  <a:pt x="8607" y="15329"/>
                </a:cubicBezTo>
                <a:cubicBezTo>
                  <a:pt x="8680" y="15207"/>
                  <a:pt x="8776" y="15097"/>
                  <a:pt x="8855" y="14982"/>
                </a:cubicBezTo>
                <a:cubicBezTo>
                  <a:pt x="8976" y="14806"/>
                  <a:pt x="9106" y="14636"/>
                  <a:pt x="9227" y="14461"/>
                </a:cubicBezTo>
                <a:cubicBezTo>
                  <a:pt x="9412" y="14195"/>
                  <a:pt x="9600" y="13900"/>
                  <a:pt x="9823" y="13667"/>
                </a:cubicBezTo>
                <a:cubicBezTo>
                  <a:pt x="9892" y="13595"/>
                  <a:pt x="9979" y="13527"/>
                  <a:pt x="10021" y="13444"/>
                </a:cubicBezTo>
                <a:cubicBezTo>
                  <a:pt x="10037" y="13413"/>
                  <a:pt x="10033" y="13400"/>
                  <a:pt x="10046" y="13370"/>
                </a:cubicBezTo>
              </a:path>
              <a:path w="4168" h="3771">
                <a:moveTo>
                  <a:pt x="9922" y="13618"/>
                </a:moveTo>
                <a:cubicBezTo>
                  <a:pt x="9914" y="13626"/>
                  <a:pt x="9905" y="13635"/>
                  <a:pt x="9897" y="13643"/>
                </a:cubicBezTo>
                <a:cubicBezTo>
                  <a:pt x="9929" y="13587"/>
                  <a:pt x="9959" y="13523"/>
                  <a:pt x="9996" y="13469"/>
                </a:cubicBezTo>
                <a:cubicBezTo>
                  <a:pt x="10030" y="13420"/>
                  <a:pt x="10081" y="13370"/>
                  <a:pt x="10120" y="13320"/>
                </a:cubicBezTo>
                <a:cubicBezTo>
                  <a:pt x="10170" y="13256"/>
                  <a:pt x="10228" y="13218"/>
                  <a:pt x="10269" y="13146"/>
                </a:cubicBezTo>
                <a:cubicBezTo>
                  <a:pt x="10311" y="13071"/>
                  <a:pt x="10377" y="13043"/>
                  <a:pt x="10418" y="12973"/>
                </a:cubicBezTo>
                <a:cubicBezTo>
                  <a:pt x="10442" y="12933"/>
                  <a:pt x="10499" y="12889"/>
                  <a:pt x="10517" y="12849"/>
                </a:cubicBezTo>
                <a:cubicBezTo>
                  <a:pt x="10532" y="12815"/>
                  <a:pt x="10542" y="12791"/>
                  <a:pt x="10542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0160" y="5599080"/>
            <a:ext cx="982800" cy="482760"/>
          </a:xfrm>
          <a:custGeom>
            <a:avLst/>
            <a:gdLst/>
            <a:ahLst/>
            <a:rect l="l" t="t" r="r" b="b"/>
            <a:pathLst>
              <a:path w="2729" h="1340">
                <a:moveTo>
                  <a:pt x="3101" y="15701"/>
                </a:moveTo>
                <a:cubicBezTo>
                  <a:pt x="3005" y="15686"/>
                  <a:pt x="2995" y="15697"/>
                  <a:pt x="2902" y="15701"/>
                </a:cubicBezTo>
                <a:cubicBezTo>
                  <a:pt x="2827" y="15704"/>
                  <a:pt x="2749" y="15696"/>
                  <a:pt x="2679" y="15726"/>
                </a:cubicBezTo>
                <a:cubicBezTo>
                  <a:pt x="2654" y="15751"/>
                  <a:pt x="2646" y="15759"/>
                  <a:pt x="2629" y="15776"/>
                </a:cubicBezTo>
                <a:cubicBezTo>
                  <a:pt x="2668" y="15861"/>
                  <a:pt x="2706" y="15902"/>
                  <a:pt x="2778" y="15974"/>
                </a:cubicBezTo>
                <a:cubicBezTo>
                  <a:pt x="2891" y="16087"/>
                  <a:pt x="2955" y="16178"/>
                  <a:pt x="3026" y="16321"/>
                </a:cubicBezTo>
                <a:cubicBezTo>
                  <a:pt x="3083" y="16435"/>
                  <a:pt x="3109" y="16520"/>
                  <a:pt x="3026" y="16619"/>
                </a:cubicBezTo>
                <a:cubicBezTo>
                  <a:pt x="2925" y="16739"/>
                  <a:pt x="2769" y="16718"/>
                  <a:pt x="2629" y="16718"/>
                </a:cubicBezTo>
                <a:cubicBezTo>
                  <a:pt x="2547" y="16718"/>
                  <a:pt x="2397" y="16709"/>
                  <a:pt x="2332" y="16644"/>
                </a:cubicBezTo>
                <a:cubicBezTo>
                  <a:pt x="2274" y="16585"/>
                  <a:pt x="2320" y="16403"/>
                  <a:pt x="2356" y="16346"/>
                </a:cubicBezTo>
                <a:cubicBezTo>
                  <a:pt x="2381" y="16321"/>
                  <a:pt x="2406" y="16297"/>
                  <a:pt x="2431" y="16272"/>
                </a:cubicBezTo>
              </a:path>
              <a:path w="2729" h="1340">
                <a:moveTo>
                  <a:pt x="3547" y="16098"/>
                </a:moveTo>
                <a:cubicBezTo>
                  <a:pt x="3521" y="16258"/>
                  <a:pt x="3461" y="16376"/>
                  <a:pt x="3423" y="16520"/>
                </a:cubicBezTo>
                <a:cubicBezTo>
                  <a:pt x="3401" y="16606"/>
                  <a:pt x="3417" y="16592"/>
                  <a:pt x="3373" y="16669"/>
                </a:cubicBezTo>
                <a:cubicBezTo>
                  <a:pt x="3373" y="16549"/>
                  <a:pt x="3388" y="16438"/>
                  <a:pt x="3398" y="16321"/>
                </a:cubicBezTo>
                <a:cubicBezTo>
                  <a:pt x="3410" y="16180"/>
                  <a:pt x="3418" y="16009"/>
                  <a:pt x="3473" y="15875"/>
                </a:cubicBezTo>
                <a:cubicBezTo>
                  <a:pt x="3507" y="15793"/>
                  <a:pt x="3553" y="15640"/>
                  <a:pt x="3621" y="15577"/>
                </a:cubicBezTo>
                <a:cubicBezTo>
                  <a:pt x="3657" y="15544"/>
                  <a:pt x="3734" y="15541"/>
                  <a:pt x="3770" y="15577"/>
                </a:cubicBezTo>
                <a:cubicBezTo>
                  <a:pt x="3861" y="15668"/>
                  <a:pt x="3853" y="15879"/>
                  <a:pt x="3894" y="15999"/>
                </a:cubicBezTo>
                <a:cubicBezTo>
                  <a:pt x="3950" y="16162"/>
                  <a:pt x="4005" y="16336"/>
                  <a:pt x="4068" y="16495"/>
                </a:cubicBezTo>
                <a:cubicBezTo>
                  <a:pt x="4102" y="16580"/>
                  <a:pt x="4158" y="16661"/>
                  <a:pt x="4192" y="16743"/>
                </a:cubicBezTo>
              </a:path>
              <a:path w="2729" h="1340">
                <a:moveTo>
                  <a:pt x="3448" y="16123"/>
                </a:moveTo>
                <a:cubicBezTo>
                  <a:pt x="3556" y="16123"/>
                  <a:pt x="3638" y="16163"/>
                  <a:pt x="3746" y="16173"/>
                </a:cubicBezTo>
                <a:cubicBezTo>
                  <a:pt x="3880" y="16186"/>
                  <a:pt x="4008" y="16178"/>
                  <a:pt x="4142" y="16197"/>
                </a:cubicBezTo>
              </a:path>
              <a:path w="2729" h="1340">
                <a:moveTo>
                  <a:pt x="4936" y="15900"/>
                </a:moveTo>
                <a:cubicBezTo>
                  <a:pt x="4811" y="15888"/>
                  <a:pt x="4734" y="15900"/>
                  <a:pt x="4614" y="15900"/>
                </a:cubicBezTo>
                <a:cubicBezTo>
                  <a:pt x="4614" y="15958"/>
                  <a:pt x="4619" y="15994"/>
                  <a:pt x="4638" y="16049"/>
                </a:cubicBezTo>
                <a:cubicBezTo>
                  <a:pt x="4678" y="16166"/>
                  <a:pt x="4791" y="16268"/>
                  <a:pt x="4862" y="16371"/>
                </a:cubicBezTo>
                <a:cubicBezTo>
                  <a:pt x="4926" y="16465"/>
                  <a:pt x="5051" y="16596"/>
                  <a:pt x="5035" y="16718"/>
                </a:cubicBezTo>
                <a:cubicBezTo>
                  <a:pt x="5025" y="16797"/>
                  <a:pt x="4937" y="16877"/>
                  <a:pt x="4862" y="16892"/>
                </a:cubicBezTo>
                <a:cubicBezTo>
                  <a:pt x="4727" y="16920"/>
                  <a:pt x="4553" y="16840"/>
                  <a:pt x="4465" y="16743"/>
                </a:cubicBezTo>
                <a:cubicBezTo>
                  <a:pt x="4394" y="16650"/>
                  <a:pt x="4371" y="16624"/>
                  <a:pt x="4366" y="165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2960" y="4626000"/>
            <a:ext cx="1776240" cy="1527120"/>
          </a:xfrm>
          <a:custGeom>
            <a:avLst/>
            <a:gdLst/>
            <a:ahLst/>
            <a:rect l="l" t="t" r="r" b="b"/>
            <a:pathLst>
              <a:path w="4937" h="4242">
                <a:moveTo>
                  <a:pt x="10666" y="12849"/>
                </a:moveTo>
                <a:cubicBezTo>
                  <a:pt x="10686" y="12880"/>
                  <a:pt x="10685" y="12918"/>
                  <a:pt x="10716" y="12948"/>
                </a:cubicBezTo>
                <a:cubicBezTo>
                  <a:pt x="10779" y="13009"/>
                  <a:pt x="10847" y="13058"/>
                  <a:pt x="10914" y="13122"/>
                </a:cubicBezTo>
                <a:cubicBezTo>
                  <a:pt x="11004" y="13208"/>
                  <a:pt x="11098" y="13284"/>
                  <a:pt x="11187" y="13370"/>
                </a:cubicBezTo>
                <a:cubicBezTo>
                  <a:pt x="11398" y="13573"/>
                  <a:pt x="11563" y="13799"/>
                  <a:pt x="11757" y="14015"/>
                </a:cubicBezTo>
                <a:cubicBezTo>
                  <a:pt x="11886" y="14158"/>
                  <a:pt x="11989" y="14307"/>
                  <a:pt x="12105" y="14461"/>
                </a:cubicBezTo>
                <a:cubicBezTo>
                  <a:pt x="12252" y="14656"/>
                  <a:pt x="12376" y="14862"/>
                  <a:pt x="12526" y="15056"/>
                </a:cubicBezTo>
                <a:cubicBezTo>
                  <a:pt x="12626" y="15185"/>
                  <a:pt x="12704" y="15322"/>
                  <a:pt x="12799" y="15453"/>
                </a:cubicBezTo>
                <a:cubicBezTo>
                  <a:pt x="12879" y="15564"/>
                  <a:pt x="12967" y="15665"/>
                  <a:pt x="13047" y="15776"/>
                </a:cubicBezTo>
                <a:cubicBezTo>
                  <a:pt x="13086" y="15831"/>
                  <a:pt x="13132" y="15931"/>
                  <a:pt x="13171" y="15974"/>
                </a:cubicBezTo>
                <a:cubicBezTo>
                  <a:pt x="13188" y="15982"/>
                  <a:pt x="13204" y="15991"/>
                  <a:pt x="13221" y="15999"/>
                </a:cubicBezTo>
              </a:path>
              <a:path w="4937" h="4242">
                <a:moveTo>
                  <a:pt x="13196" y="16024"/>
                </a:moveTo>
                <a:cubicBezTo>
                  <a:pt x="13162" y="16009"/>
                  <a:pt x="13179" y="16015"/>
                  <a:pt x="13146" y="15999"/>
                </a:cubicBezTo>
                <a:cubicBezTo>
                  <a:pt x="13113" y="15983"/>
                  <a:pt x="13099" y="15983"/>
                  <a:pt x="13072" y="15974"/>
                </a:cubicBezTo>
                <a:cubicBezTo>
                  <a:pt x="13021" y="15957"/>
                  <a:pt x="12980" y="15960"/>
                  <a:pt x="12923" y="15949"/>
                </a:cubicBezTo>
                <a:cubicBezTo>
                  <a:pt x="12867" y="15938"/>
                  <a:pt x="12791" y="15907"/>
                  <a:pt x="12725" y="15900"/>
                </a:cubicBezTo>
                <a:cubicBezTo>
                  <a:pt x="12639" y="15890"/>
                  <a:pt x="12507" y="15871"/>
                  <a:pt x="12427" y="15875"/>
                </a:cubicBezTo>
                <a:cubicBezTo>
                  <a:pt x="12329" y="15879"/>
                  <a:pt x="12227" y="15888"/>
                  <a:pt x="12129" y="15900"/>
                </a:cubicBezTo>
                <a:cubicBezTo>
                  <a:pt x="12022" y="15913"/>
                  <a:pt x="11913" y="15940"/>
                  <a:pt x="11807" y="15949"/>
                </a:cubicBezTo>
                <a:cubicBezTo>
                  <a:pt x="11674" y="15961"/>
                  <a:pt x="11542" y="15988"/>
                  <a:pt x="11410" y="15999"/>
                </a:cubicBezTo>
                <a:cubicBezTo>
                  <a:pt x="11269" y="16011"/>
                  <a:pt x="11130" y="16038"/>
                  <a:pt x="10988" y="16049"/>
                </a:cubicBezTo>
                <a:cubicBezTo>
                  <a:pt x="10533" y="16083"/>
                  <a:pt x="10053" y="16059"/>
                  <a:pt x="9599" y="16024"/>
                </a:cubicBezTo>
                <a:cubicBezTo>
                  <a:pt x="9376" y="16007"/>
                  <a:pt x="9149" y="16019"/>
                  <a:pt x="8930" y="15999"/>
                </a:cubicBezTo>
                <a:cubicBezTo>
                  <a:pt x="8820" y="15989"/>
                  <a:pt x="8715" y="15993"/>
                  <a:pt x="8607" y="15974"/>
                </a:cubicBezTo>
                <a:cubicBezTo>
                  <a:pt x="8556" y="15965"/>
                  <a:pt x="8455" y="15946"/>
                  <a:pt x="8409" y="15925"/>
                </a:cubicBezTo>
                <a:cubicBezTo>
                  <a:pt x="8393" y="15918"/>
                  <a:pt x="8318" y="15884"/>
                  <a:pt x="8310" y="15875"/>
                </a:cubicBezTo>
                <a:cubicBezTo>
                  <a:pt x="8282" y="15847"/>
                  <a:pt x="8273" y="15834"/>
                  <a:pt x="8285" y="15801"/>
                </a:cubicBezTo>
              </a:path>
              <a:path w="4937" h="4242">
                <a:moveTo>
                  <a:pt x="10641" y="17090"/>
                </a:moveTo>
                <a:cubicBezTo>
                  <a:pt x="10641" y="17082"/>
                  <a:pt x="10641" y="17074"/>
                  <a:pt x="10641" y="170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1160" y="4313160"/>
            <a:ext cx="1081080" cy="571680"/>
          </a:xfrm>
          <a:custGeom>
            <a:avLst/>
            <a:gdLst/>
            <a:ahLst/>
            <a:rect l="l" t="t" r="r" b="b"/>
            <a:pathLst>
              <a:path w="3002" h="1588">
                <a:moveTo>
                  <a:pt x="2778" y="12675"/>
                </a:moveTo>
                <a:cubicBezTo>
                  <a:pt x="2778" y="12741"/>
                  <a:pt x="2770" y="12783"/>
                  <a:pt x="2753" y="12849"/>
                </a:cubicBezTo>
                <a:cubicBezTo>
                  <a:pt x="2723" y="12967"/>
                  <a:pt x="2724" y="13081"/>
                  <a:pt x="2679" y="13196"/>
                </a:cubicBezTo>
                <a:cubicBezTo>
                  <a:pt x="2650" y="13270"/>
                  <a:pt x="2626" y="13372"/>
                  <a:pt x="2555" y="13419"/>
                </a:cubicBezTo>
                <a:cubicBezTo>
                  <a:pt x="2547" y="13419"/>
                  <a:pt x="2538" y="13419"/>
                  <a:pt x="2530" y="13419"/>
                </a:cubicBezTo>
                <a:cubicBezTo>
                  <a:pt x="2536" y="13346"/>
                  <a:pt x="2539" y="13267"/>
                  <a:pt x="2555" y="13196"/>
                </a:cubicBezTo>
                <a:cubicBezTo>
                  <a:pt x="2592" y="13031"/>
                  <a:pt x="2642" y="12866"/>
                  <a:pt x="2679" y="12700"/>
                </a:cubicBezTo>
                <a:cubicBezTo>
                  <a:pt x="2711" y="12559"/>
                  <a:pt x="2738" y="12417"/>
                  <a:pt x="2778" y="12278"/>
                </a:cubicBezTo>
                <a:cubicBezTo>
                  <a:pt x="2800" y="12201"/>
                  <a:pt x="2826" y="12095"/>
                  <a:pt x="2877" y="12030"/>
                </a:cubicBezTo>
                <a:cubicBezTo>
                  <a:pt x="2902" y="12005"/>
                  <a:pt x="2910" y="11997"/>
                  <a:pt x="2927" y="11981"/>
                </a:cubicBezTo>
                <a:cubicBezTo>
                  <a:pt x="2975" y="12014"/>
                  <a:pt x="2999" y="12037"/>
                  <a:pt x="3026" y="12105"/>
                </a:cubicBezTo>
                <a:cubicBezTo>
                  <a:pt x="3074" y="12226"/>
                  <a:pt x="3096" y="12351"/>
                  <a:pt x="3125" y="12477"/>
                </a:cubicBezTo>
                <a:cubicBezTo>
                  <a:pt x="3159" y="12626"/>
                  <a:pt x="3195" y="12774"/>
                  <a:pt x="3225" y="12923"/>
                </a:cubicBezTo>
                <a:cubicBezTo>
                  <a:pt x="3253" y="13061"/>
                  <a:pt x="3268" y="13212"/>
                  <a:pt x="3299" y="13345"/>
                </a:cubicBezTo>
                <a:cubicBezTo>
                  <a:pt x="3311" y="13395"/>
                  <a:pt x="3340" y="13500"/>
                  <a:pt x="3373" y="13543"/>
                </a:cubicBezTo>
                <a:cubicBezTo>
                  <a:pt x="3373" y="13535"/>
                  <a:pt x="3373" y="13527"/>
                  <a:pt x="3373" y="13519"/>
                </a:cubicBezTo>
              </a:path>
              <a:path w="3002" h="1588">
                <a:moveTo>
                  <a:pt x="2704" y="12973"/>
                </a:moveTo>
                <a:cubicBezTo>
                  <a:pt x="2750" y="13001"/>
                  <a:pt x="2843" y="13039"/>
                  <a:pt x="2902" y="13047"/>
                </a:cubicBezTo>
                <a:cubicBezTo>
                  <a:pt x="3021" y="13062"/>
                  <a:pt x="3154" y="13047"/>
                  <a:pt x="3274" y="13047"/>
                </a:cubicBezTo>
              </a:path>
              <a:path w="3002" h="1588">
                <a:moveTo>
                  <a:pt x="3795" y="12551"/>
                </a:moveTo>
                <a:cubicBezTo>
                  <a:pt x="3769" y="12755"/>
                  <a:pt x="3759" y="12969"/>
                  <a:pt x="3721" y="13171"/>
                </a:cubicBezTo>
                <a:cubicBezTo>
                  <a:pt x="3707" y="13243"/>
                  <a:pt x="3696" y="13295"/>
                  <a:pt x="3696" y="13370"/>
                </a:cubicBezTo>
                <a:cubicBezTo>
                  <a:pt x="3671" y="13468"/>
                  <a:pt x="3693" y="13358"/>
                  <a:pt x="3696" y="13320"/>
                </a:cubicBezTo>
                <a:cubicBezTo>
                  <a:pt x="3716" y="13095"/>
                  <a:pt x="3677" y="12872"/>
                  <a:pt x="3721" y="12650"/>
                </a:cubicBezTo>
                <a:cubicBezTo>
                  <a:pt x="3750" y="12503"/>
                  <a:pt x="3770" y="12394"/>
                  <a:pt x="3820" y="12254"/>
                </a:cubicBezTo>
                <a:cubicBezTo>
                  <a:pt x="3846" y="12176"/>
                  <a:pt x="3856" y="12148"/>
                  <a:pt x="3894" y="12105"/>
                </a:cubicBezTo>
                <a:cubicBezTo>
                  <a:pt x="3947" y="12112"/>
                  <a:pt x="3953" y="12113"/>
                  <a:pt x="3994" y="12154"/>
                </a:cubicBezTo>
                <a:cubicBezTo>
                  <a:pt x="4090" y="12251"/>
                  <a:pt x="4072" y="12352"/>
                  <a:pt x="4093" y="12477"/>
                </a:cubicBezTo>
                <a:cubicBezTo>
                  <a:pt x="4118" y="12625"/>
                  <a:pt x="4158" y="12776"/>
                  <a:pt x="4192" y="12923"/>
                </a:cubicBezTo>
                <a:cubicBezTo>
                  <a:pt x="4225" y="13063"/>
                  <a:pt x="4251" y="13207"/>
                  <a:pt x="4291" y="13345"/>
                </a:cubicBezTo>
                <a:cubicBezTo>
                  <a:pt x="4314" y="13424"/>
                  <a:pt x="4332" y="13485"/>
                  <a:pt x="4390" y="13543"/>
                </a:cubicBezTo>
                <a:cubicBezTo>
                  <a:pt x="4425" y="13578"/>
                  <a:pt x="4378" y="13531"/>
                  <a:pt x="4366" y="13519"/>
                </a:cubicBezTo>
              </a:path>
              <a:path w="3002" h="1588">
                <a:moveTo>
                  <a:pt x="3721" y="12898"/>
                </a:moveTo>
                <a:cubicBezTo>
                  <a:pt x="3793" y="12898"/>
                  <a:pt x="3850" y="12916"/>
                  <a:pt x="3919" y="12923"/>
                </a:cubicBezTo>
                <a:cubicBezTo>
                  <a:pt x="4016" y="12932"/>
                  <a:pt x="4120" y="12923"/>
                  <a:pt x="4217" y="12923"/>
                </a:cubicBezTo>
              </a:path>
              <a:path w="3002" h="1588">
                <a:moveTo>
                  <a:pt x="5333" y="12204"/>
                </a:moveTo>
                <a:cubicBezTo>
                  <a:pt x="5202" y="12176"/>
                  <a:pt x="5182" y="12186"/>
                  <a:pt x="5060" y="12229"/>
                </a:cubicBezTo>
                <a:cubicBezTo>
                  <a:pt x="4990" y="12253"/>
                  <a:pt x="4907" y="12268"/>
                  <a:pt x="4887" y="12353"/>
                </a:cubicBezTo>
                <a:cubicBezTo>
                  <a:pt x="4868" y="12433"/>
                  <a:pt x="4888" y="12513"/>
                  <a:pt x="4936" y="12576"/>
                </a:cubicBezTo>
                <a:cubicBezTo>
                  <a:pt x="5038" y="12710"/>
                  <a:pt x="5208" y="12795"/>
                  <a:pt x="5308" y="12923"/>
                </a:cubicBezTo>
                <a:cubicBezTo>
                  <a:pt x="5417" y="13062"/>
                  <a:pt x="5514" y="13230"/>
                  <a:pt x="5507" y="13395"/>
                </a:cubicBezTo>
                <a:cubicBezTo>
                  <a:pt x="5504" y="13467"/>
                  <a:pt x="5408" y="13512"/>
                  <a:pt x="5333" y="13519"/>
                </a:cubicBezTo>
                <a:cubicBezTo>
                  <a:pt x="5191" y="13533"/>
                  <a:pt x="5054" y="13543"/>
                  <a:pt x="4911" y="13543"/>
                </a:cubicBezTo>
                <a:cubicBezTo>
                  <a:pt x="4812" y="13543"/>
                  <a:pt x="4779" y="13543"/>
                  <a:pt x="4713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9080" y="5000760"/>
            <a:ext cx="1108080" cy="554040"/>
          </a:xfrm>
          <a:custGeom>
            <a:avLst/>
            <a:gdLst/>
            <a:ahLst/>
            <a:rect l="l" t="t" r="r" b="b"/>
            <a:pathLst>
              <a:path w="3077" h="1539">
                <a:moveTo>
                  <a:pt x="2580" y="14908"/>
                </a:moveTo>
                <a:cubicBezTo>
                  <a:pt x="2565" y="15008"/>
                  <a:pt x="2555" y="15083"/>
                  <a:pt x="2555" y="15180"/>
                </a:cubicBezTo>
                <a:cubicBezTo>
                  <a:pt x="2574" y="15123"/>
                  <a:pt x="2598" y="15049"/>
                  <a:pt x="2604" y="14982"/>
                </a:cubicBezTo>
                <a:cubicBezTo>
                  <a:pt x="2616" y="14848"/>
                  <a:pt x="2626" y="14718"/>
                  <a:pt x="2654" y="14585"/>
                </a:cubicBezTo>
                <a:cubicBezTo>
                  <a:pt x="2685" y="14438"/>
                  <a:pt x="2753" y="14326"/>
                  <a:pt x="2803" y="14188"/>
                </a:cubicBezTo>
                <a:cubicBezTo>
                  <a:pt x="2838" y="14092"/>
                  <a:pt x="2865" y="13981"/>
                  <a:pt x="2952" y="13915"/>
                </a:cubicBezTo>
                <a:cubicBezTo>
                  <a:pt x="2974" y="13893"/>
                  <a:pt x="2979" y="13885"/>
                  <a:pt x="3001" y="13891"/>
                </a:cubicBezTo>
                <a:cubicBezTo>
                  <a:pt x="3038" y="13975"/>
                  <a:pt x="3050" y="14045"/>
                  <a:pt x="3076" y="14139"/>
                </a:cubicBezTo>
                <a:cubicBezTo>
                  <a:pt x="3117" y="14287"/>
                  <a:pt x="3161" y="14420"/>
                  <a:pt x="3225" y="14560"/>
                </a:cubicBezTo>
                <a:cubicBezTo>
                  <a:pt x="3308" y="14741"/>
                  <a:pt x="3397" y="14922"/>
                  <a:pt x="3473" y="15106"/>
                </a:cubicBezTo>
                <a:cubicBezTo>
                  <a:pt x="3494" y="15157"/>
                  <a:pt x="3522" y="15277"/>
                  <a:pt x="3522" y="15280"/>
                </a:cubicBezTo>
              </a:path>
              <a:path w="3077" h="1539">
                <a:moveTo>
                  <a:pt x="2654" y="14560"/>
                </a:moveTo>
                <a:cubicBezTo>
                  <a:pt x="2605" y="14585"/>
                  <a:pt x="2714" y="14596"/>
                  <a:pt x="2753" y="14610"/>
                </a:cubicBezTo>
                <a:cubicBezTo>
                  <a:pt x="2880" y="14655"/>
                  <a:pt x="3040" y="14657"/>
                  <a:pt x="3175" y="14660"/>
                </a:cubicBezTo>
                <a:cubicBezTo>
                  <a:pt x="3316" y="14660"/>
                  <a:pt x="3359" y="14661"/>
                  <a:pt x="3448" y="14635"/>
                </a:cubicBezTo>
              </a:path>
              <a:path w="3077" h="1539">
                <a:moveTo>
                  <a:pt x="4217" y="14238"/>
                </a:moveTo>
                <a:cubicBezTo>
                  <a:pt x="4108" y="14202"/>
                  <a:pt x="3990" y="14161"/>
                  <a:pt x="3870" y="14188"/>
                </a:cubicBezTo>
                <a:cubicBezTo>
                  <a:pt x="3827" y="14198"/>
                  <a:pt x="3718" y="14248"/>
                  <a:pt x="3696" y="14288"/>
                </a:cubicBezTo>
                <a:cubicBezTo>
                  <a:pt x="3676" y="14323"/>
                  <a:pt x="3777" y="14469"/>
                  <a:pt x="3795" y="14486"/>
                </a:cubicBezTo>
                <a:cubicBezTo>
                  <a:pt x="3905" y="14591"/>
                  <a:pt x="4014" y="14676"/>
                  <a:pt x="4093" y="14808"/>
                </a:cubicBezTo>
                <a:cubicBezTo>
                  <a:pt x="4165" y="14928"/>
                  <a:pt x="4251" y="15024"/>
                  <a:pt x="4192" y="15156"/>
                </a:cubicBezTo>
                <a:cubicBezTo>
                  <a:pt x="4162" y="15223"/>
                  <a:pt x="4044" y="15241"/>
                  <a:pt x="3969" y="15230"/>
                </a:cubicBezTo>
                <a:cubicBezTo>
                  <a:pt x="3857" y="15213"/>
                  <a:pt x="3740" y="15184"/>
                  <a:pt x="3696" y="15056"/>
                </a:cubicBezTo>
                <a:cubicBezTo>
                  <a:pt x="3725" y="15000"/>
                  <a:pt x="3736" y="14976"/>
                  <a:pt x="3746" y="14932"/>
                </a:cubicBezTo>
              </a:path>
              <a:path w="3077" h="1539">
                <a:moveTo>
                  <a:pt x="4837" y="14486"/>
                </a:moveTo>
                <a:cubicBezTo>
                  <a:pt x="4814" y="14643"/>
                  <a:pt x="4789" y="14803"/>
                  <a:pt x="4762" y="14957"/>
                </a:cubicBezTo>
                <a:cubicBezTo>
                  <a:pt x="4746" y="15045"/>
                  <a:pt x="4738" y="15093"/>
                  <a:pt x="4738" y="15180"/>
                </a:cubicBezTo>
                <a:cubicBezTo>
                  <a:pt x="4738" y="15256"/>
                  <a:pt x="4738" y="15211"/>
                  <a:pt x="4738" y="15156"/>
                </a:cubicBezTo>
                <a:cubicBezTo>
                  <a:pt x="4738" y="14954"/>
                  <a:pt x="4748" y="14759"/>
                  <a:pt x="4762" y="14560"/>
                </a:cubicBezTo>
                <a:cubicBezTo>
                  <a:pt x="4774" y="14389"/>
                  <a:pt x="4776" y="14276"/>
                  <a:pt x="4837" y="14114"/>
                </a:cubicBezTo>
                <a:cubicBezTo>
                  <a:pt x="4868" y="14032"/>
                  <a:pt x="4878" y="13941"/>
                  <a:pt x="4961" y="13891"/>
                </a:cubicBezTo>
                <a:cubicBezTo>
                  <a:pt x="4991" y="13873"/>
                  <a:pt x="5088" y="13884"/>
                  <a:pt x="5110" y="13915"/>
                </a:cubicBezTo>
                <a:cubicBezTo>
                  <a:pt x="5201" y="14046"/>
                  <a:pt x="5245" y="14186"/>
                  <a:pt x="5283" y="14337"/>
                </a:cubicBezTo>
                <a:cubicBezTo>
                  <a:pt x="5320" y="14487"/>
                  <a:pt x="5370" y="14638"/>
                  <a:pt x="5407" y="14784"/>
                </a:cubicBezTo>
                <a:cubicBezTo>
                  <a:pt x="5449" y="14948"/>
                  <a:pt x="5496" y="15096"/>
                  <a:pt x="5556" y="15255"/>
                </a:cubicBezTo>
                <a:cubicBezTo>
                  <a:pt x="5579" y="15316"/>
                  <a:pt x="5602" y="15370"/>
                  <a:pt x="5631" y="15429"/>
                </a:cubicBezTo>
              </a:path>
              <a:path w="3077" h="1539">
                <a:moveTo>
                  <a:pt x="4812" y="14560"/>
                </a:moveTo>
                <a:cubicBezTo>
                  <a:pt x="4849" y="14507"/>
                  <a:pt x="4966" y="14567"/>
                  <a:pt x="5035" y="14585"/>
                </a:cubicBezTo>
                <a:cubicBezTo>
                  <a:pt x="5181" y="14623"/>
                  <a:pt x="5314" y="14689"/>
                  <a:pt x="5457" y="147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32200" y="5562720"/>
            <a:ext cx="223920" cy="671400"/>
          </a:xfrm>
          <a:custGeom>
            <a:avLst/>
            <a:gdLst/>
            <a:ahLst/>
            <a:rect l="l" t="t" r="r" b="b"/>
            <a:pathLst>
              <a:path w="622" h="1862">
                <a:moveTo>
                  <a:pt x="13146" y="15503"/>
                </a:moveTo>
                <a:cubicBezTo>
                  <a:pt x="13176" y="15513"/>
                  <a:pt x="13204" y="15530"/>
                  <a:pt x="13221" y="15577"/>
                </a:cubicBezTo>
                <a:cubicBezTo>
                  <a:pt x="13248" y="15652"/>
                  <a:pt x="13260" y="15752"/>
                  <a:pt x="13295" y="15825"/>
                </a:cubicBezTo>
                <a:cubicBezTo>
                  <a:pt x="13341" y="15920"/>
                  <a:pt x="13414" y="16014"/>
                  <a:pt x="13494" y="16073"/>
                </a:cubicBezTo>
              </a:path>
              <a:path w="622" h="1862">
                <a:moveTo>
                  <a:pt x="13767" y="15453"/>
                </a:moveTo>
                <a:cubicBezTo>
                  <a:pt x="13730" y="15627"/>
                  <a:pt x="13695" y="15798"/>
                  <a:pt x="13667" y="15974"/>
                </a:cubicBezTo>
                <a:cubicBezTo>
                  <a:pt x="13618" y="16281"/>
                  <a:pt x="13573" y="16587"/>
                  <a:pt x="13519" y="16892"/>
                </a:cubicBezTo>
                <a:cubicBezTo>
                  <a:pt x="13493" y="17040"/>
                  <a:pt x="13455" y="17169"/>
                  <a:pt x="13419" y="173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20:20:41Z</dcterms:created>
  <dc:creator>jnewman</dc:creator>
  <dc:description/>
  <dc:language>en-US</dc:language>
  <cp:lastModifiedBy>abeason</cp:lastModifiedBy>
  <dcterms:modified xsi:type="dcterms:W3CDTF">2009-01-22T18:36:35Z</dcterms:modified>
  <cp:revision>9</cp:revision>
  <dc:subject/>
  <dc:title>Wednesday, December 19th</dc:title>
</cp:coreProperties>
</file>